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88B-366F-4808-B6C9-E9CBE71E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32B-7168-4CBF-ACC0-D64DF2D1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EEB7-4339-4D41-9169-5251376B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DF20-0646-4026-B783-7FBFE2A3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421A-6531-47BD-A816-D409E6FB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AC7B-7C2E-4665-9030-B50D4C08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A52D-ADD1-432E-BC03-CD4CE8F3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7AFC-F72C-48CB-8706-452D6660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53D5-A11F-4C16-BDEF-F3652689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BF71-60DD-48CD-A3C6-D9CCD37F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7EF2-BDF0-4B2B-9516-05D7ACE4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05B-975B-4B96-82C9-568F20A9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6111-D1FD-40DA-8397-A419790F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1F2E-A83A-483E-9669-625EB6D8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178A-EC7B-4412-A96D-D92CA0D1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A1A2-2ED9-43F5-AEAB-0540EA68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4701-8F62-43E2-8338-9AF2704B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EDF-1F17-464B-B4F3-8BA8611B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82C-BFF6-4EFE-B1C6-A26C8CD3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8E5-712C-4463-B81B-12214FEB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382-8309-41E1-AD3B-E702CE75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48EA-BCF9-423B-B33D-56EFA785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7F8-10CB-4152-8A57-D9F2DBB8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0CC-E9F4-4E9D-A9AC-EC757C7E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97BF-851C-48F9-BF1F-1FE93E1F115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9786-EEB4-45CC-8FEC-9FCB07E9410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6E912D7E-9BAE-4BA5-B7A4-EABE5DD0CB7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66840" y="1274760"/>
            <a:ext cx="806292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14.1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ιστευετε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ς τον θεο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you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belie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n G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11.48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ντες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ιστευσουσι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ς αὐτο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everyon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ill belie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n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7.5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ἀδελφοι αὐτου  ἐπιστευον εἰς αὐτο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is brothers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ere believing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n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4.50: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πιστευσε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ἀνθρωπος τῳ λογῳ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the man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believe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the w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lterations in a verb change its tense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ετε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believe;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σιν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will believe; 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ο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were believing; 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ε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believ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952560" y="1785960"/>
            <a:ext cx="7238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6.5.1 Words beginning with a vow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42960" y="3143160"/>
            <a:ext cx="6058080" cy="17704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Watch out when an </a:t>
            </a: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1" lang="el-GR" sz="40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l-GR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3500" spc="-1" strike="noStrike">
                <a:solidFill>
                  <a:srgbClr val="ffffff"/>
                </a:solidFill>
                <a:latin typeface="Arial"/>
              </a:rPr>
              <a:t>augment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) is added to a word beginning with a vowel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FE070020-3DE2-4173-9F8F-02DF0E4D294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6B031C65-C6C8-4B70-9906-E23D9F828FF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28840" y="5000760"/>
          <a:ext cx="6229440" cy="1066680"/>
        </p:xfrm>
        <a:graphic>
          <a:graphicData uri="http://schemas.openxmlformats.org/drawingml/2006/table">
            <a:tbl>
              <a:tblPr/>
              <a:tblGrid>
                <a:gridCol w="566640"/>
                <a:gridCol w="565200"/>
                <a:gridCol w="566640"/>
                <a:gridCol w="566640"/>
                <a:gridCol w="565200"/>
                <a:gridCol w="568440"/>
                <a:gridCol w="565200"/>
                <a:gridCol w="566640"/>
                <a:gridCol w="566640"/>
                <a:gridCol w="565200"/>
                <a:gridCol w="567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ῳ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2"/>
          <p:cNvSpPr/>
          <p:nvPr/>
        </p:nvSpPr>
        <p:spPr>
          <a:xfrm>
            <a:off x="500040" y="4324320"/>
            <a:ext cx="45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pthongs follow the ch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01800" y="1428840"/>
          <a:ext cx="7358040" cy="2428920"/>
        </p:xfrm>
        <a:graphic>
          <a:graphicData uri="http://schemas.openxmlformats.org/drawingml/2006/table">
            <a:tbl>
              <a:tblPr/>
              <a:tblGrid>
                <a:gridCol w="1104840"/>
                <a:gridCol w="2181240"/>
                <a:gridCol w="1666800"/>
                <a:gridCol w="2405160"/>
              </a:tblGrid>
              <a:tr h="608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cc66"/>
                          </a:solidFill>
                          <a:latin typeface="Greek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200" spc="-1" strike="noStrike">
                          <a:solidFill>
                            <a:srgbClr val="ffcc66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Box 6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B8A179D6-62BB-472F-81F0-B2CEB1A0338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098800" y="1843200"/>
            <a:ext cx="4800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6.5.2 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643040" y="3000240"/>
            <a:ext cx="5791320" cy="16945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Watch out when an </a:t>
            </a: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GB" sz="3500" spc="-1" strike="noStrike">
                <a:solidFill>
                  <a:srgbClr val="ffffff"/>
                </a:solidFill>
                <a:latin typeface="Arial"/>
              </a:rPr>
              <a:t>augment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) is added to a compound verb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12680" y="1928880"/>
          <a:ext cx="8929800" cy="3357360"/>
        </p:xfrm>
        <a:graphic>
          <a:graphicData uri="http://schemas.openxmlformats.org/drawingml/2006/table">
            <a:tbl>
              <a:tblPr/>
              <a:tblGrid>
                <a:gridCol w="1365120"/>
                <a:gridCol w="1621080"/>
                <a:gridCol w="2344680"/>
                <a:gridCol w="359892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λυ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λυ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setting f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 - ελυ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βαλλ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ξεβαλλ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throwing o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 - εβαλλ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αγ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depar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ο - εαγ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→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ο - 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αγ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gath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 - εαγ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→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 - 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122"/>
          <p:cNvSpPr/>
          <p:nvPr/>
        </p:nvSpPr>
        <p:spPr>
          <a:xfrm>
            <a:off x="304920" y="12794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D7B22A08-6108-4ED1-B93E-2633A6C7DAD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500040" y="1565280"/>
            <a:ext cx="8001000" cy="3935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Observe the difference between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contraction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elisio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+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γ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ἠγ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+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αβλεπ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εβλεπ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 +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αγ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ηγο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AABE9511-1914-4E5A-8D72-90010CD61CC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973080" y="1504800"/>
            <a:ext cx="7143840" cy="1740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Watch out when an </a:t>
            </a:r>
            <a:r>
              <a:rPr b="1" lang="el-GR" sz="38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 is added to stem of a verb ending in a consonan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0200" y="3786120"/>
          <a:ext cx="4157640" cy="1736640"/>
        </p:xfrm>
        <a:graphic>
          <a:graphicData uri="http://schemas.openxmlformats.org/drawingml/2006/table">
            <a:tbl>
              <a:tblPr/>
              <a:tblGrid>
                <a:gridCol w="1994040"/>
                <a:gridCol w="525600"/>
                <a:gridCol w="493560"/>
                <a:gridCol w="654120"/>
                <a:gridCol w="4903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Box 3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5A9C6B7D-130B-4315-B584-A75BAF0E60A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85840" y="1643040"/>
          <a:ext cx="8572320" cy="2422440"/>
        </p:xfrm>
        <a:graphic>
          <a:graphicData uri="http://schemas.openxmlformats.org/drawingml/2006/table">
            <a:tbl>
              <a:tblPr/>
              <a:tblGrid>
                <a:gridCol w="1812960"/>
                <a:gridCol w="2259000"/>
                <a:gridCol w="2387520"/>
                <a:gridCol w="211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επ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εψ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επ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πτιζ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πτισ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bapt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πτζ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νοιγ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νοιξ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op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νοιγ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7"/>
          <p:cNvSpPr/>
          <p:nvPr/>
        </p:nvSpPr>
        <p:spPr>
          <a:xfrm>
            <a:off x="252360" y="11365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0"/>
          <p:cNvSpPr/>
          <p:nvPr/>
        </p:nvSpPr>
        <p:spPr>
          <a:xfrm>
            <a:off x="714240" y="4259160"/>
            <a:ext cx="7572600" cy="1867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cause the Aorist involves the addition of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efix and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, both sets of complications can occur. Thus the aoris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γ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νοιξ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ε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οι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γσ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79830A37-6975-443E-87CE-42204710295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1000080" y="1212840"/>
            <a:ext cx="63914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γο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really </a:t>
            </a:r>
            <a:r>
              <a:rPr b="0" lang="en-GB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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ἐ - ἀγο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d thus is an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mperf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οιξω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really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οιγ - σω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d thus a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73200" y="2438280"/>
            <a:ext cx="7810560" cy="15706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Very few verbs begin with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lmost no verbs end in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ψ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ξ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or a single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ris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914400" y="4191120"/>
            <a:ext cx="731520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χ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I have) is unusu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mperf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εἰχον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being augmented to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εἰ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 not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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ἑξ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χ 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+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σ </a:t>
            </a:r>
            <a:r>
              <a:rPr b="0" lang="en-GB" sz="2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ξ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s expected, but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ἑ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 not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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73080" y="41400"/>
            <a:ext cx="8985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EALING WITH THE PREFIX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SUF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D484902D-DD5E-4006-AB5D-7777C4F48F4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952560" y="2214720"/>
            <a:ext cx="72388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he Future and the Aorist the addition of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 causes two cha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lengthen to a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i) The endings are now be next to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ot the weak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so there are no contr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73080" y="258840"/>
            <a:ext cx="89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-ε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23832F00-B7F1-44D1-95FB-22FD772667C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3"/>
          <p:cNvSpPr/>
          <p:nvPr/>
        </p:nvSpPr>
        <p:spPr>
          <a:xfrm>
            <a:off x="73080" y="258840"/>
            <a:ext cx="89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-ε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4E1FC08F-06B9-4ED6-B67E-8F8A5209215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5440" y="1357200"/>
          <a:ext cx="8475840" cy="4741920"/>
        </p:xfrm>
        <a:graphic>
          <a:graphicData uri="http://schemas.openxmlformats.org/drawingml/2006/table">
            <a:tbl>
              <a:tblPr/>
              <a:tblGrid>
                <a:gridCol w="1695600"/>
                <a:gridCol w="1693800"/>
                <a:gridCol w="1695240"/>
                <a:gridCol w="1695600"/>
                <a:gridCol w="169560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ου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ου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ει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ν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ου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ου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14200" y="1214280"/>
            <a:ext cx="87156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Four Tenses:</a:t>
            </a:r>
            <a:r>
              <a:rPr b="0" lang="el-GR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Present, Future, Imperfect, Aori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fferent tenses communicate bo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the action is taking place (present, future, past etc.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sp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the nature of the action – was it a process? is it completed? etc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με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ote adde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 = ‘w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il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unti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9DADBFF7-1C49-4D71-B8F7-5953505EA60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A4A0263F-B9B5-41DB-A3E8-5DADD413140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87400" y="1511280"/>
          <a:ext cx="6899400" cy="2631960"/>
        </p:xfrm>
        <a:graphic>
          <a:graphicData uri="http://schemas.openxmlformats.org/drawingml/2006/table">
            <a:tbl>
              <a:tblPr/>
              <a:tblGrid>
                <a:gridCol w="1565280"/>
                <a:gridCol w="1795320"/>
                <a:gridCol w="739800"/>
                <a:gridCol w="700200"/>
                <a:gridCol w="600120"/>
                <a:gridCol w="14986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e: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211"/>
          <p:cNvSpPr/>
          <p:nvPr/>
        </p:nvSpPr>
        <p:spPr>
          <a:xfrm>
            <a:off x="785880" y="4572000"/>
            <a:ext cx="71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 different tenses are formed b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dding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prefixe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suffixe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to the st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y having a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different set of ending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179280" y="1173240"/>
            <a:ext cx="8329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efixes and suffixes are the easiest to sp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wo past tenses (Aorist and Imperfect) have an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efix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augment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Future and the Aorist both have a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86040" y="3289320"/>
          <a:ext cx="5400720" cy="2971800"/>
        </p:xfrm>
        <a:graphic>
          <a:graphicData uri="http://schemas.openxmlformats.org/drawingml/2006/table">
            <a:tbl>
              <a:tblPr/>
              <a:tblGrid>
                <a:gridCol w="1203120"/>
                <a:gridCol w="816120"/>
                <a:gridCol w="1171440"/>
                <a:gridCol w="685800"/>
                <a:gridCol w="15242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CF88B939-876B-4BAB-8BFD-7FC925944EF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2FA8C6A9-CCE6-42D0-8307-C14A9B92965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34920" y="1217520"/>
          <a:ext cx="7272360" cy="3568680"/>
        </p:xfrm>
        <a:graphic>
          <a:graphicData uri="http://schemas.openxmlformats.org/drawingml/2006/table">
            <a:tbl>
              <a:tblPr/>
              <a:tblGrid>
                <a:gridCol w="1785960"/>
                <a:gridCol w="1219320"/>
                <a:gridCol w="1752480"/>
                <a:gridCol w="2514600"/>
              </a:tblGrid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Equi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29"/>
          <p:cNvSpPr/>
          <p:nvPr/>
        </p:nvSpPr>
        <p:spPr>
          <a:xfrm>
            <a:off x="800280" y="4884840"/>
            <a:ext cx="754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undefin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spect may be used for two reas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 implication as to manner of a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unctilliar (‘one time’) se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428760" y="1285920"/>
            <a:ext cx="7272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fference between the Imperfect and the Aor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: Un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unt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: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used to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was unt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began to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55760" y="4986360"/>
            <a:ext cx="811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atthe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5.2: He opened his mouth (Aorist) and began to teach (Imperfec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D88AB69B-237E-46CF-9AD0-ECF0A947FF3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95120" y="1357200"/>
          <a:ext cx="8734680" cy="3286080"/>
        </p:xfrm>
        <a:graphic>
          <a:graphicData uri="http://schemas.openxmlformats.org/drawingml/2006/table">
            <a:tbl>
              <a:tblPr/>
              <a:tblGrid>
                <a:gridCol w="865440"/>
                <a:gridCol w="2138400"/>
                <a:gridCol w="1860480"/>
                <a:gridCol w="2325600"/>
                <a:gridCol w="154476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49"/>
          <p:cNvSpPr/>
          <p:nvPr/>
        </p:nvSpPr>
        <p:spPr>
          <a:xfrm>
            <a:off x="509760" y="4756320"/>
            <a:ext cx="556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sing. is ‘he’, ‘she’, or ‘it’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 can be ‘I loosen’, ‘You loosen’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erfect can be 'I used to untie'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769ACDBF-7EC2-40BA-B47C-84F3D38A3C3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500040" y="1192320"/>
          <a:ext cx="8210520" cy="3139920"/>
        </p:xfrm>
        <a:graphic>
          <a:graphicData uri="http://schemas.openxmlformats.org/drawingml/2006/table">
            <a:tbl>
              <a:tblPr/>
              <a:tblGrid>
                <a:gridCol w="1546200"/>
                <a:gridCol w="1663920"/>
                <a:gridCol w="1800000"/>
                <a:gridCol w="1560600"/>
                <a:gridCol w="16398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ε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ε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ετ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ουσι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ουσι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65"/>
          <p:cNvSpPr/>
          <p:nvPr/>
        </p:nvSpPr>
        <p:spPr>
          <a:xfrm>
            <a:off x="304920" y="4335480"/>
            <a:ext cx="8534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uture endings = Present e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, Future, Imperfect begin with ‘o’ or ‘e’ sound, Aorist with ‘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pl. simi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able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 Imperfect and Aorist 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sing., as in Present and Future 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F52CFEF1-5A7A-46CB-B55A-ED391BA14AC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85840" y="1143000"/>
            <a:ext cx="8501040" cy="52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ὁ Ἰησους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διδασκε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 ἐν τῃ συναγωγῃ και πολλοι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πιστευσα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διδασκε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Imperfect, therefore describing a past process – 'Jesus was in the process of teaching in the synagogu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πιστευσα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Aorist, therefore describing a past undefined (not a process) action – 'many believed' or 'many came to believ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Jesus was teaching in the synagogue and many believed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ὁ θεος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πεμπε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 τους ἀγγελους. ἀλλα νυν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σμε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 μον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πεμπε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Imperfect, therefore describing a past process – 'God used to send messengers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σμε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Present, therefore describing the current situation – 'we are alon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God used to send messengers, but now we are al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E8EC935A-9814-4C75-B79A-B7371971B26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15:50Z</dcterms:created>
  <dc:creator>Sarah</dc:creator>
  <dc:description/>
  <dc:language>en-US</dc:language>
  <cp:lastModifiedBy>Sarah</cp:lastModifiedBy>
  <dcterms:modified xsi:type="dcterms:W3CDTF">2009-03-04T01:21:57Z</dcterms:modified>
  <cp:revision>62</cp:revision>
  <dc:subject/>
  <dc:title>Slide 1</dc:title>
</cp:coreProperties>
</file>