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3072-47AF-494F-A927-3DF063772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5117-7EB2-4318-A295-560DAA9F1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3C63-D2BB-4FD5-BCB3-666B58EDC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E59D-F22D-46F9-BA08-405652B02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87035-0A7D-482D-8EEF-955AEB673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80B28-3103-4496-A5A3-8EF84E6D5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8268B-6FE1-499D-A5A2-2874CBF59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F4C26-84A1-43CD-9FB1-DC89561B2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7FA1B-8288-4616-9AE3-0FC1CF81F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FAA08-1FC4-4A05-AAF6-F511E43D7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1CB69-193B-4E3D-9266-80C4177B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A36B-8D59-4B7F-9181-058A165F7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FC334-E3E1-4131-9A93-8CAD849C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799A2-5F45-4C16-A92F-401FDC3D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AC737-74C0-4ABA-B9CE-EF5691931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D9AEE-2FB4-402A-9FDF-1105FCBB4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11DAA-7C18-4C9D-9092-CB6AC94A2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2616-2ED7-4F0C-9C4D-7CE321858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DF89-8AC3-4F04-AD58-927BA6D1D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69D4-50D2-48D9-B023-917B5CE3A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8CD5-CEC8-4B30-8C58-E505DBC2D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C934-B42D-4917-A843-41A009EB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CB21-F6B0-4EB6-B167-CE196BDF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FCB4-AA6B-468C-9666-4034EDA9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F914E-080D-490D-A1DB-23EA26D1BE1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20EA2-AEDC-42FE-9C70-BF0FA6EA367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301680" y="1214280"/>
          <a:ext cx="8540640" cy="3840480"/>
        </p:xfrm>
        <a:graphic>
          <a:graphicData uri="http://schemas.openxmlformats.org/drawingml/2006/table">
            <a:tbl>
              <a:tblPr/>
              <a:tblGrid>
                <a:gridCol w="1841400"/>
                <a:gridCol w="3929040"/>
                <a:gridCol w="2770200"/>
              </a:tblGrid>
              <a:tr h="82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d to Expr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ple in Englis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c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ements and 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m liste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a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sten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fini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idea of the verb in gene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lis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ici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bal adje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stening, he understo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junct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certain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may lis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Text Box 110"/>
          <p:cNvSpPr/>
          <p:nvPr/>
        </p:nvSpPr>
        <p:spPr>
          <a:xfrm>
            <a:off x="1928880" y="5143680"/>
            <a:ext cx="4857840" cy="110736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gation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Indicative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ὐ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ther moods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μη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IDEA OF MOOD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Grammar </a:t>
            </a:r>
            <a:fld id="{DE212B09-3C86-493E-8C0B-78F520077633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3"/>
          <p:cNvSpPr/>
          <p:nvPr/>
        </p:nvSpPr>
        <p:spPr>
          <a:xfrm>
            <a:off x="609480" y="1563840"/>
            <a:ext cx="7925040" cy="41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hilemon 4-5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εὐχαριστω τῳ θεῳ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..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ἀκουων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σου την ἀγαπη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 give thanks to God …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hearing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of your lov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cts 18.8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πολλοι των Κορινθιων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ἀκουοντες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ἐπιστευο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ny of the Corinthians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hearing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were believ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ἀκουω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n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ἀκουοντε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re from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κουω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(I hear) but are in th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articipl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moo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meaning 'hearing' (one is singular, one is plural). A participle works alongside a main verb adding a further layer of meaning: not just 'I give thanks' but 'hearing of your love', not just 'they were believing' but 'hearing'.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Grammar </a:t>
            </a:r>
            <a:fld id="{433D54C0-C442-454D-9486-02B0B4B02FB0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Grammar </a:t>
            </a:r>
            <a:fld id="{58DFB323-94E7-42DB-A4B3-7DED83253B87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647640" y="1828800"/>
            <a:ext cx="7848720" cy="94716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rticiples must agree with the noun they qualify in gender, case, and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800280" y="3962520"/>
            <a:ext cx="7543800" cy="94716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rticiples have tense (Present or Aorist), and may have an o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>
            <a:off x="-41400" y="1209600"/>
            <a:ext cx="88045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7.4.1 The form of the particip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781280" y="1838160"/>
          <a:ext cx="5305320" cy="1951200"/>
        </p:xfrm>
        <a:graphic>
          <a:graphicData uri="http://schemas.openxmlformats.org/drawingml/2006/table">
            <a:tbl>
              <a:tblPr/>
              <a:tblGrid>
                <a:gridCol w="1203120"/>
                <a:gridCol w="2049480"/>
                <a:gridCol w="2052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asculine Nominativ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ντε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ντε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Text Box 75"/>
          <p:cNvSpPr/>
          <p:nvPr/>
        </p:nvSpPr>
        <p:spPr>
          <a:xfrm>
            <a:off x="214200" y="3786120"/>
            <a:ext cx="8929800" cy="27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s in the Indicative and Imperative, the Aorist has an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σ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ut does not have an au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plural participles both have endings in –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ντε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Aorist participles have an ‘a’ sound, the Present an ‘o’ s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ω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verbs follow the normal rul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Grammar </a:t>
            </a:r>
            <a:fld id="{BB5CCD26-D797-49D7-BC50-F6133799F47F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5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3"/>
          <p:cNvSpPr/>
          <p:nvPr/>
        </p:nvSpPr>
        <p:spPr>
          <a:xfrm>
            <a:off x="1143000" y="1371600"/>
            <a:ext cx="6858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7.4.2 The meaning of the particip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90440" y="2514600"/>
          <a:ext cx="8763120" cy="1401840"/>
        </p:xfrm>
        <a:graphic>
          <a:graphicData uri="http://schemas.openxmlformats.org/drawingml/2006/table">
            <a:tbl>
              <a:tblPr/>
              <a:tblGrid>
                <a:gridCol w="2259000"/>
                <a:gridCol w="65041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 Particip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multaneous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rocess – the action in the Participle is a process going on at the same time as the main verb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 Particip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quence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– the action in the Participle occurred before the main verb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Text Box 35"/>
          <p:cNvSpPr/>
          <p:nvPr/>
        </p:nvSpPr>
        <p:spPr>
          <a:xfrm>
            <a:off x="609480" y="4495680"/>
            <a:ext cx="7925040" cy="116928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esent Participle = Simultane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orist Participle =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Grammar </a:t>
            </a:r>
            <a:fld id="{2A47191C-9DAD-4D1C-8E37-13005FDD5B7A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3"/>
          <p:cNvSpPr/>
          <p:nvPr/>
        </p:nvSpPr>
        <p:spPr>
          <a:xfrm>
            <a:off x="357120" y="1525680"/>
            <a:ext cx="8167680" cy="39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tt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4.18: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περιπατω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παρα την θαλασσαν της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Γαλιλαιας εἰδεν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he saw)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δυο ἀδελφου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While he was walking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longside the Sea of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alilee, he saw two broth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 6:16: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ἀκουσα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δε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but)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ὁ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Ἡρῳδης ἐλεγε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…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ut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when Herod hea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his he said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Grammar </a:t>
            </a:r>
            <a:fld id="{54E6E78B-A101-4D65-B426-10DB8D817F64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3"/>
          <p:cNvSpPr/>
          <p:nvPr/>
        </p:nvSpPr>
        <p:spPr>
          <a:xfrm>
            <a:off x="1257480" y="1643040"/>
            <a:ext cx="6629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7.4.3 Participles with objec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642960" y="2928960"/>
            <a:ext cx="8572320" cy="16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ffffff"/>
                </a:solidFill>
                <a:latin typeface="Gentium"/>
                <a:ea typeface="Times New Roman"/>
              </a:rPr>
              <a:t>βλεψαν τον ὀχλον </a:t>
            </a:r>
            <a:r>
              <a:rPr b="0" lang="el-GR" sz="30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ὁ Ἰησους ἐκηρυξεν τον λογον</a:t>
            </a:r>
            <a:r>
              <a:rPr b="0" lang="en-GB" sz="30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- When he saw the crowd, Jesus proclaimed the word.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Grammar </a:t>
            </a:r>
            <a:fld id="{527ADC64-50A1-4CDB-8500-7ADFD4E8134D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traight Connector 22"/>
          <p:cNvSpPr/>
          <p:nvPr/>
        </p:nvSpPr>
        <p:spPr>
          <a:xfrm flipH="1">
            <a:off x="4852800" y="5000760"/>
            <a:ext cx="6120" cy="384120"/>
          </a:xfrm>
          <a:prstGeom prst="line">
            <a:avLst/>
          </a:prstGeom>
          <a:ln w="25560">
            <a:solidFill>
              <a:srgbClr val="fed1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Grammar </a:t>
            </a:r>
            <a:fld id="{A8331C16-E716-4E67-9E43-811493F7FA62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530280" y="1357200"/>
            <a:ext cx="8072280" cy="4786560"/>
          </a:xfrm>
          <a:prstGeom prst="rect">
            <a:avLst/>
          </a:prstGeom>
          <a:noFill/>
          <a:ln w="25560">
            <a:solidFill>
              <a:srgbClr val="fed1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4"/>
          <p:cNvSpPr/>
          <p:nvPr/>
        </p:nvSpPr>
        <p:spPr>
          <a:xfrm>
            <a:off x="857160" y="1357200"/>
            <a:ext cx="74026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Hi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ink of the participle starting off a new bran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imple Sentenc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plex Sent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ame 5"/>
          <p:cNvSpPr/>
          <p:nvPr/>
        </p:nvSpPr>
        <p:spPr>
          <a:xfrm>
            <a:off x="1071720" y="3429000"/>
            <a:ext cx="2000160" cy="571680"/>
          </a:xfrm>
          <a:prstGeom prst="pie">
            <a:avLst/>
          </a:prstGeom>
          <a:noFill/>
          <a:ln w="25560">
            <a:solidFill>
              <a:srgbClr val="ffe1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1170000" y="347040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u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ame 7"/>
          <p:cNvSpPr/>
          <p:nvPr/>
        </p:nvSpPr>
        <p:spPr>
          <a:xfrm>
            <a:off x="1071720" y="4429080"/>
            <a:ext cx="2000160" cy="571680"/>
          </a:xfrm>
          <a:prstGeom prst="pie">
            <a:avLst/>
          </a:prstGeom>
          <a:noFill/>
          <a:ln w="25560">
            <a:solidFill>
              <a:srgbClr val="ffe1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ame 8"/>
          <p:cNvSpPr/>
          <p:nvPr/>
        </p:nvSpPr>
        <p:spPr>
          <a:xfrm>
            <a:off x="1071720" y="5357880"/>
            <a:ext cx="2000160" cy="571320"/>
          </a:xfrm>
          <a:prstGeom prst="pie">
            <a:avLst/>
          </a:prstGeom>
          <a:noFill/>
          <a:ln w="25560">
            <a:solidFill>
              <a:srgbClr val="ffe1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9"/>
          <p:cNvSpPr/>
          <p:nvPr/>
        </p:nvSpPr>
        <p:spPr>
          <a:xfrm>
            <a:off x="1157400" y="448632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in Ve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0"/>
          <p:cNvSpPr/>
          <p:nvPr/>
        </p:nvSpPr>
        <p:spPr>
          <a:xfrm>
            <a:off x="1187280" y="540216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traight Connector 12"/>
          <p:cNvSpPr/>
          <p:nvPr/>
        </p:nvSpPr>
        <p:spPr>
          <a:xfrm flipH="1">
            <a:off x="2069640" y="4002120"/>
            <a:ext cx="1800" cy="428760"/>
          </a:xfrm>
          <a:prstGeom prst="line">
            <a:avLst/>
          </a:prstGeom>
          <a:ln w="25560">
            <a:solidFill>
              <a:srgbClr val="fed1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traight Connector 14"/>
          <p:cNvSpPr/>
          <p:nvPr/>
        </p:nvSpPr>
        <p:spPr>
          <a:xfrm flipH="1">
            <a:off x="2069640" y="5002200"/>
            <a:ext cx="1800" cy="357120"/>
          </a:xfrm>
          <a:prstGeom prst="line">
            <a:avLst/>
          </a:prstGeom>
          <a:ln w="25560">
            <a:solidFill>
              <a:srgbClr val="fed1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5"/>
          <p:cNvSpPr/>
          <p:nvPr/>
        </p:nvSpPr>
        <p:spPr>
          <a:xfrm>
            <a:off x="3943440" y="345600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u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ame 16"/>
          <p:cNvSpPr/>
          <p:nvPr/>
        </p:nvSpPr>
        <p:spPr>
          <a:xfrm>
            <a:off x="3857760" y="3429000"/>
            <a:ext cx="2000160" cy="571680"/>
          </a:xfrm>
          <a:prstGeom prst="pie">
            <a:avLst/>
          </a:prstGeom>
          <a:noFill/>
          <a:ln w="25560">
            <a:solidFill>
              <a:srgbClr val="ffe1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ame 17"/>
          <p:cNvSpPr/>
          <p:nvPr/>
        </p:nvSpPr>
        <p:spPr>
          <a:xfrm>
            <a:off x="3857760" y="4429080"/>
            <a:ext cx="2000160" cy="571680"/>
          </a:xfrm>
          <a:prstGeom prst="pie">
            <a:avLst/>
          </a:prstGeom>
          <a:noFill/>
          <a:ln w="25560">
            <a:solidFill>
              <a:srgbClr val="ffe1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ame 18"/>
          <p:cNvSpPr/>
          <p:nvPr/>
        </p:nvSpPr>
        <p:spPr>
          <a:xfrm>
            <a:off x="3857760" y="5357880"/>
            <a:ext cx="2000160" cy="571320"/>
          </a:xfrm>
          <a:prstGeom prst="pie">
            <a:avLst/>
          </a:prstGeom>
          <a:noFill/>
          <a:ln w="25560">
            <a:solidFill>
              <a:srgbClr val="ffe1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9"/>
          <p:cNvSpPr/>
          <p:nvPr/>
        </p:nvSpPr>
        <p:spPr>
          <a:xfrm>
            <a:off x="3943440" y="448632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in Ve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20"/>
          <p:cNvSpPr/>
          <p:nvPr/>
        </p:nvSpPr>
        <p:spPr>
          <a:xfrm>
            <a:off x="3959280" y="538488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traight Connector 21"/>
          <p:cNvSpPr/>
          <p:nvPr/>
        </p:nvSpPr>
        <p:spPr>
          <a:xfrm flipH="1">
            <a:off x="4857840" y="4000680"/>
            <a:ext cx="1440" cy="428400"/>
          </a:xfrm>
          <a:prstGeom prst="line">
            <a:avLst/>
          </a:prstGeom>
          <a:ln w="25560">
            <a:solidFill>
              <a:srgbClr val="fed1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5"/>
          <p:cNvSpPr/>
          <p:nvPr/>
        </p:nvSpPr>
        <p:spPr>
          <a:xfrm>
            <a:off x="6497640" y="3911760"/>
            <a:ext cx="1928880" cy="571320"/>
          </a:xfrm>
          <a:prstGeom prst="rect">
            <a:avLst/>
          </a:prstGeom>
          <a:noFill/>
          <a:ln w="25560">
            <a:solidFill>
              <a:srgbClr val="ffe1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27"/>
          <p:cNvSpPr/>
          <p:nvPr/>
        </p:nvSpPr>
        <p:spPr>
          <a:xfrm>
            <a:off x="6572160" y="396720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tic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8"/>
          <p:cNvSpPr/>
          <p:nvPr/>
        </p:nvSpPr>
        <p:spPr>
          <a:xfrm>
            <a:off x="6500880" y="5000760"/>
            <a:ext cx="1928880" cy="571320"/>
          </a:xfrm>
          <a:prstGeom prst="rect">
            <a:avLst/>
          </a:prstGeom>
          <a:noFill/>
          <a:ln w="25560">
            <a:solidFill>
              <a:srgbClr val="ffe1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9"/>
          <p:cNvSpPr/>
          <p:nvPr/>
        </p:nvSpPr>
        <p:spPr>
          <a:xfrm>
            <a:off x="6572160" y="503856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traight Connector 30"/>
          <p:cNvSpPr/>
          <p:nvPr/>
        </p:nvSpPr>
        <p:spPr>
          <a:xfrm>
            <a:off x="5857920" y="3714840"/>
            <a:ext cx="639720" cy="482400"/>
          </a:xfrm>
          <a:prstGeom prst="line">
            <a:avLst/>
          </a:prstGeom>
          <a:ln w="25560">
            <a:solidFill>
              <a:srgbClr val="fed1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4"/>
          <p:cNvSpPr/>
          <p:nvPr/>
        </p:nvSpPr>
        <p:spPr>
          <a:xfrm>
            <a:off x="7462080" y="4483080"/>
            <a:ext cx="3240" cy="517680"/>
          </a:xfrm>
          <a:prstGeom prst="line">
            <a:avLst/>
          </a:prstGeom>
          <a:ln w="25560">
            <a:solidFill>
              <a:srgbClr val="fed1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Grammar </a:t>
            </a:r>
            <a:fld id="{4403F585-B049-4961-840B-EADE1B075D48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5 PARTICIPLES AS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27000" y="1600200"/>
            <a:ext cx="9144000" cy="45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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 4.14: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ὁ σπειρω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τον λογον σπειρε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σπειρων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= sowing (Present masculine nom. sing. Participle of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σπειρω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I so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ὁ σπειρω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= the sowing one = the s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ntence = The sower is sowing the wor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 4.18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οὑτο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these)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εἰσιν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οἱ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τον λογ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ἀκουσαντε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κουσαντε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= having heard (Aorist masculine nom. sing. Participle of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κουω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οἱ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κουσαντες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= the having heard ones = those who he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ntence = These are the people who heard the wor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142920" y="114300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3"/>
          <p:cNvSpPr/>
          <p:nvPr/>
        </p:nvSpPr>
        <p:spPr>
          <a:xfrm>
            <a:off x="500040" y="2093760"/>
            <a:ext cx="8072640" cy="246420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Hi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on't be afraid to introduce words like 'who' into translation of participles which are acting as nouns. The aim is to convey the meaning in good Englis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Grammar </a:t>
            </a:r>
            <a:fld id="{548AB00E-6BD7-4525-BADB-7FB1F280D8CC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3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5 PARTICIPLES AS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IMPERA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Grammar </a:t>
            </a:r>
            <a:fld id="{A15A4620-7395-454C-B6A0-B219F6714C2F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285840" y="1785960"/>
            <a:ext cx="8358120" cy="38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Acts 16.31: </a:t>
            </a:r>
            <a:r>
              <a:rPr b="0" lang="el-GR" sz="3200" spc="-1" strike="noStrike" u="sng">
                <a:solidFill>
                  <a:srgbClr val="ffffff"/>
                </a:solidFill>
                <a:uFillTx/>
                <a:latin typeface="Gentium"/>
              </a:rPr>
              <a:t>πιστευσον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</a:rPr>
              <a:t> ἐπι τον κυριον Ἰησου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900" spc="-1" strike="noStrike" u="sng">
                <a:solidFill>
                  <a:srgbClr val="ffffff"/>
                </a:solidFill>
                <a:uFillTx/>
                <a:latin typeface="Arial"/>
              </a:rPr>
              <a:t>Believe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on the Lord Jesus!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Gentium"/>
              </a:rPr>
              <a:t>πιστευσον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is communicating a command (or exhortation). 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</a:rPr>
              <a:t>πιστευω 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is now in a different </a:t>
            </a:r>
            <a:r>
              <a:rPr b="0" i="1" lang="en-GB" sz="2900" spc="-1" strike="noStrike">
                <a:solidFill>
                  <a:srgbClr val="ffffff"/>
                </a:solidFill>
                <a:latin typeface="Arial"/>
              </a:rPr>
              <a:t>mood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–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GB" sz="2900" spc="-1" strike="noStrike">
                <a:solidFill>
                  <a:srgbClr val="ffffff"/>
                </a:solidFill>
                <a:latin typeface="Arial"/>
              </a:rPr>
              <a:t>Imperative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990720" y="1185840"/>
            <a:ext cx="71625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7.2.1 The formation of the Impera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330200" y="1785960"/>
          <a:ext cx="6527880" cy="1523880"/>
        </p:xfrm>
        <a:graphic>
          <a:graphicData uri="http://schemas.openxmlformats.org/drawingml/2006/table">
            <a:tbl>
              <a:tblPr/>
              <a:tblGrid>
                <a:gridCol w="3149640"/>
                <a:gridCol w="1743120"/>
                <a:gridCol w="163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erson 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ο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erson 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ετ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τ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Text Box 59"/>
          <p:cNvSpPr/>
          <p:nvPr/>
        </p:nvSpPr>
        <p:spPr>
          <a:xfrm>
            <a:off x="723960" y="3440160"/>
            <a:ext cx="7696080" cy="29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se are 2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Person imper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orist imperatives do not have the au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orist has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σ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uffix, as in the Indic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pl. Present Imperative identical to 2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pl. Present Indic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ω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verbs follow normal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IMPERA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Grammar </a:t>
            </a:r>
            <a:fld id="{8F14559A-E1C0-4E72-BDAA-25B7A7014A25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028"/>
          <p:cNvSpPr/>
          <p:nvPr/>
        </p:nvSpPr>
        <p:spPr>
          <a:xfrm>
            <a:off x="455760" y="1643040"/>
            <a:ext cx="8215200" cy="412632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Hi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's easy to mix up the Future Indicative and the Aorist Imperative (both have a </a:t>
            </a:r>
            <a:r>
              <a:rPr b="1" lang="el-GR" sz="2400" spc="-1" strike="noStrike">
                <a:solidFill>
                  <a:srgbClr val="ffffff"/>
                </a:solidFill>
                <a:latin typeface="Gentium"/>
              </a:rPr>
              <a:t>σ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uffix and no prefix). The endings are the ke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         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ts 16:21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ιστευσον ἐπι τον κυριον Ἰησου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lieve in the Lord Jesus! (Aorist Imperativ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         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tt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27.42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ιστευσομεν ἐπ’ αὐτ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will believe in him. (Future Indicativ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IMPERA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Grammar </a:t>
            </a:r>
            <a:fld id="{3217979F-A8C5-4C5F-9153-79C957BE0884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IMPERA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Grammar </a:t>
            </a:r>
            <a:fld id="{152F2391-ED29-4FA1-B7EC-C374C0EFB118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390680" y="1752480"/>
            <a:ext cx="636264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7.2.2 The difference between the Present and Aorist Impera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2286000" y="3321000"/>
            <a:ext cx="4572000" cy="116928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esent –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orist - Undef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1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IMPERA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Grammar </a:t>
            </a:r>
            <a:fld id="{EFC9E60B-7DF8-44E9-8D93-EF57BAC09931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571680" y="1357200"/>
            <a:ext cx="8001000" cy="171504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Hi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orist Imperative is more common than the Present Imperative – therefore take note when Present Imperative is use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98280" y="3429000"/>
            <a:ext cx="8929800" cy="26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ηρυσσετε το εὐαγγελιο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- Preach (pl.) the good-news!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continually: Go on preaching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λεψατε τα προβατα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 - Watch (pl.) the sheep! (defaul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υριε, σωσον τον λαο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- Lord, save the people! (defaul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857160" y="2244600"/>
            <a:ext cx="738684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hn 16.12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ολλα ἐχω ὑμιν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λεγει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have many things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o sa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o yo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εγει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s the equivalent of 'to say' in English. This is clearly closely related to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εγω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aning 'I say' – it is the same verb but now in th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Infinitiv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moo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INFINI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Grammar </a:t>
            </a:r>
            <a:fld id="{71884D29-4F6B-4751-AEEA-0AA88D7ABADE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Grammar </a:t>
            </a:r>
            <a:fld id="{66429FC8-1EAE-41A4-BB2E-3B409A20203D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INFINI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184480" y="1943280"/>
          <a:ext cx="4728960" cy="1020600"/>
        </p:xfrm>
        <a:graphic>
          <a:graphicData uri="http://schemas.openxmlformats.org/drawingml/2006/table">
            <a:tbl>
              <a:tblPr/>
              <a:tblGrid>
                <a:gridCol w="1506600"/>
                <a:gridCol w="1782720"/>
                <a:gridCol w="143964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finit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ειν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Text Box 46"/>
          <p:cNvSpPr/>
          <p:nvPr/>
        </p:nvSpPr>
        <p:spPr>
          <a:xfrm>
            <a:off x="533520" y="3525840"/>
            <a:ext cx="8610480" cy="19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Infinitive can be translated as ‘to…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s in the Imperative, the Aorist Infinitive has a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σ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uffix, but no au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ω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verbs follow the normal rules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φιλει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,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φιλησαι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3"/>
          <p:cNvSpPr/>
          <p:nvPr/>
        </p:nvSpPr>
        <p:spPr>
          <a:xfrm>
            <a:off x="142920" y="1279440"/>
            <a:ext cx="9358200" cy="50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 3.14-15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ποιησεν δωδεκα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...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ἐχει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ἐξουσιαν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ἐκβαλλει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τα δαιμονια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And he made twelve …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o have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uthority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o throw ou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he dem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se infinitives are Present, because the twelve will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tinuously have authority and will repeatedly throw out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m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Ἰησους θελει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σωσαι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αὐτη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Jesus is willing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o save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is Infinitive is Aorist because it does not point to a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tinual ac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Grammar </a:t>
            </a:r>
            <a:fld id="{17B8909B-F91C-413E-8C1E-7D335E75865B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INFINI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21:21:07Z</dcterms:created>
  <dc:creator>Sarah</dc:creator>
  <dc:description/>
  <dc:language>en-US</dc:language>
  <cp:lastModifiedBy>Sarah</cp:lastModifiedBy>
  <dcterms:modified xsi:type="dcterms:W3CDTF">2009-03-04T11:29:29Z</dcterms:modified>
  <cp:revision>59</cp:revision>
  <dc:subject/>
  <dc:title>Slide 1</dc:title>
</cp:coreProperties>
</file>