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200A-472D-49D0-A762-0D39F5198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CC4C-E72D-4900-81EF-2D927A102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9710-5533-4716-8D42-CB8B5A681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B38F-84D9-48A0-A179-BE1D91EB0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BA80D-9459-4E90-8E26-C21152D58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36BD6-00C9-49FE-821C-CDB2147A3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A24D1-BB3E-40ED-B358-608801300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CD35F-8561-44A0-B0C1-DC7BCBDCF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74ECB-5CA3-4614-86A8-177779966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1CC15-1E9E-46D6-A98D-8A1487532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93001-1E12-49A9-945E-353F25B9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7825-0971-4155-8630-61B4CAC25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59C35-BCCC-4B95-9752-06880E5C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6D001-C5DD-4447-92F3-DE5DBDE2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744BE-32AF-42F0-87E2-071578E8F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18DCC-AE88-4A0C-913A-BEFB43329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10782-CD7B-4F42-B847-DE8B4F458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56E4-FCFD-4946-9FD4-D82A7EACF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45DE-537C-429A-86D2-C2580F17C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4199-DAD1-474D-BB1B-4966CBE92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BCB6-E6D7-4CBD-9C51-76612D451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2824-7C29-4931-AC19-81BC02BC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FF16-C92B-497A-B1F6-8E98E089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C23B-4E20-4153-B094-AF94D498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1B34B-C90B-4922-8EB1-1733B801AB2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71C24-709C-4F33-A466-AF2A25BE630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-282600" y="208080"/>
            <a:ext cx="86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PRESENT TENSE OF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 λυ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graphicFrame>
        <p:nvGraphicFramePr>
          <p:cNvPr id="87" name=""/>
          <p:cNvGraphicFramePr/>
          <p:nvPr/>
        </p:nvGraphicFramePr>
        <p:xfrm>
          <a:off x="155520" y="1357200"/>
          <a:ext cx="8832960" cy="4373640"/>
        </p:xfrm>
        <a:graphic>
          <a:graphicData uri="http://schemas.openxmlformats.org/drawingml/2006/table">
            <a:tbl>
              <a:tblPr/>
              <a:tblGrid>
                <a:gridCol w="1951200"/>
                <a:gridCol w="1293840"/>
                <a:gridCol w="3041640"/>
                <a:gridCol w="2546280"/>
              </a:tblGrid>
              <a:tr h="456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mmati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glis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b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i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erson sin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m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erson sin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ει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are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rd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erson sin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ε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, she or it is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, she or it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erson p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με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are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erson p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ετ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are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rd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erson p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υσιν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are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</a:t>
                      </a: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υσ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:Grammar </a:t>
            </a:r>
            <a:fld id="{925CACA7-86C0-4185-BC52-AA90B5290755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0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662400" y="1500120"/>
            <a:ext cx="37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.3.3 Forming a Sent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3"/>
          <p:cNvSpPr/>
          <p:nvPr/>
        </p:nvSpPr>
        <p:spPr>
          <a:xfrm>
            <a:off x="-257040" y="233280"/>
            <a:ext cx="862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NOMINATIVE AND ACCUSATIVE C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428760" y="2071800"/>
            <a:ext cx="871524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λεπεις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- You (singular) s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λεπεις αγγελον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- You (singular) see an ang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λεπεις αγγελους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- You (singular) see ang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λεπετε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- You (plural) s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ουλος βλεπει αγγελον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- A slave sees an ang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ουλοι βλεπουσιν αγγελον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- Slaves see an ang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ουλοι βλεπουσιν αγγελους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Slaves see ang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3"/>
          <p:cNvSpPr/>
          <p:nvPr/>
        </p:nvSpPr>
        <p:spPr>
          <a:xfrm>
            <a:off x="-257040" y="233280"/>
            <a:ext cx="862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NOMINATIVE AND ACCUSATIVE C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486080" y="1641600"/>
            <a:ext cx="6172200" cy="119124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Verbs agree with their subject in nu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357120" y="3251160"/>
            <a:ext cx="8286840" cy="268452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i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re are three steps to trans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. Work out the cases of the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. Work out why the different words have the cases they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. Translate the sentence according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214200" y="2428920"/>
            <a:ext cx="8786880" cy="29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reek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Greek"/>
                <a:ea typeface="Times New Roman"/>
              </a:rPr>
              <a:t> 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Times New Roman"/>
              </a:rPr>
              <a:t>κυριος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ord)</a:t>
            </a:r>
            <a:r>
              <a:rPr b="0" lang="en-GB" sz="2400" spc="-1" strike="noStrike">
                <a:solidFill>
                  <a:srgbClr val="ffffff"/>
                </a:solidFill>
                <a:latin typeface="Greek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–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nom. 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Times New Roman"/>
              </a:rPr>
              <a:t>δουλους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slave)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–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cc. p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Times New Roman"/>
              </a:rPr>
              <a:t>κυριος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s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nom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because it is the su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δουλου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s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cc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because it is the ob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ntence = 'A lord has slaves.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3"/>
          <p:cNvSpPr/>
          <p:nvPr/>
        </p:nvSpPr>
        <p:spPr>
          <a:xfrm>
            <a:off x="-257040" y="233280"/>
            <a:ext cx="862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NOMINATIVE AND ACCUSATIVE C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5"/>
          <p:cNvSpPr/>
          <p:nvPr/>
        </p:nvSpPr>
        <p:spPr>
          <a:xfrm>
            <a:off x="1143000" y="1714680"/>
            <a:ext cx="628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6"/>
          <p:cNvSpPr/>
          <p:nvPr/>
        </p:nvSpPr>
        <p:spPr>
          <a:xfrm>
            <a:off x="928800" y="221472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l-GR" sz="2800" spc="-1" strike="noStrike">
                <a:solidFill>
                  <a:srgbClr val="ffffff"/>
                </a:solidFill>
                <a:latin typeface="Gentium"/>
                <a:ea typeface="Arial"/>
              </a:rPr>
              <a:t>κυριος ἐχει δουλ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1"/>
          <p:cNvSpPr/>
          <p:nvPr/>
        </p:nvSpPr>
        <p:spPr>
          <a:xfrm>
            <a:off x="-257040" y="233280"/>
            <a:ext cx="862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DEFINITE ARTIC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523880" y="1460520"/>
          <a:ext cx="5977080" cy="2271600"/>
        </p:xfrm>
        <a:graphic>
          <a:graphicData uri="http://schemas.openxmlformats.org/drawingml/2006/table">
            <a:tbl>
              <a:tblPr/>
              <a:tblGrid>
                <a:gridCol w="1992600"/>
                <a:gridCol w="1992240"/>
                <a:gridCol w="1992240"/>
              </a:tblGrid>
              <a:tr h="4597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in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6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ὁ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ο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us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6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6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υς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42920" y="4000680"/>
            <a:ext cx="10358280" cy="188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225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r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225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Times New Roman"/>
              </a:rPr>
              <a:t>βλεπει </a:t>
            </a:r>
            <a:r>
              <a:rPr b="0" lang="el-GR" sz="26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τον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Times New Roman"/>
              </a:rPr>
              <a:t> αγγελον.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5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l-GR" sz="2500" spc="-1" strike="noStrike">
                <a:solidFill>
                  <a:srgbClr val="ffffff"/>
                </a:solidFill>
                <a:latin typeface="Greek"/>
                <a:ea typeface="Times New Roman"/>
              </a:rPr>
              <a:t> 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 (singular) se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h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ng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225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οἱ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Times New Roman"/>
              </a:rPr>
              <a:t> αγγελοι βλεπουσιν.</a:t>
            </a:r>
            <a:r>
              <a:rPr b="0" lang="en-GB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GB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l-GR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h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ngels s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225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ὁ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Times New Roman"/>
              </a:rPr>
              <a:t> ἀνθρωπος βλεπει τους αγγελους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  </a:t>
            </a:r>
            <a:r>
              <a:rPr b="0" lang="el-GR" sz="1000" spc="-1" strike="noStrike">
                <a:solidFill>
                  <a:srgbClr val="ffffff"/>
                </a:solidFill>
                <a:latin typeface="Greek"/>
                <a:ea typeface="Times New Roman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person sees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h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ng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"/>
          <p:cNvSpPr/>
          <p:nvPr/>
        </p:nvSpPr>
        <p:spPr>
          <a:xfrm>
            <a:off x="214200" y="1658880"/>
            <a:ext cx="8786880" cy="45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wo special uses of the definite artic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N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e.g.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ὁ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Δαυιδ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= David (not 'the David'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bstract Nou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e.g.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ὁ ανθρωπο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= ‘the person’, also ‘humanity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e.g.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ὁ νομο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= ‘law’ (as a concept), also ‘the law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God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rather than ‘a god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e.g.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ὁ θεο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-257040" y="233280"/>
            <a:ext cx="862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.5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SPECIAL USES OF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DEFINITE ARTIC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"/>
          <p:cNvSpPr/>
          <p:nvPr/>
        </p:nvSpPr>
        <p:spPr>
          <a:xfrm>
            <a:off x="-282600" y="208080"/>
            <a:ext cx="86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PRESENT TENSE OF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 λυ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92" name="Rectangle 4"/>
          <p:cNvSpPr/>
          <p:nvPr/>
        </p:nvSpPr>
        <p:spPr>
          <a:xfrm>
            <a:off x="928800" y="2013120"/>
            <a:ext cx="7072200" cy="30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68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ingular or Plural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υει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υετ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ingular: he, she, or 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Plural: two possibilities –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υουσιν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υουσ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υουσι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Verdana"/>
              </a:rPr>
              <a:t>is always used before a vowel and at the end of a sent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:Grammar </a:t>
            </a:r>
            <a:fld id="{9D5A8D69-0941-4A83-9C96-E8C4AA7E3F76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"/>
          <p:cNvSpPr/>
          <p:nvPr/>
        </p:nvSpPr>
        <p:spPr>
          <a:xfrm>
            <a:off x="-282600" y="208080"/>
            <a:ext cx="86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.1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HE PRESENT TENSE OF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 λυ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97" name="Text Box 5"/>
          <p:cNvSpPr/>
          <p:nvPr/>
        </p:nvSpPr>
        <p:spPr>
          <a:xfrm>
            <a:off x="343080" y="4626000"/>
            <a:ext cx="8458200" cy="1007640"/>
          </a:xfrm>
          <a:prstGeom prst="rect">
            <a:avLst/>
          </a:prstGeom>
          <a:noFill/>
          <a:ln w="3168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One Greek word often means more than one English wo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071720" y="1785960"/>
          <a:ext cx="6765840" cy="1879560"/>
        </p:xfrm>
        <a:graphic>
          <a:graphicData uri="http://schemas.openxmlformats.org/drawingml/2006/table">
            <a:tbl>
              <a:tblPr/>
              <a:tblGrid>
                <a:gridCol w="761760"/>
                <a:gridCol w="1024200"/>
                <a:gridCol w="1593720"/>
                <a:gridCol w="1003320"/>
                <a:gridCol w="1023840"/>
                <a:gridCol w="135900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μεν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ι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sing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τ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pl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, she or 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υσι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:Grammar </a:t>
            </a:r>
            <a:fld id="{D13EC2B2-BF57-4DA1-B5EF-7752902BACB9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"/>
          <p:cNvSpPr/>
          <p:nvPr/>
        </p:nvSpPr>
        <p:spPr>
          <a:xfrm>
            <a:off x="-282600" y="208080"/>
            <a:ext cx="86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PRESENT TENSE OF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λυ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grpSp>
        <p:nvGrpSpPr>
          <p:cNvPr id="103" name="Group 28"/>
          <p:cNvGrpSpPr/>
          <p:nvPr/>
        </p:nvGrpSpPr>
        <p:grpSpPr>
          <a:xfrm>
            <a:off x="228600" y="1709640"/>
            <a:ext cx="8686080" cy="2362320"/>
            <a:chOff x="228600" y="1709640"/>
            <a:chExt cx="8686080" cy="2362320"/>
          </a:xfrm>
        </p:grpSpPr>
        <p:sp>
          <p:nvSpPr>
            <p:cNvPr id="104" name="Rectangle 4"/>
            <p:cNvSpPr/>
            <p:nvPr/>
          </p:nvSpPr>
          <p:spPr>
            <a:xfrm>
              <a:off x="228600" y="1709640"/>
              <a:ext cx="15292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ffffff"/>
                  </a:solidFill>
                  <a:latin typeface="Gentium"/>
                  <a:ea typeface="Times New Roman"/>
                </a:rPr>
                <a:t>λεγ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5"/>
            <p:cNvSpPr/>
            <p:nvPr/>
          </p:nvSpPr>
          <p:spPr>
            <a:xfrm>
              <a:off x="1757880" y="1709640"/>
              <a:ext cx="28468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I am say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6"/>
            <p:cNvSpPr/>
            <p:nvPr/>
          </p:nvSpPr>
          <p:spPr>
            <a:xfrm>
              <a:off x="4604760" y="1709640"/>
              <a:ext cx="15397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ffffff"/>
                  </a:solidFill>
                  <a:latin typeface="Gentium"/>
                  <a:ea typeface="Times New Roman"/>
                </a:rPr>
                <a:t>βλεπ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7"/>
            <p:cNvSpPr/>
            <p:nvPr/>
          </p:nvSpPr>
          <p:spPr>
            <a:xfrm>
              <a:off x="6144840" y="1709640"/>
              <a:ext cx="276984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I am see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8"/>
            <p:cNvSpPr/>
            <p:nvPr/>
          </p:nvSpPr>
          <p:spPr>
            <a:xfrm>
              <a:off x="228600" y="2087280"/>
              <a:ext cx="152928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  <a:ea typeface="Times New Roman"/>
                </a:rPr>
                <a:t>λεγει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9"/>
            <p:cNvSpPr/>
            <p:nvPr/>
          </p:nvSpPr>
          <p:spPr>
            <a:xfrm>
              <a:off x="1757880" y="2087280"/>
              <a:ext cx="284688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You (sing.) are say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0"/>
            <p:cNvSpPr/>
            <p:nvPr/>
          </p:nvSpPr>
          <p:spPr>
            <a:xfrm>
              <a:off x="4604760" y="2087280"/>
              <a:ext cx="153972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  <a:ea typeface="Times New Roman"/>
                </a:rPr>
                <a:t>βλεπει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1"/>
            <p:cNvSpPr/>
            <p:nvPr/>
          </p:nvSpPr>
          <p:spPr>
            <a:xfrm>
              <a:off x="6144840" y="2087280"/>
              <a:ext cx="276984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You (sing.) are see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2"/>
            <p:cNvSpPr/>
            <p:nvPr/>
          </p:nvSpPr>
          <p:spPr>
            <a:xfrm>
              <a:off x="228600" y="2465640"/>
              <a:ext cx="15292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  <a:ea typeface="Times New Roman"/>
                </a:rPr>
                <a:t>λεγε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3"/>
            <p:cNvSpPr/>
            <p:nvPr/>
          </p:nvSpPr>
          <p:spPr>
            <a:xfrm>
              <a:off x="1757880" y="2465640"/>
              <a:ext cx="28468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He, she or it is say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4"/>
            <p:cNvSpPr/>
            <p:nvPr/>
          </p:nvSpPr>
          <p:spPr>
            <a:xfrm>
              <a:off x="4604760" y="2465640"/>
              <a:ext cx="15397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5"/>
            <p:cNvSpPr/>
            <p:nvPr/>
          </p:nvSpPr>
          <p:spPr>
            <a:xfrm>
              <a:off x="6144840" y="2465640"/>
              <a:ext cx="276984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He, she or it is see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6"/>
            <p:cNvSpPr/>
            <p:nvPr/>
          </p:nvSpPr>
          <p:spPr>
            <a:xfrm>
              <a:off x="228600" y="2843640"/>
              <a:ext cx="15292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  <a:ea typeface="Times New Roman"/>
                </a:rPr>
                <a:t>λεγομε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7"/>
            <p:cNvSpPr/>
            <p:nvPr/>
          </p:nvSpPr>
          <p:spPr>
            <a:xfrm>
              <a:off x="1757880" y="2843640"/>
              <a:ext cx="28468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 are say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8"/>
            <p:cNvSpPr/>
            <p:nvPr/>
          </p:nvSpPr>
          <p:spPr>
            <a:xfrm>
              <a:off x="4604760" y="2843640"/>
              <a:ext cx="15397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  <a:ea typeface="Times New Roman"/>
                </a:rPr>
                <a:t>βλεπομε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19"/>
            <p:cNvSpPr/>
            <p:nvPr/>
          </p:nvSpPr>
          <p:spPr>
            <a:xfrm>
              <a:off x="6144840" y="2843640"/>
              <a:ext cx="276984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 are see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20"/>
            <p:cNvSpPr/>
            <p:nvPr/>
          </p:nvSpPr>
          <p:spPr>
            <a:xfrm>
              <a:off x="228600" y="3221280"/>
              <a:ext cx="152928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  <a:ea typeface="Times New Roman"/>
                </a:rPr>
                <a:t>λεγετ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1"/>
            <p:cNvSpPr/>
            <p:nvPr/>
          </p:nvSpPr>
          <p:spPr>
            <a:xfrm>
              <a:off x="1757880" y="3221280"/>
              <a:ext cx="284688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You (pl.) are say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2"/>
            <p:cNvSpPr/>
            <p:nvPr/>
          </p:nvSpPr>
          <p:spPr>
            <a:xfrm>
              <a:off x="4604760" y="3221280"/>
              <a:ext cx="153972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  <a:ea typeface="Times New Roman"/>
                </a:rPr>
                <a:t>βλεπετ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23"/>
            <p:cNvSpPr/>
            <p:nvPr/>
          </p:nvSpPr>
          <p:spPr>
            <a:xfrm>
              <a:off x="6144840" y="3221280"/>
              <a:ext cx="276984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You (pl.) are see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"/>
            <p:cNvSpPr/>
            <p:nvPr/>
          </p:nvSpPr>
          <p:spPr>
            <a:xfrm>
              <a:off x="228600" y="3599640"/>
              <a:ext cx="1529280" cy="47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  <a:ea typeface="Times New Roman"/>
                </a:rPr>
                <a:t>λεγουσι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25"/>
            <p:cNvSpPr/>
            <p:nvPr/>
          </p:nvSpPr>
          <p:spPr>
            <a:xfrm>
              <a:off x="1757880" y="3599640"/>
              <a:ext cx="2846880" cy="47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They are say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26"/>
            <p:cNvSpPr/>
            <p:nvPr/>
          </p:nvSpPr>
          <p:spPr>
            <a:xfrm>
              <a:off x="4604760" y="3599640"/>
              <a:ext cx="1539720" cy="47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  <a:ea typeface="Times New Roman"/>
                </a:rPr>
                <a:t>βλεπουσι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27"/>
            <p:cNvSpPr/>
            <p:nvPr/>
          </p:nvSpPr>
          <p:spPr>
            <a:xfrm>
              <a:off x="6144840" y="3599640"/>
              <a:ext cx="2769840" cy="47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They are see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 Box 3"/>
          <p:cNvSpPr/>
          <p:nvPr/>
        </p:nvSpPr>
        <p:spPr>
          <a:xfrm>
            <a:off x="142920" y="4514760"/>
            <a:ext cx="8658360" cy="1099440"/>
          </a:xfrm>
          <a:prstGeom prst="rect">
            <a:avLst/>
          </a:prstGeom>
          <a:noFill/>
          <a:ln w="3168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Once you know the Present of </a:t>
            </a:r>
            <a:r>
              <a:rPr b="0" lang="el-GR" sz="36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ω</a:t>
            </a:r>
            <a:r>
              <a:rPr b="0" lang="en-GB" sz="36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you know the Present of almost every Greek verb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0"/>
          <p:cNvSpPr/>
          <p:nvPr/>
        </p:nvSpPr>
        <p:spPr>
          <a:xfrm>
            <a:off x="4611600" y="246852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Gentium"/>
              </a:rPr>
              <a:t>βλεπε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:Grammar </a:t>
            </a:r>
            <a:fld id="{A5F02A7E-2EF9-432E-AF5B-051C86D9C56E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-257040" y="233280"/>
            <a:ext cx="8627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PRESENT TENSE OF</a:t>
            </a:r>
            <a:r>
              <a:rPr b="0" lang="el-GR" sz="26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0" lang="el-GR" sz="3300" spc="-1" strike="noStrike">
                <a:solidFill>
                  <a:srgbClr val="000000"/>
                </a:solidFill>
                <a:latin typeface="Calibri"/>
              </a:rPr>
              <a:t>εω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VERBS</a:t>
            </a:r>
            <a:r>
              <a:rPr b="0" lang="en-GB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3300" spc="-1" strike="noStrike">
                <a:solidFill>
                  <a:srgbClr val="000000"/>
                </a:solidFill>
                <a:latin typeface="Calibri"/>
              </a:rPr>
              <a:t>(φιλεω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134" name="Text Box 4"/>
          <p:cNvSpPr/>
          <p:nvPr/>
        </p:nvSpPr>
        <p:spPr>
          <a:xfrm>
            <a:off x="857160" y="1428840"/>
            <a:ext cx="7358040" cy="1940400"/>
          </a:xfrm>
          <a:prstGeom prst="rect">
            <a:avLst/>
          </a:prstGeom>
          <a:noFill/>
          <a:ln w="3168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Greek grammar is very regula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but with many </a:t>
            </a:r>
            <a:r>
              <a:rPr b="0" lang="en-GB" sz="3000" spc="-1" strike="noStrike" u="sng">
                <a:solidFill>
                  <a:srgbClr val="ffffff"/>
                </a:solidFill>
                <a:uFillTx/>
                <a:latin typeface="Arial"/>
              </a:rPr>
              <a:t>minor adjust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when certain </a:t>
            </a:r>
            <a:r>
              <a:rPr b="0" lang="en-GB" sz="3000" spc="-1" strike="noStrike" u="sng">
                <a:solidFill>
                  <a:srgbClr val="ffffff"/>
                </a:solidFill>
                <a:uFillTx/>
                <a:latin typeface="Arial"/>
              </a:rPr>
              <a:t>letters comb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34"/>
          <p:cNvSpPr/>
          <p:nvPr/>
        </p:nvSpPr>
        <p:spPr>
          <a:xfrm>
            <a:off x="71280" y="4214880"/>
            <a:ext cx="9144000" cy="17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r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-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εω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erbs: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        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+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7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ε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        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+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ο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7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ου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        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rops out before long vowel or diphth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:Grammar </a:t>
            </a:r>
            <a:fld id="{CE6094C9-8D12-4FDA-B776-672EE753C153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"/>
          <p:cNvSpPr/>
          <p:nvPr/>
        </p:nvSpPr>
        <p:spPr>
          <a:xfrm>
            <a:off x="-257040" y="233280"/>
            <a:ext cx="8627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PRESENT TENSE OF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l-GR" sz="3300" spc="-1" strike="noStrike">
                <a:solidFill>
                  <a:srgbClr val="000000"/>
                </a:solidFill>
                <a:latin typeface="Calibri"/>
              </a:rPr>
              <a:t>εω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VERBS</a:t>
            </a:r>
            <a:r>
              <a:rPr b="0" lang="en-GB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3300" spc="-1" strike="noStrike">
                <a:solidFill>
                  <a:srgbClr val="000000"/>
                </a:solidFill>
                <a:latin typeface="Calibri"/>
              </a:rPr>
              <a:t>(φιλεω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graphicFrame>
        <p:nvGraphicFramePr>
          <p:cNvPr id="140" name=""/>
          <p:cNvGraphicFramePr/>
          <p:nvPr/>
        </p:nvGraphicFramePr>
        <p:xfrm>
          <a:off x="166680" y="1576440"/>
          <a:ext cx="8763120" cy="4281480"/>
        </p:xfrm>
        <a:graphic>
          <a:graphicData uri="http://schemas.openxmlformats.org/drawingml/2006/table">
            <a:tbl>
              <a:tblPr/>
              <a:tblGrid>
                <a:gridCol w="2679840"/>
                <a:gridCol w="1807920"/>
                <a:gridCol w="427536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ual Fo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process of getting ther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m lov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 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+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ω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3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are lov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ει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 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+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εις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ει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, she or it is lov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ε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 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+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ει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ε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are lov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ου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ε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 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+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ο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εν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ου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ε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are lov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ει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 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+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ε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ει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are lov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ουσιν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or</a:t>
                      </a:r>
                      <a:r>
                        <a:rPr b="0" i="1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ουσ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 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+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ου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ιν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ου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ι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:Grammar </a:t>
            </a:r>
            <a:fld id="{3DF59C93-5181-4B37-BA3A-5E7329602F6F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3"/>
          <p:cNvSpPr/>
          <p:nvPr/>
        </p:nvSpPr>
        <p:spPr>
          <a:xfrm>
            <a:off x="285840" y="2000160"/>
            <a:ext cx="8420040" cy="2319840"/>
          </a:xfrm>
          <a:prstGeom prst="rect">
            <a:avLst/>
          </a:prstGeom>
          <a:noFill/>
          <a:ln w="3168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ffffff"/>
                </a:solidFill>
                <a:latin typeface="Arial"/>
              </a:rPr>
              <a:t>Hi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-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εω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erbs like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φιλεω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re always listed in vocabularies or dictionaries in their uncontracted form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i.e.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φιλεω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though this form will never be found in Greek (since it would have contracted into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φιλω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.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3"/>
          <p:cNvSpPr/>
          <p:nvPr/>
        </p:nvSpPr>
        <p:spPr>
          <a:xfrm>
            <a:off x="-257040" y="233280"/>
            <a:ext cx="8627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PRESENT TENSE OF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l-GR" sz="3300" spc="-1" strike="noStrike">
                <a:solidFill>
                  <a:srgbClr val="000000"/>
                </a:solidFill>
                <a:latin typeface="Calibri"/>
              </a:rPr>
              <a:t>εω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VERBS</a:t>
            </a:r>
            <a:r>
              <a:rPr b="0" lang="en-GB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3300" spc="-1" strike="noStrike">
                <a:solidFill>
                  <a:srgbClr val="000000"/>
                </a:solidFill>
                <a:latin typeface="Calibri"/>
              </a:rPr>
              <a:t>(φιλεω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14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:Grammar </a:t>
            </a:r>
            <a:fld id="{E7DD46FE-DC43-4306-AB56-6936870DA422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1"/>
          <p:cNvSpPr/>
          <p:nvPr/>
        </p:nvSpPr>
        <p:spPr>
          <a:xfrm>
            <a:off x="785880" y="428760"/>
            <a:ext cx="6643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:Grammar </a:t>
            </a:r>
            <a:fld id="{18D5C284-1DCE-432B-8259-8295375F38BA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3"/>
          <p:cNvSpPr/>
          <p:nvPr/>
        </p:nvSpPr>
        <p:spPr>
          <a:xfrm>
            <a:off x="-257040" y="233280"/>
            <a:ext cx="862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NOMINATIVE AND ACCUSATIVE C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562040" y="2768760"/>
          <a:ext cx="6172200" cy="21841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</a:tblGrid>
              <a:tr h="459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78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in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ο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us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ου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76"/>
          <p:cNvSpPr/>
          <p:nvPr/>
        </p:nvSpPr>
        <p:spPr>
          <a:xfrm>
            <a:off x="1523880" y="185436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.3.1 The forms of </a:t>
            </a:r>
            <a:r>
              <a:rPr b="0" lang="el-GR" sz="2800" spc="-1" strike="noStrike">
                <a:solidFill>
                  <a:srgbClr val="ffffff"/>
                </a:solidFill>
                <a:latin typeface="Gentium"/>
              </a:rPr>
              <a:t>λογο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Box 1"/>
          <p:cNvSpPr/>
          <p:nvPr/>
        </p:nvSpPr>
        <p:spPr>
          <a:xfrm>
            <a:off x="-257040" y="233280"/>
            <a:ext cx="862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NOMINATIVE AND ACCUSATIVE C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1071720" y="2000160"/>
            <a:ext cx="650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.3.2 The Meaning of the Nominative and Accusative Ca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2000160" y="3429000"/>
            <a:ext cx="5143680" cy="119124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Nominative – Sub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ccusative – Ob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1T10:50:58Z</dcterms:created>
  <dc:creator>Sarah</dc:creator>
  <dc:description/>
  <dc:language>en-US</dc:language>
  <cp:lastModifiedBy>Sarah</cp:lastModifiedBy>
  <dcterms:modified xsi:type="dcterms:W3CDTF">2008-08-25T11:50:21Z</dcterms:modified>
  <cp:revision>53</cp:revision>
  <dc:subject/>
  <dc:title>Slide 1</dc:title>
</cp:coreProperties>
</file>