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E3D-AC51-4EBE-A8D1-8A6F993A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CD7-8BB5-47E7-AC34-FF668E93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4F4-A922-42A3-B628-ECE566D6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3C2C-605F-4767-99B3-5A6738F1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0650-81E9-4904-BAFC-CB093EA3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40E1-3FB3-4CB1-86E2-49899104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D6EA-C3BF-4EB0-9CF6-B16F9E08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BAB-1578-4A11-8FE0-80E4DFFC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6A27-6F64-4C4F-9EE2-CB0A4102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B72-387D-46B4-8BE1-CFEB6AD8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6A3-6D3E-4345-8740-D5C3E3E6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659-37DA-45D6-9DF9-40B79901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5D3F-D787-4578-AB02-74AF3826D52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0FEDBCB4-C963-4E41-8A93-A8127C7C40C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840" y="1500120"/>
            <a:ext cx="8572320" cy="15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ty' or ‘town’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λ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λεω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'king' is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βασιλε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βασιλεω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14400" y="3232080"/>
          <a:ext cx="7342200" cy="2468520"/>
        </p:xfrm>
        <a:graphic>
          <a:graphicData uri="http://schemas.openxmlformats.org/drawingml/2006/table">
            <a:tbl>
              <a:tblPr/>
              <a:tblGrid>
                <a:gridCol w="1486080"/>
                <a:gridCol w="1371600"/>
                <a:gridCol w="1014120"/>
                <a:gridCol w="1592280"/>
                <a:gridCol w="1878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υ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υ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B4546C61-9FA7-49C8-86BA-0D1CB2A78C4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55640" y="1560600"/>
          <a:ext cx="5803920" cy="2468520"/>
        </p:xfrm>
        <a:graphic>
          <a:graphicData uri="http://schemas.openxmlformats.org/drawingml/2006/table">
            <a:tbl>
              <a:tblPr/>
              <a:tblGrid>
                <a:gridCol w="1005120"/>
                <a:gridCol w="1795320"/>
                <a:gridCol w="1687680"/>
                <a:gridCol w="131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ᾳ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131"/>
          <p:cNvSpPr/>
          <p:nvPr/>
        </p:nvSpPr>
        <p:spPr>
          <a:xfrm>
            <a:off x="1986120" y="4473720"/>
            <a:ext cx="5138640" cy="14731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e breathings -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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ἑ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one)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in);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one)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into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0983797D-A7C5-4A4C-8B81-4EE275F7B2D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714680" y="1071720"/>
            <a:ext cx="571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δεις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δεις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'no one, nothing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80920" y="1598760"/>
          <a:ext cx="7358040" cy="2225520"/>
        </p:xfrm>
        <a:graphic>
          <a:graphicData uri="http://schemas.openxmlformats.org/drawingml/2006/table">
            <a:tbl>
              <a:tblPr/>
              <a:tblGrid>
                <a:gridCol w="1252800"/>
                <a:gridCol w="2235240"/>
                <a:gridCol w="2100240"/>
                <a:gridCol w="1769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μ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μι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μι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μι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427040" y="4000680"/>
          <a:ext cx="6288120" cy="2225520"/>
        </p:xfrm>
        <a:graphic>
          <a:graphicData uri="http://schemas.openxmlformats.org/drawingml/2006/table">
            <a:tbl>
              <a:tblPr/>
              <a:tblGrid>
                <a:gridCol w="1067040"/>
                <a:gridCol w="1904760"/>
                <a:gridCol w="1791000"/>
                <a:gridCol w="1525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μ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μι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μι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μι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E7B4A17D-3306-4ECF-97B3-8F1EDA35AF3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42920" y="1143000"/>
            <a:ext cx="892980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Greek, a sentence is either negative, or not; unlike in English, two negatives do not make a po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3.32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ερι δε της ἡμερας ἐκεινης ἠ της ὡρας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δει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ἰδεν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[he knows]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ἱ ἀγγελοι ἐν οὐρανῳ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 υἱος, εἰ μη ὁ πατηρ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But about that day or hou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o 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knows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eit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gels in heaven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Son, but only the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4.60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κ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ποκριν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δ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                                 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 Do you repl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oth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76040" y="1500120"/>
            <a:ext cx="8610840" cy="43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936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se two patterns are very similar – in particular having the distinctive gen. singular in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ω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nd nom. and acc. plurals in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ι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The main difference between them is in the acc. singular (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ι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or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936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ink of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ω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s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nd then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ending is correct for the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eclen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93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re is another pattern of words which have stems ending in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However, there only word in this family which is at all common, 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χθυ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and even that only occurs 20 times in the New Testament. Its endings are the same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στηρ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xcept for the accusative singular: 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χθυς,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ἰχθυ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, ἰχθυος, ἰχθυ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χθυες, ἰχθυας, ἰχθυων, ἰχθυσ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44096597-CAC9-4B8B-BE35-8116BA9D395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92D8DC00-9DDD-4CCD-A321-440E744B86A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92080" y="1817640"/>
            <a:ext cx="7353360" cy="3324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on't worry too much about these nou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y are not particularly common,</a:t>
            </a:r>
            <a:r>
              <a:rPr b="0" lang="el-G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d most of their forms are close enough to either the 1</a:t>
            </a:r>
            <a:r>
              <a:rPr b="0" lang="en-GB" sz="2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/2</a:t>
            </a:r>
            <a:r>
              <a:rPr b="0" lang="en-GB" sz="2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or the 3</a:t>
            </a:r>
            <a:r>
              <a:rPr b="0" lang="en-GB" sz="2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declension endings in the appropriate case and number, that you can normally guess them correctly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705040" y="11239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3.2.1 Nou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028880" y="1765440"/>
          <a:ext cx="7099200" cy="4343400"/>
        </p:xfrm>
        <a:graphic>
          <a:graphicData uri="http://schemas.openxmlformats.org/drawingml/2006/table">
            <a:tbl>
              <a:tblPr/>
              <a:tblGrid>
                <a:gridCol w="1212840"/>
                <a:gridCol w="798480"/>
                <a:gridCol w="1174680"/>
                <a:gridCol w="1538280"/>
                <a:gridCol w="117360"/>
                <a:gridCol w="2257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 of getting the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, therefore as nomin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, therefore as nomin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27E3E9CE-4988-4808-88A9-B48177D0CF1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TRACTING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08E912BA-219F-4C95-A253-46DD9FD5C68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71680" y="1527120"/>
          <a:ext cx="8001000" cy="3916440"/>
        </p:xfrm>
        <a:graphic>
          <a:graphicData uri="http://schemas.openxmlformats.org/drawingml/2006/table">
            <a:tbl>
              <a:tblPr/>
              <a:tblGrid>
                <a:gridCol w="907920"/>
                <a:gridCol w="798480"/>
                <a:gridCol w="1494000"/>
                <a:gridCol w="1828800"/>
                <a:gridCol w="1371600"/>
                <a:gridCol w="160020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 / Feminin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pying 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σι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σι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 Box 262"/>
          <p:cNvSpPr/>
          <p:nvPr/>
        </p:nvSpPr>
        <p:spPr>
          <a:xfrm>
            <a:off x="1409760" y="103824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3.2.2 Adjec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63"/>
          <p:cNvSpPr/>
          <p:nvPr/>
        </p:nvSpPr>
        <p:spPr>
          <a:xfrm>
            <a:off x="176040" y="5572080"/>
            <a:ext cx="832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l-GR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t is only the acc. plural masculine/feminine which is peculiar, in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pying the nom. when one might expect some contraction of –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εα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TRACTING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357120" y="1392120"/>
            <a:ext cx="821556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decline a word such a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you needs to know four pieces of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masculine 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neuter 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genitive (or stem) for the masculine &amp; ne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feminine nomin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once we know the nom. sing.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σ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th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ension stem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ντ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we can deduce the rest of the declen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B6C2F2BA-69E7-44E7-9B73-5591E040C6D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93FF4700-6F47-430A-9078-7FEB3856B0B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41200" y="1285920"/>
          <a:ext cx="8643960" cy="4937040"/>
        </p:xfrm>
        <a:graphic>
          <a:graphicData uri="http://schemas.openxmlformats.org/drawingml/2006/table">
            <a:tbl>
              <a:tblPr/>
              <a:tblGrid>
                <a:gridCol w="1330560"/>
                <a:gridCol w="1171440"/>
                <a:gridCol w="2192400"/>
                <a:gridCol w="2062080"/>
                <a:gridCol w="1887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rd Dec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t Dec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rd Dec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η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Box 4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0240" y="1098720"/>
            <a:ext cx="914400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n its own; masculine = person/man; feminine = woman; 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euter = thing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John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.3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παντα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δι’ αὐτου ἐγενετο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All thing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came to be through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rk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6.50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παντες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γαρ αὐτον εἰδ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everyon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aw hi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t can occur with a noun without an artic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Matt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7.17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πα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δενδρον ἀγαθον καρπους καλους ποιε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Every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good tree produces good fruit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C71C2CD4-5038-4D0D-9072-20A5ED036FE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9A808F8C-E31B-42B2-8344-AE67353B779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57320" y="1214280"/>
            <a:ext cx="877248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· It can occur with a noun with the article, in which case it normally stands in the predicative positive (i.e. before the 'the'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4.53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υνερχοντ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παντε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οἱ ἀρχιερ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chief priests g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·  It can occur with the article and partici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John 5.1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πα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ὁ πιστευων ὁτι Ἰησους ἐστιν ὁ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Χριστ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very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ho believes that the Messiah is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0:11:56Z</dcterms:created>
  <dc:creator>Sarah</dc:creator>
  <dc:description/>
  <dc:language>en-US</dc:language>
  <cp:lastModifiedBy>Sarah</cp:lastModifiedBy>
  <dcterms:modified xsi:type="dcterms:W3CDTF">2009-03-06T12:45:45Z</dcterms:modified>
  <cp:revision>26</cp:revision>
  <dc:subject/>
  <dc:title>Slide 1</dc:title>
</cp:coreProperties>
</file>