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2006-3072-46FF-9FBA-A2AD99A144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4D3F-4AA4-4B07-BEAA-04108C3AE5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31D-6909-4728-9B79-A0DED8CE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46D-961C-4EC6-A197-83902D20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6A8-E8DA-41A8-B9AA-CD607E2B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E0A-3033-44C4-849B-DD5341E9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1976-A340-4A48-9851-57BBD69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A024-9719-4A2E-BDA3-67429101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7597-F8F7-44E4-83F3-5751A954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5EE5-6397-4540-8A78-2DD32B79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FFC2-4095-436E-8AFC-D01545C7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251F-B674-4EE1-A179-BBA0E0DB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631A-B9F2-4425-B972-85C7C6C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EEC-4559-4E98-B170-E24581EA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BD19-817F-4065-8A2B-8F2E6189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EA2E-B080-45B8-9EFA-0EFB178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5363-E4D5-4891-B235-93F9A585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4E63-7D20-4057-B986-A20761CC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87DF-653D-42B0-B5D2-08F42B92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408A4-35B1-455D-8B58-AE947164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030C-8EE1-41DB-9403-A37C14BD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8063-BE09-4139-8197-7A8D5812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04F5-5276-4061-A3EE-FA6920B6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7FCD-CFB8-49A4-A511-BEC84BA4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1AC-1A2A-4470-AEF7-AF827FD1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BC0E-C082-4657-BFD7-A0F060FE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71A2-5925-43D3-A7D5-9F62C61E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4441-1E90-4A1C-A8B8-86A8B643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32C54-612D-42E9-8471-DB0A2F70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F4FA-39DC-42CF-869F-88E16DA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2655-50DF-443C-B7C2-2CC66FB1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5429-A74D-4D8E-AC09-6F88CF0B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0D22-FB93-4A17-AB4E-4D4877C4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B97D-0A0C-4C40-9D2B-438EBFCB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1DFC-A078-452E-8540-6C9D12E1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0A5-0FFB-43D2-A513-673D3EC9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9828-9D25-4DFC-A0CB-1E52F6AD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D3EB-68D4-4C9C-B419-888D3CD8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963F-44BD-45CD-9BA4-1453B32A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82AC-ADF4-4E12-BA24-97D05B9D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203E-9D15-4D30-9BC2-FE60C0EE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922E-2D83-4F60-B625-4FC0B559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834F-13DE-455F-8C0F-4A1466E3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7B34E-214A-4EC8-8114-14F9CDEC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8286-C6CD-48EA-B40B-1020CA53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B39-ACD5-4D35-9D59-C18C05C2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851-CC2A-4009-99B8-5A4249A0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C01-9F88-45A0-A6E9-B54585C4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265-C49F-4FD9-B21D-52DA691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26A-8A9C-4210-86BF-0543D0C5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0458-6D7B-450B-886A-F8656EBCA4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0828-0D23-464C-9163-FC5C9C8859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49" name="Group 1990"/>
          <p:cNvGrpSpPr/>
          <p:nvPr/>
        </p:nvGrpSpPr>
        <p:grpSpPr>
          <a:xfrm>
            <a:off x="71280" y="1209600"/>
            <a:ext cx="8991720" cy="4219560"/>
            <a:chOff x="71280" y="1209600"/>
            <a:chExt cx="8991720" cy="4219560"/>
          </a:xfrm>
        </p:grpSpPr>
        <p:sp>
          <p:nvSpPr>
            <p:cNvPr id="50" name=""/>
            <p:cNvSpPr/>
            <p:nvPr/>
          </p:nvSpPr>
          <p:spPr>
            <a:xfrm>
              <a:off x="71280" y="1209600"/>
              <a:ext cx="2210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Greek Let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209600"/>
              <a:ext cx="26668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Call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8200" y="1209600"/>
              <a:ext cx="1301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Writ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49960" y="1209600"/>
              <a:ext cx="1755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So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05680" y="1209600"/>
              <a:ext cx="1057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280" y="164628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4280" y="1646280"/>
              <a:ext cx="106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Capi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1320" y="1646280"/>
              <a:ext cx="1371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In 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2920" y="1646280"/>
              <a:ext cx="1295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In Gre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48200" y="1646280"/>
              <a:ext cx="13017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Arial"/>
                </a:rPr>
                <a:t>Ι</a:t>
              </a: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 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960" y="1646280"/>
              <a:ext cx="1755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05680" y="1646280"/>
              <a:ext cx="105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80" y="2124000"/>
              <a:ext cx="1143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4280" y="2124000"/>
              <a:ext cx="1067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1320" y="2124000"/>
              <a:ext cx="13716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lp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52920" y="2124000"/>
              <a:ext cx="12952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ἀλφ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48200" y="2124000"/>
              <a:ext cx="13017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49960" y="2124000"/>
              <a:ext cx="17557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 as in 'hat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05680" y="2124000"/>
              <a:ext cx="1057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280" y="259560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4280" y="259560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1320" y="259560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52920" y="259560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Βη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8200" y="259560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9960" y="259560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s English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05680" y="259560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280" y="3065400"/>
              <a:ext cx="1143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14280" y="3065400"/>
              <a:ext cx="10670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1320" y="3065400"/>
              <a:ext cx="13716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G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2920" y="3065400"/>
              <a:ext cx="1295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γαμμ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48200" y="3065400"/>
              <a:ext cx="1301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9960" y="3065400"/>
              <a:ext cx="17557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hard g as in 'get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5680" y="3065400"/>
              <a:ext cx="10573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280" y="3795840"/>
              <a:ext cx="11430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14280" y="3795840"/>
              <a:ext cx="1067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1320" y="3795840"/>
              <a:ext cx="1371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Del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2920" y="3795840"/>
              <a:ext cx="12952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δελ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8200" y="3795840"/>
              <a:ext cx="13017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49960" y="3795840"/>
              <a:ext cx="1755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s English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5680" y="3795840"/>
              <a:ext cx="1057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280" y="4257720"/>
              <a:ext cx="1143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4280" y="4257720"/>
              <a:ext cx="1067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1320" y="4257720"/>
              <a:ext cx="1371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Epsil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2920" y="425772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ἐψιλο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48200" y="4257720"/>
              <a:ext cx="1301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49960" y="4257720"/>
              <a:ext cx="175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short e as in 'met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5680" y="4257720"/>
              <a:ext cx="1057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280" y="495936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4280" y="495936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1320" y="495936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Z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2920" y="495936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ζη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8200" y="495936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9960" y="495936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s English 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5680" y="495936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428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132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292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820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996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568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280" y="164628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280" y="21240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28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6300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280" y="12096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80" y="542916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0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γγ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182"/>
          <p:cNvGrpSpPr/>
          <p:nvPr/>
        </p:nvGrpSpPr>
        <p:grpSpPr>
          <a:xfrm>
            <a:off x="5676840" y="5500800"/>
            <a:ext cx="2895840" cy="1189080"/>
            <a:chOff x="5676840" y="5500800"/>
            <a:chExt cx="2895840" cy="1189080"/>
          </a:xfrm>
        </p:grpSpPr>
        <p:sp>
          <p:nvSpPr>
            <p:cNvPr id="118" name=""/>
            <p:cNvSpPr/>
            <p:nvPr/>
          </p:nvSpPr>
          <p:spPr>
            <a:xfrm>
              <a:off x="5676840" y="5500800"/>
              <a:ext cx="838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5280" y="5500800"/>
              <a:ext cx="533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48440" y="5500800"/>
              <a:ext cx="4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5640" y="5500800"/>
              <a:ext cx="30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10560" y="550080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91440" y="5500800"/>
              <a:ext cx="38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6840" y="5897520"/>
              <a:ext cx="838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Sh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5280" y="5897520"/>
              <a:ext cx="533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8440" y="5897520"/>
              <a:ext cx="457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05640" y="5897520"/>
              <a:ext cx="30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0560" y="5897520"/>
              <a:ext cx="380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1440" y="5897520"/>
              <a:ext cx="381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6292800"/>
              <a:ext cx="83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Lo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15280" y="6292800"/>
              <a:ext cx="533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8440" y="6292800"/>
              <a:ext cx="457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5640" y="629280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10560" y="6292800"/>
              <a:ext cx="380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91440" y="6292800"/>
              <a:ext cx="381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152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8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056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1056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91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76840" y="589752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76840" y="6292800"/>
              <a:ext cx="8384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768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726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76840" y="550080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76840" y="668988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8A9-ECF2-4A9F-BEBD-BB01A2EE66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6109-802C-45AA-BCC5-2F98E41A77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316" name=""/>
          <p:cNvGraphicFramePr/>
          <p:nvPr/>
        </p:nvGraphicFramePr>
        <p:xfrm>
          <a:off x="71280" y="1209600"/>
          <a:ext cx="8991720" cy="421956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371600"/>
                <a:gridCol w="1295280"/>
                <a:gridCol w="1301760"/>
                <a:gridCol w="1755720"/>
                <a:gridCol w="1057320"/>
              </a:tblGrid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p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λφ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as in 'ha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γαμ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 g as in 'g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ελ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 e as in 'm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5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γγ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000680" y="5500800"/>
          <a:ext cx="2895480" cy="118908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457200"/>
                <a:gridCol w="304560"/>
                <a:gridCol w="381240"/>
                <a:gridCol w="380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Slide Number Placeholder 8"/>
          <p:cNvSpPr/>
          <p:nvPr/>
        </p:nvSpPr>
        <p:spPr>
          <a:xfrm>
            <a:off x="7010280" y="6286680"/>
            <a:ext cx="19908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88B7-982A-4FAC-BC21-C660CADF023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42920" y="1467000"/>
          <a:ext cx="8839080" cy="2819160"/>
        </p:xfrm>
        <a:graphic>
          <a:graphicData uri="http://schemas.openxmlformats.org/drawingml/2006/table">
            <a:tbl>
              <a:tblPr/>
              <a:tblGrid>
                <a:gridCol w="2313000"/>
                <a:gridCol w="2477880"/>
                <a:gridCol w="4048200"/>
              </a:tblGrid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n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sent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baseline="40000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bove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 and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;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2"/>
          <p:cNvSpPr/>
          <p:nvPr/>
        </p:nvSpPr>
        <p:spPr>
          <a:xfrm>
            <a:off x="428760" y="4572000"/>
            <a:ext cx="7715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nal vowel of a word normally dropped (replaced with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if next word begins with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α ἐγω                ἀλλ’ ἐγ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 PUNCTU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74" name="Right Arrow 6"/>
          <p:cNvSpPr/>
          <p:nvPr/>
        </p:nvSpPr>
        <p:spPr>
          <a:xfrm>
            <a:off x="3824280" y="593568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F5C52B17-8326-4CFD-84E1-0325C7A6672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81000" y="1143000"/>
          <a:ext cx="8991720" cy="38955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ἠ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 e as in 'ob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y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ω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s in 'hi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ππ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b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αμβδ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24" name="Rectangle 5"/>
          <p:cNvSpPr/>
          <p:nvPr/>
        </p:nvSpPr>
        <p:spPr>
          <a:xfrm>
            <a:off x="285840" y="5084640"/>
            <a:ext cx="91440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Pronunciation of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varies - some say 'b</a:t>
            </a:r>
            <a:r>
              <a:rPr b="0" lang="en-GB" sz="1700" spc="-1" strike="noStrike" u="sng">
                <a:solidFill>
                  <a:srgbClr val="ffffff"/>
                </a:solidFill>
                <a:uFillTx/>
                <a:latin typeface="Arial"/>
              </a:rPr>
              <a:t>ea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r' or 'hon</a:t>
            </a:r>
            <a:r>
              <a:rPr b="0" lang="en-GB" sz="1700" spc="-1" strike="noStrike" u="sng">
                <a:solidFill>
                  <a:srgbClr val="ffffff"/>
                </a:solidFill>
                <a:uFillTx/>
                <a:latin typeface="Arial"/>
              </a:rPr>
              <a:t>ey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Gent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ι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can sometimes behave as a consonant when it begins a wo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κ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(k) and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χ</a:t>
            </a: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(kh).</a:t>
            </a: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8"/>
          <p:cNvSpPr/>
          <p:nvPr/>
        </p:nvSpPr>
        <p:spPr>
          <a:xfrm>
            <a:off x="7000920" y="6278400"/>
            <a:ext cx="204480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2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81000" y="1170000"/>
          <a:ext cx="8991720" cy="361620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ic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ὀμικρ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 o as in 'n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 or 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or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γ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30" name="Rectangle 253"/>
          <p:cNvSpPr/>
          <p:nvPr/>
        </p:nvSpPr>
        <p:spPr>
          <a:xfrm>
            <a:off x="104760" y="4824360"/>
            <a:ext cx="86104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SzPct val="114000"/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ν</a:t>
            </a: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looks like an English v but is an 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ῥ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should really be ‘aspirated’ (i.e. pronounced 'rh'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looks like an English p but is an r (the Greek p is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π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igma is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rmally, but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ς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if it is the last letter in a wo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6"/>
          <p:cNvSpPr/>
          <p:nvPr/>
        </p:nvSpPr>
        <p:spPr>
          <a:xfrm>
            <a:off x="7000920" y="6286680"/>
            <a:ext cx="20001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9C2DDBE5-267D-4F9B-8CA6-12D6C98274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81000" y="1143000"/>
          <a:ext cx="8991720" cy="38307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 or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 or k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 as in lo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in li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ὠμεγ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 o as in 't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35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14200" y="5159520"/>
            <a:ext cx="86439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κ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χ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υ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has become a y in English words derived from Gre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0A4C5B04-5B75-4429-A233-C344A8FEFD1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41" name="Rectangle 5"/>
          <p:cNvSpPr/>
          <p:nvPr/>
        </p:nvSpPr>
        <p:spPr>
          <a:xfrm>
            <a:off x="428760" y="4541760"/>
            <a:ext cx="74293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63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δ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ζ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θ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λ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ξ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tretch above the line (and the central stroke of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φ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ψ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in many people's handwriting). Contrary to English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κ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τ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do no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γ, ζ, η, μ, ξ, ρ, ς, φ, χ</a:t>
            </a:r>
            <a:r>
              <a:rPr b="0" lang="el-GR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 ψ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have 'tails' which stretch below the li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285840" y="2179800"/>
            <a:ext cx="857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ffffff"/>
                </a:solidFill>
                <a:latin typeface="Gentium"/>
              </a:rPr>
              <a:t>αβγδεζηθικλμνξοπρσςτυφχψω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8"/>
          <p:cNvSpPr/>
          <p:nvPr/>
        </p:nvSpPr>
        <p:spPr>
          <a:xfrm>
            <a:off x="357120" y="2513160"/>
            <a:ext cx="821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10"/>
          <p:cNvSpPr/>
          <p:nvPr/>
        </p:nvSpPr>
        <p:spPr>
          <a:xfrm>
            <a:off x="357120" y="2844720"/>
            <a:ext cx="821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015A46C8-2E53-41FE-82E2-9B08EB27F7A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"/>
          <p:cNvSpPr/>
          <p:nvPr/>
        </p:nvSpPr>
        <p:spPr>
          <a:xfrm>
            <a:off x="1143000" y="3143160"/>
            <a:ext cx="6572160" cy="10000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49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REATH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24000" y="1319040"/>
          <a:ext cx="8534160" cy="1324080"/>
        </p:xfrm>
        <a:graphic>
          <a:graphicData uri="http://schemas.openxmlformats.org/drawingml/2006/table">
            <a:tbl>
              <a:tblPr/>
              <a:tblGrid>
                <a:gridCol w="2286000"/>
                <a:gridCol w="1752480"/>
                <a:gridCol w="1295280"/>
                <a:gridCol w="3200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‘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γιο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gios - holy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oot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ο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ngelos - ang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Rectangle 5"/>
          <p:cNvSpPr/>
          <p:nvPr/>
        </p:nvSpPr>
        <p:spPr>
          <a:xfrm>
            <a:off x="1143000" y="3286080"/>
            <a:ext cx="6500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ry Greek vowel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at the beginning of a word must have a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57120" y="4214880"/>
            <a:ext cx="81439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reathings are written on top -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ἀ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ἁ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ἐ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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ἑ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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ἠ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ἡ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ἰ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ἱ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ὀ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ὁ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ὐ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ὑ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ὠ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ὡ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 breathings are not optional just because they are not pronou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ρ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e first letter, it also must carry a rough breathing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ῥ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797434B0-9395-4884-B962-AE20ADAC97A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56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PITAL LET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428760" y="2357280"/>
            <a:ext cx="8358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ffffff"/>
                </a:solidFill>
                <a:latin typeface="Gentium"/>
              </a:rPr>
              <a:t>Η, Ρ, Υ, Χ </a:t>
            </a:r>
            <a:r>
              <a:rPr b="0" lang="en-GB" sz="5200" spc="-1" strike="noStrike">
                <a:solidFill>
                  <a:srgbClr val="ffffff"/>
                </a:solidFill>
                <a:latin typeface="Arial"/>
              </a:rPr>
              <a:t>vs. English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ffffff"/>
                </a:solidFill>
                <a:latin typeface="Gentium"/>
              </a:rPr>
              <a:t>Γ, Δ, Μ, Ξ, Σ, Ω </a:t>
            </a:r>
            <a:r>
              <a:rPr b="0" lang="en-GB" sz="5200" spc="-1" strike="noStrike">
                <a:solidFill>
                  <a:srgbClr val="ffffff"/>
                </a:solidFill>
                <a:latin typeface="Arial"/>
              </a:rPr>
              <a:t>vs. lower cas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2D244FF9-C525-4395-B4AD-75124A682FF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 DIPHTHONGS AND IOTA SUB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362" name=""/>
          <p:cNvGraphicFramePr/>
          <p:nvPr/>
        </p:nvGraphicFramePr>
        <p:xfrm>
          <a:off x="1071720" y="1876320"/>
          <a:ext cx="7035480" cy="4052880"/>
        </p:xfrm>
        <a:graphic>
          <a:graphicData uri="http://schemas.openxmlformats.org/drawingml/2006/table">
            <a:tbl>
              <a:tblPr/>
              <a:tblGrid>
                <a:gridCol w="1049040"/>
                <a:gridCol w="5986440"/>
              </a:tblGrid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ai' as in Th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, or the English word 'ey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ei' as in v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, or the 'ay' in s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i as in 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ui' as in q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u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au' as in s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kraut, or the 'ow' in h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ou' as in s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, or the 'oo' in 'h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/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eu' as in f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, or the English word 'you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- the iota subscript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ῃ ῳ ᾳ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AF6E7EE1-F7D4-4724-9E61-24F7AA29F10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981000" y="2593800"/>
            <a:ext cx="7162920" cy="167796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f"/>
                </a:solidFill>
                <a:latin typeface="Gentium"/>
              </a:rPr>
              <a:t>Breathings – Essentia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f"/>
                </a:solidFill>
                <a:latin typeface="Gentium"/>
              </a:rPr>
              <a:t>Accents – Unimportan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67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ACCENTS AND STR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F9585E37-CDEB-4BC4-A805-63B46339303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5:43:53Z</dcterms:created>
  <dc:creator>Sarah</dc:creator>
  <dc:description/>
  <dc:language>en-US</dc:language>
  <cp:lastModifiedBy>Sarah</cp:lastModifiedBy>
  <dcterms:modified xsi:type="dcterms:W3CDTF">2009-03-02T22:22:50Z</dcterms:modified>
  <cp:revision>66</cp:revision>
  <dc:subject/>
  <dc:title>Slide 1</dc:title>
</cp:coreProperties>
</file>