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2D6-DBDE-4D46-9053-CA2F5AC2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B02-082E-4C02-AAE1-C6D41E2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A3A-42C9-4BBB-8EA3-B3809C3B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697-4D00-4395-A389-5C822314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80F7-A61D-410F-AF15-378E592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2F7-D559-4A35-851A-904AA3A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A56-AEE8-40AA-BE9D-DAF25888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2519-083B-4343-8ECC-4B3E1EC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C3ED-5FC6-4B10-BCC8-5C22FBE0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5E9D-3891-414E-AEFA-A77ED91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938-82C7-4A9A-833E-9BDFA73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A16-643D-4CE1-832C-7B7113C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538-2A45-4F55-A84E-CBD77F3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3981-2EED-4A8F-99BF-7C4E3416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71D9-A659-4C91-8968-1C07794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6158-CED3-480E-A863-B9E66684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0325-648A-4E84-BD03-B96DC38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DD9-B843-4FE5-846B-CE2ECF75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F94-7AF1-4981-94B9-4CEF724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420-BF38-4915-9ACE-1D1723E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02B-7368-4C8F-8D86-68636E9F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E9A-46B9-4A1B-B6B9-A4E8D62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1A7-5A5E-4CF7-B168-3CB27ED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1C9-6288-49A5-93D0-11F756E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A515-E664-4B89-81FB-699254BFDB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C7C0-ACE7-48C1-941A-4961B135B0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D4B7761-3256-437C-9E3A-57EED8338E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CEA0D98-E3C3-4905-9236-939B1F552E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F91D42A-D0D3-45AB-92B8-C783F78C0DB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8BFD8277-C543-48A1-A135-07BC4234E8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16E0878-ABBD-4A03-AFC3-33CABB215B9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5AD4323-CF0F-47F3-A304-924AD1F0ACA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40FB283-5179-4E19-A092-25F5B6AEDD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D133A54-6419-4F27-A68F-D2F77A8A40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 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7AD809B-2FE6-42A0-9D7B-041E644EEE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C41B79F-E983-47E9-8699-423E52CD78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A4B5CD6-F393-4669-96B5-074AAF3320A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, is it completed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FA59D48-4A0D-4B74-8CAA-8A3856D290E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9FEDCD0-7B50-4521-94C2-7D6154CBBD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910C4E4-8A36-4974-9BFF-E746AB6D85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8E07545-E2BE-4BF9-8CE2-52C8CA790E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99EEDFB-55E1-46B0-9D29-20E5E226D3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C3BE8DF-3D3A-481B-A55D-9D5DADB7CA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n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DC406D6-DAAB-4534-B5D3-5506FC1F7F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C08BD15-AEAD-402D-B11B-F6E68EA476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8-09-07T14:27:48Z</dcterms:modified>
  <cp:revision>55</cp:revision>
  <dc:subject/>
  <dc:title>Slide 1</dc:title>
</cp:coreProperties>
</file>