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768-0868-4652-A629-167B7936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F13-56A6-45F4-999A-CDB281C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B2B-48CD-4822-824D-C9ADDA8D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451-53D8-43A6-AC4B-F0407DB0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37DF-A20C-41B6-9756-F52A4714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A7D-6B5E-4965-8376-4B62319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5E36-2AFF-4270-A39B-DA5A1D12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733-4429-4493-B4D3-5E96BC5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831A-443F-4480-BBFD-4BA8A109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5A9E-A412-4064-962C-D216817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0709-896F-4BFC-8E65-AB791A4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844-2789-46F9-B4B1-42712CAB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287F-C291-48F8-9FA0-636A1DA4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C58-6ED8-48FA-A35D-E4073F8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928-A5B9-47B5-9BB3-DAA9D01E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BA4-5AC9-486B-B369-AC78E306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6992-85E0-47A2-B8D0-4A72BE70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228-8A1C-41D4-BC27-527DB24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45B-F952-41BC-B058-A7DFAB9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0B8-30F9-412F-A185-A095B2F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547-6F97-4199-8C6B-9E9A992F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C00-2A02-4B18-9EB8-80B0FD7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85F-196D-4848-9534-FC24783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61D-B3CD-48D2-B44B-617A6F7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D85A-59D1-4098-95E5-55C1C1CF11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7B9-4907-4299-89CF-5426D94E49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0599DE80-3007-47DC-AB81-F7101DBF60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DA8CF86-43CD-458F-A240-EDE6E675D9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2A7717D-49B5-4F8C-8E66-CCB3B05F5A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1FAEC64E-B5EC-4768-9E25-FDF9871BBA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efore end, or s, x,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E22055D1-FE03-4B2A-B191-89F215303E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628560" y="3506760"/>
            <a:ext cx="7801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 φιλεις τον κυριον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ry! You love the l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046984E8-37E3-492C-95AD-E2065BA3E0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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hsouj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B4AFD940-D74A-4B67-9A56-E437C4902D9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A3C2D9A2-EA74-44BA-9EF3-A573530D126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φιλει </a:t>
            </a:r>
            <a:r>
              <a:rPr b="1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ster lov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ὐ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E86FA4CB-DF74-424A-B644-27489D79A7E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C2428F3-DD5E-4AAF-B879-41AD2CF34D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DC91803-FEAF-4A06-8977-494E8F1EA3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υσιν τῳ θεὡ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6FD9D14F-BF58-4A50-B090-3932561CFF4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6E7A6838-365D-42EF-9997-B092580E0E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1D366C9-130B-46A0-9864-FC6A2FBC16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A525FB8-F6B2-4F26-892E-081E57683A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'children keep the law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τηρουσιν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3 The feminine and the neuter of the definite article;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EB458C62-3390-43E4-A47A-33CF6C7601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8-08-26T14:12:26Z</dcterms:modified>
  <cp:revision>48</cp:revision>
  <dc:subject/>
  <dc:title>Slide 1</dc:title>
</cp:coreProperties>
</file>