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F2C-DAC2-4015-88F2-CCAAD040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41A-65C1-49CD-8689-47D80558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6EB-967A-4403-A9FA-513784DC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C49-BAD0-481A-A173-DDD2B30C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37D-BE34-4E01-AEA3-D3B88BCA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C2D-4145-42EA-B622-E165AB76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A39-4FBB-4A9D-ACC9-1F45C8D0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40C-1086-4FA7-93CA-F16AB962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FC0-5817-46F0-B355-8A78EFED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02D-B372-415F-99D0-5F3B83AA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F11-E8BD-429F-B4FC-103FA8E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300-95AD-425C-B64B-9C8E36C5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A2E2-CA1E-4554-9C65-BD343439343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659213EC-5210-4571-8BBB-BFF0E7C6E29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46200" y="1486080"/>
          <a:ext cx="6008760" cy="1006200"/>
        </p:xfrm>
        <a:graphic>
          <a:graphicData uri="http://schemas.openxmlformats.org/drawingml/2006/table">
            <a:tbl>
              <a:tblPr/>
              <a:tblGrid>
                <a:gridCol w="3606840"/>
                <a:gridCol w="24019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υνα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I am able (to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ει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I li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θη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I s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ἰδ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I kn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24"/>
          <p:cNvSpPr/>
          <p:nvPr/>
        </p:nvSpPr>
        <p:spPr>
          <a:xfrm>
            <a:off x="0" y="321480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state arising from past 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Perfect e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st:      Past state arising from action in further 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Pluperfect end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44CD5259-34F0-4391-8D41-1409F995508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57120" y="1714680"/>
            <a:ext cx="822960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ξεστ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irregular and is normally followed by a dative. For example: Matt 14.4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ὐκ ἐξεστ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σο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 ἐχειν αὐτ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'It is not lawfu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or 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o have her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hen translating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ε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t is often sensible to rephrase 'it is necessary' (which one hardly ever says in English) to some form of 'must'. (N.B. there is no word in Greek for 'must'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ε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used inste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2286000" y="1104840"/>
            <a:ext cx="4572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8.2.2 Result Claus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219320" y="1714680"/>
            <a:ext cx="6705360" cy="627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500" spc="-1" strike="noStrike">
                <a:solidFill>
                  <a:srgbClr val="ffffff"/>
                </a:solidFill>
                <a:latin typeface="Gentium"/>
              </a:rPr>
              <a:t>ὡστε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+ Infinitive = resu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2920" y="2401920"/>
            <a:ext cx="880092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Matthew 15.30-1: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ἐθεραπευσεν αὐτους∙ </a:t>
            </a: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</a:rPr>
              <a:t>ὡστε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τον ὀχλον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</a:rPr>
              <a:t>θαυμασαι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nd he healed them,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with the result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that the crowd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wa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amaze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Mark 15.5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: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δε Ἰησους οὐκετι οὐδεν ἀπεκριθη, </a:t>
            </a: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</a:rPr>
              <a:t>ὡστε θαυμαζειν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τον Πιλατον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But Jesus answered nothing further,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with the result that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ilate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was amaze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04FF9D4C-5567-4232-9AAA-F3840127ED0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2057400" y="1143000"/>
            <a:ext cx="502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8.2.3 Purpos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85840" y="1643040"/>
            <a:ext cx="857232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de 14: 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δου ἠλθεν κυρι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ποιησ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ρισιν κατα παντ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hold, the Lord is coming 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execu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lit: do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dgment against 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3.14-1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ησεν δωδεκα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ἱνα ὠσ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μετ’ αὐτου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ἱνα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ἀποστελλ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αὐτου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κυρυσσ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χ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ξουσια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κβαλλ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α δαιμονι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He made (the) twel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 order (for them) to b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ith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m and so that he might send them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prea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uthorit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cast ou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015E0803-3A19-465C-9374-4ED68C56161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FA974419-193E-4343-A1DC-EEF5C06AEE8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828800" y="130032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8.2.4 Articular Infinitiv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01760" y="2017800"/>
          <a:ext cx="9028080" cy="914400"/>
        </p:xfrm>
        <a:graphic>
          <a:graphicData uri="http://schemas.openxmlformats.org/drawingml/2006/table">
            <a:tbl>
              <a:tblPr/>
              <a:tblGrid>
                <a:gridCol w="2384280"/>
                <a:gridCol w="525600"/>
                <a:gridCol w="6118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ινει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jud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 κρινειν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he activity of/the fact of) judg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θιει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e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 ἐσθιειν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he activity of/the fact of) ea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28760" y="3286080"/>
          <a:ext cx="8196120" cy="2286000"/>
        </p:xfrm>
        <a:graphic>
          <a:graphicData uri="http://schemas.openxmlformats.org/drawingml/2006/table">
            <a:tbl>
              <a:tblPr/>
              <a:tblGrid>
                <a:gridCol w="3340080"/>
                <a:gridCol w="4856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τ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acc.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 view to / aiming at / leading 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ρ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ring / whi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A8BFB29C-7212-4116-87D3-E03D81B040F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19040" y="1357200"/>
            <a:ext cx="815364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Jas. 4.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ὐκ ἐχετ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δια το μη αἰτεισθαι ὑμ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do not ha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cause you do not as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lit: on account of the fact of you not as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tt. 26.32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μετα δε το ἐγερθηναι 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ροαξω ὑμας εἰς την Γαλιλαι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fter I have been rais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 will go head of you into Galil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lit: after the activity of me being rais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EE68BDAE-1469-4C8F-B416-1056F226C17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42920" y="1332000"/>
            <a:ext cx="8724960" cy="49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 Cor. 1.4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ρακαλων ἡμας ἐπι πασῃ τῃ θλιψει ἡμω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εἰς το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δυνασθαι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ἡμα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παρακαλειν τους ἐν πασῃ θλιψ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one encouraging us in all our suffering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o that we might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ble t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courage those who are in any suffering. (lit: with a view to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ctivity of us being 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l. 2.12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προ του γαρ ἐλθειν τινα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ἀπο Ἰακωβου μετα των ἐθνω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υνησθι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or before some people cam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rom James, he used to ea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th the Gentiles. (lit: before the fact of some people co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4.4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γενετο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ν τῳ σπειρει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ὃ μεν ἐπεσεν παρα την ὁδ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s he sow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me fell alongside the path. (lit: in th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ivity of sowing 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3D75BEDC-DBD4-4D29-B97A-03768765A42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3 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295280" y="1500120"/>
            <a:ext cx="655344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Person Imperatives = 'Let …'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8280" y="2822400"/>
          <a:ext cx="8929800" cy="1951200"/>
        </p:xfrm>
        <a:graphic>
          <a:graphicData uri="http://schemas.openxmlformats.org/drawingml/2006/table">
            <a:tbl>
              <a:tblPr/>
              <a:tblGrid>
                <a:gridCol w="928800"/>
                <a:gridCol w="1428840"/>
                <a:gridCol w="1571400"/>
                <a:gridCol w="1643400"/>
                <a:gridCol w="1714320"/>
                <a:gridCol w="16430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t 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ss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t 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τ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εσθ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σασθ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τ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εσθ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σασθ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343080" y="1204920"/>
            <a:ext cx="8429400" cy="18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ndings are very distinctive: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ωσα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u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tandard distinctive features are visible: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the 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orist Active and Middle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the Aorist Pass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57120" y="3271680"/>
            <a:ext cx="835812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4.23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τις ἐχει ὠτα ἀκουειν ἀκουετ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f someone has ears to hear, he should h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m. 6.12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οὐν βασιλευετω ἡ ἁμαρτια ἐν τῳ θνητῳ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μων σωμα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herefore sin should not reign in your mortal bo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8E77A4B5-A8E0-4AD6-BD86-7D6A5E4F81F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3 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7D3D8F3F-F7BD-44A2-B9A1-DB1460A631E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INCIPAL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66760" y="1571760"/>
          <a:ext cx="8610480" cy="4114800"/>
        </p:xfrm>
        <a:graphic>
          <a:graphicData uri="http://schemas.openxmlformats.org/drawingml/2006/table">
            <a:tbl>
              <a:tblPr/>
              <a:tblGrid>
                <a:gridCol w="2162160"/>
                <a:gridCol w="1023840"/>
                <a:gridCol w="623880"/>
                <a:gridCol w="3106800"/>
                <a:gridCol w="169380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 Par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the parts of the Ver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M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M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ο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DA5F3F80-C607-4C06-ADAF-FF20D0EE0ED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INCIPAL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87200" y="1289160"/>
          <a:ext cx="8739360" cy="4800600"/>
        </p:xfrm>
        <a:graphic>
          <a:graphicData uri="http://schemas.openxmlformats.org/drawingml/2006/table">
            <a:tbl>
              <a:tblPr/>
              <a:tblGrid>
                <a:gridCol w="1598760"/>
                <a:gridCol w="1401840"/>
                <a:gridCol w="500040"/>
                <a:gridCol w="3357360"/>
                <a:gridCol w="18813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 Par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the parts of the Ver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α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ελυκ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ελυκ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perfec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(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ελυκ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Middle/ 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ελυμ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Μ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ελυ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perfect M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ελυ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θη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2DC3C64E-F67D-4127-BF9E-9D61FF47BE7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2280" y="1181160"/>
            <a:ext cx="5486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υναμαι, καθημαι, κειμ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6200" y="1886040"/>
          <a:ext cx="8894880" cy="4114800"/>
        </p:xfrm>
        <a:graphic>
          <a:graphicData uri="http://schemas.openxmlformats.org/drawingml/2006/table">
            <a:tbl>
              <a:tblPr/>
              <a:tblGrid>
                <a:gridCol w="1487520"/>
                <a:gridCol w="1500480"/>
                <a:gridCol w="1271520"/>
                <a:gridCol w="1612800"/>
                <a:gridCol w="1623960"/>
                <a:gridCol w="1398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σθα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σθα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σθα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μεν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μεν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μεν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EE999360-8551-4A5F-92C8-23FD2EA6EC6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INCIPAL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2813040"/>
          <a:ext cx="9205920" cy="3322800"/>
        </p:xfrm>
        <a:graphic>
          <a:graphicData uri="http://schemas.openxmlformats.org/drawingml/2006/table">
            <a:tbl>
              <a:tblPr/>
              <a:tblGrid>
                <a:gridCol w="1478160"/>
                <a:gridCol w="1220760"/>
                <a:gridCol w="4125960"/>
                <a:gridCol w="2381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ls you that, for exampl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. Imperfect Pass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λομ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Future Act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ι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. Aorist Active 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nd 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ding points out that it has a 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κ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fect Participl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κ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Perfect Pass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Future Pass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ηθησομεθ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57120" y="1297080"/>
          <a:ext cx="8429760" cy="1158840"/>
        </p:xfrm>
        <a:graphic>
          <a:graphicData uri="http://schemas.openxmlformats.org/drawingml/2006/table">
            <a:tbl>
              <a:tblPr/>
              <a:tblGrid>
                <a:gridCol w="1405080"/>
                <a:gridCol w="1403280"/>
                <a:gridCol w="1407960"/>
                <a:gridCol w="1403640"/>
                <a:gridCol w="1455480"/>
                <a:gridCol w="13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κ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6426EF69-929D-4207-9260-CC7E10DE574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SPECT AND TIME IN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2920" y="1214280"/>
            <a:ext cx="97250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6840"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ree time distinctions: future, present,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6840"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ree 'aspects'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cess – the action is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defined – the action is considered in itself,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out reference to continuation or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leted – the action is compl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6840"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tenses function differently in the different mo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ives – time and 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rticiples – relative time (relative to the main ver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 moods – aspect on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0A9D3117-EBB7-483E-94C4-72502247D8A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SPECT AND TIME IN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0440" y="1230480"/>
          <a:ext cx="8763120" cy="3127320"/>
        </p:xfrm>
        <a:graphic>
          <a:graphicData uri="http://schemas.openxmlformats.org/drawingml/2006/table">
            <a:tbl>
              <a:tblPr/>
              <a:tblGrid>
                <a:gridCol w="1430280"/>
                <a:gridCol w="1231920"/>
                <a:gridCol w="495360"/>
                <a:gridCol w="1666800"/>
                <a:gridCol w="1994040"/>
                <a:gridCol w="194472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(or Undefin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ultane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223"/>
          <p:cNvSpPr/>
          <p:nvPr/>
        </p:nvSpPr>
        <p:spPr>
          <a:xfrm>
            <a:off x="142920" y="4387680"/>
            <a:ext cx="878688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ultaneous/sequence is very similar to process/undefin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Indicative can be dominated by aspect, (e.g. Romans 3.23: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παντες γαρ ἡματον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but normally time (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alongsid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spect) is very importa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ugment marks out past time – hence it occurs in the Imperfect and Aorist in th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dicati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9CA37DD6-5125-4437-8F51-9970CEA8F33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52560" y="2057400"/>
          <a:ext cx="7238880" cy="352116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δε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δ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143"/>
          <p:cNvSpPr/>
          <p:nvPr/>
        </p:nvSpPr>
        <p:spPr>
          <a:xfrm>
            <a:off x="762120" y="1371600"/>
            <a:ext cx="251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ἰδ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1705CF07-0E0A-4946-9CB5-90641160994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4120" y="1531800"/>
            <a:ext cx="8358120" cy="19177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of the forms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ἰδ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easily confused with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δ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ρα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I see).  Remember that augments are lost in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7240" y="3840120"/>
          <a:ext cx="7715520" cy="1874880"/>
        </p:xfrm>
        <a:graphic>
          <a:graphicData uri="http://schemas.openxmlformats.org/drawingml/2006/table">
            <a:tbl>
              <a:tblPr/>
              <a:tblGrid>
                <a:gridCol w="2598840"/>
                <a:gridCol w="1758960"/>
                <a:gridCol w="1643040"/>
                <a:gridCol w="1714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e – 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δ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ἰδ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ἰδ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ᾐδ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(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δε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δ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7D61BD5C-DACE-46E1-8285-C7F25AB1544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4200" y="1474920"/>
            <a:ext cx="892980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s. 2.14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υνατ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ἡ πιστις σωσαι αὐ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th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o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bl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save him,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2.34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εν ὁ κυριος τῳ κυριῳ μου∙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θ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κ δεξιων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ord said to my lord,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i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t my right.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28.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κ ἐστιν ὡδε, ἠγερθη γαρ καθως εἰπεν∙ δευτ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δετε τον τοπον ὁπου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κειτ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is not here, for he has been raised just as he said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e see the place wher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l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BC8B3993-FDA2-4A7F-8DB9-B6EFFA177CB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42920" y="1177920"/>
            <a:ext cx="877248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ev. 4.2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ὐθεως ἐγενομην ἐν πνευματι, και ἰδου θρονος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ἐκειτο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ἐν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τῳ οὐρανῳ, και ἐπι τον θρονον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καθημενο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mmediately I was in the spirit, and behold a throne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lying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in heaven, and one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sitting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on the thron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3 John 12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και ἡμεις δε μαρτυρουμεν, και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οἰδας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ὁτι ἡ μαρτυρια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ἡμων ἀληθης ἐστι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We also testify, and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you know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that our testimony is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ru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2 Cor. 4.14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δοτες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ὁτι ὁ ἐγειρας τνο κυριον Ἰησουν και ἡμας συν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Ἰησου ἐγερεῖ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Knowing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that the one who raised the Lord Jesus will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aise us also with Jesu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E0F9A115-B870-43C4-9916-AD367D1D4BD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71600" y="1643040"/>
            <a:ext cx="6400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8.2.1  After certain verb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5680" y="2849400"/>
          <a:ext cx="9001080" cy="1508400"/>
        </p:xfrm>
        <a:graphic>
          <a:graphicData uri="http://schemas.openxmlformats.org/drawingml/2006/table">
            <a:tbl>
              <a:tblPr/>
              <a:tblGrid>
                <a:gridCol w="1379520"/>
                <a:gridCol w="3121200"/>
                <a:gridCol w="1233360"/>
                <a:gridCol w="3267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(was) necess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ξεστ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law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ε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τ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intend / am about (t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51774FF1-9750-4D9E-9A58-679F5F8BD99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42920" y="1143000"/>
            <a:ext cx="878688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ev. 1.19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γραψον οὐν ἁ εἰδες και ἁ εἰσιν και ἁ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μελλει γενεσθαι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μετα ταυτα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refore write what you see and what is and what is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about to happen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after these thing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Gal. 4.21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λεγετε μοι, οἱ ὑπο νομον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θελοντες εἰναι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, τον νομον οὐκ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ἀκουετε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ell me, you who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wish to b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under the law, don't you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listen to the law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1 Cor. 10.23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παντα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ἐξεστι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ἀλλ’ οὐ παντα οἰκοδομει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verything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is permitte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but not everything builds up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638360" y="1928880"/>
            <a:ext cx="586728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'subject of an Infinitive' goes in the accus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14200" y="1214280"/>
            <a:ext cx="900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n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messeng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depart –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θελ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 ἀγγελο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πελθ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98280" y="3143160"/>
            <a:ext cx="900144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8.3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 υἱο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υ ἀνθρωπου πολλα παθ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f man must suffer greatly (lit: it is necessary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f man to suffer greatl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m. 16.19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θελω δ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ὑμ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σοφους εἰναι εἰς το ἀγαθ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 wan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o be wise towards the good 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C79CF94F-FD82-406D-9480-03243A2B32A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1:42:24Z</dcterms:created>
  <dc:creator>Sarah</dc:creator>
  <dc:description/>
  <dc:language>en-US</dc:language>
  <cp:lastModifiedBy>Sarah</cp:lastModifiedBy>
  <dcterms:modified xsi:type="dcterms:W3CDTF">2009-03-20T14:12:24Z</dcterms:modified>
  <cp:revision>52</cp:revision>
  <dc:subject/>
  <dc:title>Slide 1</dc:title>
</cp:coreProperties>
</file>