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2FC-0211-4012-805E-CE33E901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CF0D-8EAE-476E-976D-919712A3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008-D68A-4593-9A42-4B929F60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ED7-1E97-4728-B6F7-B03308C0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F0F0-421C-4976-9C00-0C019193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0FA0-B994-4555-BB39-117BEF2B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75C1-EDAF-421B-80E2-118206D5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4048-4F8A-4FDD-9C0B-975246B1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7174-89C9-49FD-AF92-7165261C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ACEA-C9B7-4D8A-83E6-17E41690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A911-3AC4-49FF-9FD9-3E2138B4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E10-DEE1-4AFE-B98D-B93FDF8F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8AB3-51C9-4608-B3CE-3ADA7A6C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809D-C428-4C98-AA2F-4122C381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30F0-9C89-4C6D-B77D-93EC0EF5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AB4F-78DB-4534-A885-02D314A4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BC01-F8A4-4D4D-8B38-4B604761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2E9-DE75-4ED9-92DD-BFD1E3B3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DA5-E6C2-4DD5-A80A-C4021398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B60-43FB-45F5-A666-FE35EDDC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8ED-D400-4D81-8FA0-7B3D3540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11C-EF09-4BA4-AF4D-89EB98F4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666D-2C44-4D3A-A16A-2308F7AC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4B9-6854-41BD-A5CE-D096E5C1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03E3-B404-4035-AD10-988ECEC22CB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883C-2304-4CC5-9989-EAE1CB1205F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409760" y="1258920"/>
            <a:ext cx="6324480" cy="10990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Prepositions dictate the case of the noun they prece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BF8C09E2-555E-4E95-ADA6-007AE55E8C9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70040" y="2666880"/>
          <a:ext cx="5330880" cy="3316320"/>
        </p:xfrm>
        <a:graphic>
          <a:graphicData uri="http://schemas.openxmlformats.org/drawingml/2006/table">
            <a:tbl>
              <a:tblPr/>
              <a:tblGrid>
                <a:gridCol w="2840040"/>
                <a:gridCol w="24908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osi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to, in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to, toward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πο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(away) fr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κ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 (out) fr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60280" y="2286000"/>
          <a:ext cx="8643960" cy="3713040"/>
        </p:xfrm>
        <a:graphic>
          <a:graphicData uri="http://schemas.openxmlformats.org/drawingml/2006/table">
            <a:tbl>
              <a:tblPr/>
              <a:tblGrid>
                <a:gridCol w="974880"/>
                <a:gridCol w="1604880"/>
                <a:gridCol w="6064200"/>
              </a:tblGrid>
              <a:tr h="15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oximately, around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 τον Παυλ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round Pau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rning, about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 του ἁμαρτια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concerning si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ε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ve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ερ την γη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bove the earth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behalf of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ερ του τεκν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on behalf of a chil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ο νομ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under law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y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ο του Πετρ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y Pet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22"/>
          <p:cNvSpPr/>
          <p:nvPr/>
        </p:nvSpPr>
        <p:spPr>
          <a:xfrm>
            <a:off x="762120" y="1428840"/>
            <a:ext cx="7619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A3ADFB70-B8F8-4EE5-A9C7-B8BC756BF11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762120" y="2209680"/>
            <a:ext cx="761976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y’ or ‘with’ occurs in English to indicat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instrumen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but in Greek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dat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s 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05F437D2-2441-4056-B6D7-A3F1013B50A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1143000" y="10843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2.4 Prepositions with on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2000" y="1698480"/>
          <a:ext cx="8820000" cy="4462560"/>
        </p:xfrm>
        <a:graphic>
          <a:graphicData uri="http://schemas.openxmlformats.org/drawingml/2006/table">
            <a:tbl>
              <a:tblPr/>
              <a:tblGrid>
                <a:gridCol w="1569960"/>
                <a:gridCol w="1606680"/>
                <a:gridCol w="56433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accusa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, in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, tow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π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geni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way)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κ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ut)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ωπι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(place) -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ωπιον του θεου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efore G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ξ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side -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ξω της οἰκα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outside the 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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ἑω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til - 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ἑω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until the Sabb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(time)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 σαββατο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efore Sabb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da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υν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υν αὐτοι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with th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73AFC882-3EB3-4BEB-A249-ACE09ADBBF1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73200" y="11955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2.5 Elision in pre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219320" y="188928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front of a word beginning with a vow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7640" y="2571840"/>
          <a:ext cx="7848720" cy="1371600"/>
        </p:xfrm>
        <a:graphic>
          <a:graphicData uri="http://schemas.openxmlformats.org/drawingml/2006/table">
            <a:tbl>
              <a:tblPr/>
              <a:tblGrid>
                <a:gridCol w="4753080"/>
                <a:gridCol w="309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, δια, ἐπι, κατα, μετα, παρα, ὑπ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p their final vow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ξω, περ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ρ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in unchang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49"/>
          <p:cNvSpPr/>
          <p:nvPr/>
        </p:nvSpPr>
        <p:spPr>
          <a:xfrm>
            <a:off x="1928880" y="4429080"/>
            <a:ext cx="670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δι’ αὐ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through hi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ερι ἁμαρτι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concerning si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ξ οἰκι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from the hou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508320" y="4143240"/>
            <a:ext cx="148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0C453FD2-9384-45ED-B8F2-917D4BF7BCF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6"/>
          <p:cNvSpPr/>
          <p:nvPr/>
        </p:nvSpPr>
        <p:spPr>
          <a:xfrm>
            <a:off x="457200" y="160020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 English, there are two uses of 'with' or 'by‘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2298600"/>
          <a:ext cx="8229600" cy="19684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9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indicate the means by which something happens, or an instrument or agent used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helped </a:t>
                      </a:r>
                      <a:r>
                        <a:rPr b="0" lang="en-GB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by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walking </a:t>
                      </a:r>
                      <a:r>
                        <a:rPr b="0" lang="en-GB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with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stick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hit </a:t>
                      </a:r>
                      <a:r>
                        <a:rPr b="0" lang="en-GB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by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ston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35"/>
          <p:cNvSpPr/>
          <p:nvPr/>
        </p:nvSpPr>
        <p:spPr>
          <a:xfrm>
            <a:off x="428760" y="4572000"/>
            <a:ext cx="82296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'with' in a different sense, not meaning 'by means of' but rather 'along with'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 went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wit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hi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FE36BB5A-BFC9-441F-843F-37F02135717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357120" y="928800"/>
            <a:ext cx="838224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inanimat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bject by means of which the action of the verb happens; dative - no prepos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od makes the heavens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ith a wo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ποιει τους ουρανους  λογ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wever, sometimes an instrument is expressed by the preposition 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+ d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CDB3EB6B-3A00-4DB2-9D14-FECDD188B9A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80880" y="1444680"/>
            <a:ext cx="670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Greek, ‘with’ and ‘by’ expr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239C8128-6714-40EB-A6B4-290D6892580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66680" y="2554200"/>
            <a:ext cx="904860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'With' meaning 'along with' rather than 'by means of';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μετ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or more rarely sun+ dat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depart with Peter –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ὑπαγω του Πετρ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ὁ θεος λεγει μετα τεκνων και ποιει τον κοσμον λογῳ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speak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ith childr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makes the worl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ith a wo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68120" y="1114560"/>
            <a:ext cx="7858440" cy="23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 agent is a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living be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means of which the action of the ver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ppens;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ὑπο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gospel was proclaime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y Pete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…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ὑπο του Πετρ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1409760" y="1843200"/>
            <a:ext cx="632448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Greek many words are constructed by combining a basic word with a pre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ou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= I thr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βαλλ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I throw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BBB02034-7003-4E2D-AA91-E1FA26D057D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E9A432B3-F29A-4179-8829-22ABDDC8EF6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135080"/>
            <a:ext cx="8534160" cy="51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·         In Greek you cannot always deduce the meaning of a word from its par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orce of both the verb and the preposition is preser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βαλλ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I throw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 the meaning is intensified or completed, though without the force of the preposition being clearly preser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λυ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I release 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tself means 'I untie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 the verb is given a new meaning, which is not easily connected to the force of the preposi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αγινωσκ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I read 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ινωσκ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tself means 'I know' and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ans 'upwards' or 'again'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459809E5-E966-45BE-ACA0-4B2540098EE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14200" y="1357200"/>
            <a:ext cx="871560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hen forming compounds, the rules for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elisio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f prepositions are particularly important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αγω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I lead awa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ven though a compound verb may 'contain' a preposition, the correct preposition will still be found in the sentence used in the normal wa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κ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αλλω αὐτο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κ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ς οἰκ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1FF95464-7B82-4E63-87AD-F2054B75952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00040" y="1214280"/>
            <a:ext cx="792972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gnifie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o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ifference betwee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 an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and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3500280" y="3500280"/>
            <a:ext cx="2143440" cy="1714680"/>
          </a:xfrm>
          <a:prstGeom prst="rect">
            <a:avLst/>
          </a:prstGeom>
          <a:noFill/>
          <a:ln w="25560">
            <a:solidFill>
              <a:srgbClr val="ffe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4143240" y="3954600"/>
            <a:ext cx="8575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ἐν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19"/>
          <p:cNvCxnSpPr/>
          <p:nvPr/>
        </p:nvCxnSpPr>
        <p:spPr>
          <a:xfrm>
            <a:off x="1143000" y="3785760"/>
            <a:ext cx="192960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sp>
        <p:nvSpPr>
          <p:cNvPr id="94" name="TextBox 20"/>
          <p:cNvSpPr/>
          <p:nvPr/>
        </p:nvSpPr>
        <p:spPr>
          <a:xfrm>
            <a:off x="1357200" y="3071880"/>
            <a:ext cx="18576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προ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21"/>
          <p:cNvCxnSpPr/>
          <p:nvPr/>
        </p:nvCxnSpPr>
        <p:spPr>
          <a:xfrm>
            <a:off x="6000840" y="3785760"/>
            <a:ext cx="192960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sp>
        <p:nvSpPr>
          <p:cNvPr id="96" name="TextBox 22"/>
          <p:cNvSpPr/>
          <p:nvPr/>
        </p:nvSpPr>
        <p:spPr>
          <a:xfrm>
            <a:off x="6357960" y="3084480"/>
            <a:ext cx="1857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ἀπο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23"/>
          <p:cNvCxnSpPr/>
          <p:nvPr/>
        </p:nvCxnSpPr>
        <p:spPr>
          <a:xfrm>
            <a:off x="1143000" y="4928760"/>
            <a:ext cx="292968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cxnSp>
        <p:nvCxnSpPr>
          <p:cNvPr id="98" name="Straight Arrow Connector 25"/>
          <p:cNvCxnSpPr/>
          <p:nvPr/>
        </p:nvCxnSpPr>
        <p:spPr>
          <a:xfrm>
            <a:off x="5143320" y="4928760"/>
            <a:ext cx="292932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sp>
        <p:nvSpPr>
          <p:cNvPr id="99" name="TextBox 26"/>
          <p:cNvSpPr/>
          <p:nvPr/>
        </p:nvSpPr>
        <p:spPr>
          <a:xfrm>
            <a:off x="1500120" y="4240080"/>
            <a:ext cx="18576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εἰ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7"/>
          <p:cNvSpPr/>
          <p:nvPr/>
        </p:nvSpPr>
        <p:spPr>
          <a:xfrm>
            <a:off x="6500880" y="4227480"/>
            <a:ext cx="1857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ἐκ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642960" y="1454040"/>
            <a:ext cx="800100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Eith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. Use a question word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ω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how?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υ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 - wher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ως βλεπεις τον θε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 - How do you see Go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. Rely on tone of voice; but when written, questions are marked with a question ma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εις τον θε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- You see G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εις τον θε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 - Do you see Go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37240" y="1284120"/>
            <a:ext cx="467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sking questions is simple in Gree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92D960E4-D492-4105-AE48-203618E0A77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285840" y="1481040"/>
            <a:ext cx="835812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 verb in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Indicat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which means all the verbs we have met so far) is made negative by the addition of the word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=no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fore a vowel with a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smoot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reathing this become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fore a vowel with a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roug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reathing this beca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 βλεπ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- I do not se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 ἀκουουσ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- They do not h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 εὑρισκει το τεκν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– She does not find the chil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81EBB538-E323-41DF-AA33-91221AF7692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NEG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71280" y="1179360"/>
            <a:ext cx="9072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1" lang="el-GR" sz="2900" spc="-1" strike="noStrike">
                <a:solidFill>
                  <a:srgbClr val="ffffff"/>
                </a:solidFill>
                <a:latin typeface="Gentium"/>
              </a:rPr>
              <a:t>ὁ κυριος ἀγει τον δουλον </a:t>
            </a:r>
            <a:r>
              <a:rPr b="1" lang="el-GR" sz="2900" spc="-1" strike="noStrike" u="sng">
                <a:solidFill>
                  <a:srgbClr val="ffffff"/>
                </a:solidFill>
                <a:uFillTx/>
                <a:latin typeface="Gentium"/>
              </a:rPr>
              <a:t>εἰς την οἰκαν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Gentiu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κυρι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the master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δουλ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the slav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  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ν οἰκια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hous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ster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the object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us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it is governed by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which takes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ntence = 'The master is leading the slav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into the house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C93C2007-C2B1-47BB-A52B-F20E99F0E6B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471600" y="1500120"/>
            <a:ext cx="788652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ffffff"/>
                </a:solidFill>
                <a:latin typeface="Gentium"/>
              </a:rPr>
              <a:t>ὁ κυριος ἀγει τον δουλον </a:t>
            </a:r>
            <a:r>
              <a:rPr b="1" lang="el-GR" sz="2900" spc="-1" strike="noStrike" u="sng">
                <a:solidFill>
                  <a:srgbClr val="ffffff"/>
                </a:solidFill>
                <a:uFillTx/>
                <a:latin typeface="Gentium"/>
              </a:rPr>
              <a:t>ἐκ της οἰκιας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κυρι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master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δουλ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slav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ς οἰκια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hous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ster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the object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us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n.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cause it is governed by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which 'takes'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nit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ntence = 'The master leads the slav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out of the house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E7339676-5E3B-4596-8D6A-FCFEE893BA5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785880" y="2408400"/>
            <a:ext cx="7572240" cy="23655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H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The two different factors which determine which case a noun will be in: function in the sentence or preposition. Fortunately, these two never clash.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-71280" y="26028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6A166D10-6A5C-4535-B918-D4C2ED6A34A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647640" y="1905120"/>
            <a:ext cx="7848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1 The principle of prepositions with more than one c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219320" y="3657600"/>
            <a:ext cx="6705360" cy="1328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e same preposition has a different meaning when it is used with a different c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891E5605-E5DC-47D2-AD37-6EB2F094893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7C22636A-E898-4B91-826B-D5ACF572CD4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85800" y="1353960"/>
            <a:ext cx="7772400" cy="15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2 Prepositions with thre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ffffff"/>
                </a:solidFill>
                <a:latin typeface="Gentium"/>
              </a:rPr>
              <a:t>παρα</a:t>
            </a:r>
            <a:r>
              <a:rPr b="0" lang="el-GR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Gentium"/>
              </a:rPr>
              <a:t>+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0040" y="2798640"/>
          <a:ext cx="8215200" cy="2578320"/>
        </p:xfrm>
        <a:graphic>
          <a:graphicData uri="http://schemas.openxmlformats.org/drawingml/2006/table">
            <a:tbl>
              <a:tblPr/>
              <a:tblGrid>
                <a:gridCol w="1563840"/>
                <a:gridCol w="6651360"/>
              </a:tblGrid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on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side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πατει παρα την θαλασ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he walks beside the s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m beside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νθρωπος παρα του θε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a man from G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side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δασκει παρα τῃ θαλασσ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he teaches beside the s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92AA44E8-4A9A-435A-8E41-4015278BDD6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04960" y="1195560"/>
            <a:ext cx="7696080" cy="12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2 Prepositions with thre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πι +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57160" y="2357280"/>
          <a:ext cx="7562880" cy="3859200"/>
        </p:xfrm>
        <a:graphic>
          <a:graphicData uri="http://schemas.openxmlformats.org/drawingml/2006/table">
            <a:tbl>
              <a:tblPr/>
              <a:tblGrid>
                <a:gridCol w="1876680"/>
                <a:gridCol w="5686200"/>
              </a:tblGrid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to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βαλλει τον ἀρτον ἐπι το βιβλ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he throws the bread onto the boo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πι της γη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on the land/earth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the time of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πατει ἐπι του Ἰησ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he lives in the time of Jes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70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/in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πι τοις οὐρα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in the heaven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the basis of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ὐ περιπατει ἐπι ἀρτῳ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he does not live by brea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762120" y="1428840"/>
            <a:ext cx="7619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482842ED-6AC9-4557-856F-4EAFD0DE460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4200" y="2254320"/>
          <a:ext cx="8715600" cy="3531960"/>
        </p:xfrm>
        <a:graphic>
          <a:graphicData uri="http://schemas.openxmlformats.org/drawingml/2006/table">
            <a:tbl>
              <a:tblPr/>
              <a:tblGrid>
                <a:gridCol w="984240"/>
                <a:gridCol w="1722600"/>
                <a:gridCol w="6008760"/>
              </a:tblGrid>
              <a:tr h="15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of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α τον ὀχλ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ecause of the crow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ough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α του ἀγγελου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through the messeng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rding to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 νομ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ccording to law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ainst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 του Ἰησ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gainst Jesu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ετ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ετα το σαββατ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fter the Sabbath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ετα αὐτ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with hi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3:59:45Z</dcterms:created>
  <dc:creator>Sarah</dc:creator>
  <dc:description/>
  <dc:language>en-US</dc:language>
  <cp:lastModifiedBy>Sarah</cp:lastModifiedBy>
  <dcterms:modified xsi:type="dcterms:W3CDTF">2008-09-07T14:24:04Z</dcterms:modified>
  <cp:revision>47</cp:revision>
  <dc:subject/>
  <dc:title>Slide 1</dc:title>
</cp:coreProperties>
</file>