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0AE-103F-4F31-8FC3-3AE1573A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252-49B6-49A5-B049-A95F29D9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26D-B44E-4CE3-808D-881DCD6E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82A-89C5-4C09-A282-F5FB2073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1FF-39A2-4978-8FCF-9EB24F39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E90-170A-4C50-ABC1-2CC370EB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F16-7727-4C23-9BAB-453A8ADA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D36-3CD8-449E-98D7-D5D891CB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243-B19B-4EC6-9A84-DF391F74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F76-04E3-4791-B5A5-40AA5597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B2C-2AD9-4EFC-AFC8-4643065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934-332C-469C-91DB-D9FE9296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FAAA-8370-4799-BAFE-8DB7982606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3" name="TextBox 5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943C25FB-EB5A-489B-B6BC-C21CDE88797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8760" y="2133720"/>
            <a:ext cx="842940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1.1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∙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στιν ὁ προφητης Ἰησ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saying: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proph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14.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ει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ρ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κο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ρῳδ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a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ime Herod heard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905120" y="11732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2.3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3120" y="2000160"/>
            <a:ext cx="850104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ther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ne another) both decline like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3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ἄλλ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λοια ἠν μετ’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oats were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4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πρ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λλη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they were say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one an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84F3B4EB-9E17-4BE5-94B5-78564B1CAAE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6AED5298-22D4-4DB4-8411-4230EA2B5D0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428920" y="1123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3.1 Pronou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200" y="1790640"/>
          <a:ext cx="8786880" cy="3353040"/>
        </p:xfrm>
        <a:graphic>
          <a:graphicData uri="http://schemas.openxmlformats.org/drawingml/2006/table">
            <a:tbl>
              <a:tblPr/>
              <a:tblGrid>
                <a:gridCol w="900360"/>
                <a:gridCol w="1290600"/>
                <a:gridCol w="1460520"/>
                <a:gridCol w="1117440"/>
                <a:gridCol w="1031760"/>
                <a:gridCol w="939960"/>
                <a:gridCol w="1100160"/>
                <a:gridCol w="94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me, 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us,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you, 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3"/>
          <p:cNvSpPr/>
          <p:nvPr/>
        </p:nvSpPr>
        <p:spPr>
          <a:xfrm>
            <a:off x="357120" y="5357880"/>
            <a:ext cx="8229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self means 'we untie'. There is no need for a word for 'we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28760" y="1773360"/>
            <a:ext cx="82486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al. 5.2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Greek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γ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υλος 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ὑμ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ul te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2.2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σ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κ της ὡρας ταυτ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S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is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21.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αὐ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ῳ∙ Κυρι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ινωσκεις ὁτι 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he said … 'Do  you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' … and he said to him, 'Lor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know that I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E83E10E-5423-4BDA-BFD5-A5A351EEAC8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DA42A377-98AC-4BF9-9A09-8C3F0706542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52480" y="1752480"/>
            <a:ext cx="563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2 Reflexive Pronou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971800"/>
          <a:ext cx="6705360" cy="2011320"/>
        </p:xfrm>
        <a:graphic>
          <a:graphicData uri="http://schemas.openxmlformats.org/drawingml/2006/table">
            <a:tbl>
              <a:tblPr/>
              <a:tblGrid>
                <a:gridCol w="2347920"/>
                <a:gridCol w="4357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866960" y="142884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3 Possessive Adjec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2286000"/>
            <a:ext cx="77724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ommonly by us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genitive of the personal pronouns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of me, of you, of us, of you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, in the singular you can use a special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28960" y="4786200"/>
          <a:ext cx="3090960" cy="1006560"/>
        </p:xfrm>
        <a:graphic>
          <a:graphicData uri="http://schemas.openxmlformats.org/drawingml/2006/table">
            <a:tbl>
              <a:tblPr/>
              <a:tblGrid>
                <a:gridCol w="2168640"/>
                <a:gridCol w="9223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003FCF8F-6116-49E5-A2C0-D3EB5AD7385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ACADC16-13A3-4733-969F-9CCE95E248F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00040" y="3500280"/>
            <a:ext cx="792972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0.2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ἐστε ἐκ των προβατων τω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 are not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heep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20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ὁ θε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rd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1357200"/>
            <a:ext cx="7138800" cy="18997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My words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υ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no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οι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Compare: 'his words'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ι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)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μ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need the arti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48F8D07-EB17-4D02-B9E0-9F23DD19C22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24160" y="159552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1 Timid words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71520" y="2814480"/>
            <a:ext cx="6572160" cy="2235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/ f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not come as the first wo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9CC43970-727C-438D-8758-78989EE9650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556000"/>
            <a:ext cx="86104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θεραπε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eal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hes. 2.2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ε ἡ δοξα ἡμων και ἡ χα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u are our glory and joy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142720" y="2490840"/>
            <a:ext cx="1667160" cy="223920"/>
            <a:chOff x="2142720" y="2490840"/>
            <a:chExt cx="1667160" cy="223920"/>
          </a:xfrm>
        </p:grpSpPr>
        <p:sp>
          <p:nvSpPr>
            <p:cNvPr id="151" name="Line 5"/>
            <p:cNvSpPr/>
            <p:nvPr/>
          </p:nvSpPr>
          <p:spPr>
            <a:xfrm flipH="1">
              <a:off x="29761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H="1">
              <a:off x="21427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21430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V="1">
              <a:off x="38098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304920" y="194616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87931EEA-0544-49E4-A8E7-ACE6DB5ADE2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13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200" y="214308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cede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order to express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7120" y="3000240"/>
            <a:ext cx="830592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ιζεσθε ἑαυτους εἰ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νεκρ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ῃ ἁμαρτι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ζωντα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Rom 6.11) – consider yourselves to be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 the on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dead to sin but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the other 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alive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786200" y="3670200"/>
            <a:ext cx="1643040" cy="214560"/>
            <a:chOff x="4786200" y="3670200"/>
            <a:chExt cx="1643040" cy="214560"/>
          </a:xfrm>
        </p:grpSpPr>
        <p:sp>
          <p:nvSpPr>
            <p:cNvPr id="162" name="Line 7"/>
            <p:cNvSpPr/>
            <p:nvPr/>
          </p:nvSpPr>
          <p:spPr>
            <a:xfrm flipH="1">
              <a:off x="560772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 flipH="1">
              <a:off x="478620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78620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642924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1271160" y="4348080"/>
            <a:ext cx="1371960" cy="152640"/>
            <a:chOff x="1271160" y="4348080"/>
            <a:chExt cx="1371960" cy="152640"/>
          </a:xfrm>
        </p:grpSpPr>
        <p:sp>
          <p:nvSpPr>
            <p:cNvPr id="167" name="Line 12"/>
            <p:cNvSpPr/>
            <p:nvPr/>
          </p:nvSpPr>
          <p:spPr>
            <a:xfrm flipH="1">
              <a:off x="19569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 flipH="1">
              <a:off x="12711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715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 flipV="1">
              <a:off x="26431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39760" y="1414440"/>
            <a:ext cx="864864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Cor. 1.12: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καστος ὑμων λεγει∙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μι Παυλου, ἐγω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’Απολλω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ηφα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Χρισ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Each of you says, 'I am Paul's, I am Apollos', I a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phas', I am Christ's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ts 14.4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ἠσαν συν τοις Ἰουδαιοις,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συ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τοις ἀποστολο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Jews 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ostles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915B2A03-C443-40E0-970E-B00870CB391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743200" y="10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1.1 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6200" y="2035080"/>
          <a:ext cx="7854840" cy="4108680"/>
        </p:xfrm>
        <a:graphic>
          <a:graphicData uri="http://schemas.openxmlformats.org/drawingml/2006/table">
            <a:tbl>
              <a:tblPr/>
              <a:tblGrid>
                <a:gridCol w="1166760"/>
                <a:gridCol w="1127160"/>
                <a:gridCol w="2012760"/>
                <a:gridCol w="1890720"/>
                <a:gridCol w="1657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02"/>
          <p:cNvSpPr/>
          <p:nvPr/>
        </p:nvSpPr>
        <p:spPr>
          <a:xfrm>
            <a:off x="928800" y="1428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992BDEF2-6CCD-4EAF-AF60-9D841B50F7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C489E33D-6048-4873-BF2D-AEB264FC46A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81080" y="121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3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3960" y="1857240"/>
            <a:ext cx="769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weak ‘but’, where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α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presses 'but' more strongly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lso used just with the article (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point out that the subject has chang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6.38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ουσιν αὐτῳ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δε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αὐτοις,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σους ἀρτους 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y said to him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e 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, 'How many loaves of brea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do you have?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6668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4.4 Use of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85840" y="1643040"/>
            <a:ext cx="878688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rmally means 'and‘, but can also be used to give emphasis, equivalent to 'also' or 'even‘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often followed b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iving the meaning 'both … and'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2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ἐστιν ὁ υἱος του ἀνθρωπ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σαββα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 of man is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ver the Sabb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(ὡν) ἠρξατο ὁ Ἰησους ποιε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hich) Jesus bega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d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e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FE73F9E-62D9-4BEB-BA67-57A446D3BBC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857160" y="140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9720" y="1963800"/>
          <a:ext cx="7305480" cy="4108320"/>
        </p:xfrm>
        <a:graphic>
          <a:graphicData uri="http://schemas.openxmlformats.org/drawingml/2006/table">
            <a:tbl>
              <a:tblPr/>
              <a:tblGrid>
                <a:gridCol w="1104840"/>
                <a:gridCol w="1068480"/>
                <a:gridCol w="1904760"/>
                <a:gridCol w="1791000"/>
                <a:gridCol w="14364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88D50451-D0B4-49CC-8043-95F70DAED08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7120" y="1179360"/>
            <a:ext cx="8572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ndings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re actually the same as f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ο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gins with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most of its forms; rough breathing in the nom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. and fem., sing. and plural, the same as in the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irst vowel fluctuates betwe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it matches the second vowel.  If the second vowel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the first vowel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but if i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it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28800" y="4238640"/>
            <a:ext cx="7277040" cy="2356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itially, what is important is simply to be able to recognise the forms of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Greek. This is relatively easy, but watch for the forms without th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3FCE189-D63D-4D10-A931-111AAA89FF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790640" y="194940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1.2 Us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00080" y="2635200"/>
            <a:ext cx="742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Use as pronou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ἐκειν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saw those (peop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εται 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e will begin these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F9B287A-AE9C-4956-B669-9BC3C531CEC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CBE3C255-20AC-4EB2-89F9-92C618BF49F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90720" y="1500120"/>
            <a:ext cx="716256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se as adject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article must always be used in addition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y are placed in the predicative word orde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English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is the broth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ine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it is used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it comes before the articl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hole crowd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 ὁ ὀχ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ὁλος ὀχ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447920" y="1214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2.1 Further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3280" y="2168640"/>
            <a:ext cx="891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 be used as an adjectiv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jective meaning 'sam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rmal attributive position (between article and 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 adjective (himself, herself, itself, themsel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ing before the article (predicative position) 'for emphasis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EE3DEB0B-DE8E-4C9C-B82C-87D75C075CD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70CD7687-83E8-46B0-91F8-A1AB4A3D2FC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4200" y="1643040"/>
            <a:ext cx="8643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am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μαθη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λε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sciples s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or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552760" y="116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3480" y="178128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reflexive pronoun (himself, herself, itself, themselves) 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ines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 σωζε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ἑαυτ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sav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αὐτ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 σωζει τον λα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aves the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4200480"/>
            <a:ext cx="6858000" cy="1959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You can tell whether 'himself' etc.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or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by deleting it. If the sentence's basic meaning is unaltered,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if not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57F0FCC4-16E7-4AC1-BC3C-C52FD7E9A2F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3:19:25Z</dcterms:created>
  <dc:creator>Sarah</dc:creator>
  <dc:description/>
  <dc:language>en-US</dc:language>
  <cp:lastModifiedBy>Sarah</cp:lastModifiedBy>
  <dcterms:modified xsi:type="dcterms:W3CDTF">2008-09-08T11:33:36Z</dcterms:modified>
  <cp:revision>64</cp:revision>
  <dc:subject/>
  <dc:title>Slide 1</dc:title>
</cp:coreProperties>
</file>