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463F-F6FC-4876-AB00-FA4EC12C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54B0-5F0E-4EE8-8417-BB5DF28C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69B-59A7-455C-9B17-70FCAEFE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C750-3789-4ADB-A426-536B41C0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9BDB-91E1-4DA1-998C-3F2B997B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7DC-1E5F-4F37-BD2F-291CA6A6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90E4-1264-43C9-B7A1-CB32D9B5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233-3BCA-4E3A-AC51-F6573D59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3F9E-80FE-469A-9FC0-F81111E7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A67-2F36-4D9C-B0DC-710A5911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5F75-BAE0-45BA-85CF-26E09A02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4895-D14E-44A4-B87D-E2863CD3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E46B-0B7F-4669-999D-2B3C2590335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20726C7E-841C-4080-B874-9D63DADF5D4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: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42920" y="1143000"/>
            <a:ext cx="876312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.2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θω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γεγραπτ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ν τῳ Ἠσαϊᾳ τῳ προφητῃ∙ Ἰδου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ποστελλ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 a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t is writt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Isaiah the prophet, 'Look! I a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ding 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9.30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Ἰησους εἰπεν∙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ετελεστ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said, ‘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t i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finish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John 5.10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μη πιστευων τῳ θεῳ ψευστη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εποιηκ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αὐτον, ὁτι οὐ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επιστευκ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εἰς την μαρτυριαν ἡ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ματυρηκ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 θεος περι του υἱου αὐ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e who does not believe in Go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as ma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him a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ar, becaus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e has not believ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the testimony which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as testifi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oncerning his 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24120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4 THE PLU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6E80B5A9-3D83-4841-8209-EC71EFDEC14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66760" y="1785960"/>
            <a:ext cx="86104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erf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 state arising from event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'I have broken the window' – past event, but it is stil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luperfec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st state arising from event in the remot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'I had broken the window' – past event, created a state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ut the state is now past (it was broken for a time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ut now is fixed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24120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4 THE PLU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62DC6148-BE3A-4D14-BACD-D0FD20951ED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54080" y="1146240"/>
            <a:ext cx="882972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irect statements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'But he said tha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e had not destroy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law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eek uses the original tense of the words of the thought/spee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δε εἰπεν ὁτι οὐ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καταλελυκ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ον νομ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emporal cla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'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 he had co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he spoke to the people'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eek would normally translate this by a Participle, 'having come, he spoke to the people‘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λθ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εἰπεν τῳ λα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ὁτε ἠλθε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πεν τῳ λα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714240" y="131904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orm of the Pluperfec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87360" y="2143080"/>
          <a:ext cx="8358120" cy="3722760"/>
        </p:xfrm>
        <a:graphic>
          <a:graphicData uri="http://schemas.openxmlformats.org/drawingml/2006/table">
            <a:tbl>
              <a:tblPr/>
              <a:tblGrid>
                <a:gridCol w="2214720"/>
                <a:gridCol w="3074760"/>
                <a:gridCol w="3068640"/>
              </a:tblGrid>
              <a:tr h="69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and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σ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ει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ει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ει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ν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Box 3"/>
          <p:cNvSpPr/>
          <p:nvPr/>
        </p:nvSpPr>
        <p:spPr>
          <a:xfrm>
            <a:off x="24120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4 THE PLU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CEDFF7B1-0477-4F70-A336-58E382B9217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A73DA2CC-7AAE-43CC-B9BF-9AAAB104910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85840" y="1714680"/>
          <a:ext cx="8572320" cy="3840120"/>
        </p:xfrm>
        <a:graphic>
          <a:graphicData uri="http://schemas.openxmlformats.org/drawingml/2006/table">
            <a:tbl>
              <a:tblPr/>
              <a:tblGrid>
                <a:gridCol w="1685880"/>
                <a:gridCol w="1684440"/>
                <a:gridCol w="1768320"/>
                <a:gridCol w="34336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Ten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Equival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 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ndefi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untying 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unt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unt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unty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unti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and 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ave unti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FD342607-4B21-413E-80A8-D766046A29F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12840" y="1655640"/>
          <a:ext cx="8518320" cy="3978360"/>
        </p:xfrm>
        <a:graphic>
          <a:graphicData uri="http://schemas.openxmlformats.org/drawingml/2006/table">
            <a:tbl>
              <a:tblPr/>
              <a:tblGrid>
                <a:gridCol w="1703160"/>
                <a:gridCol w="1627200"/>
                <a:gridCol w="1781280"/>
                <a:gridCol w="1703520"/>
                <a:gridCol w="1703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ερυμα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ερυσα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σ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ερυ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α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ερυ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α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ερυσθ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α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ερυντα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ν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ερυμεν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56B49D2D-AA1F-4BF1-AA7B-52CD1642235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268280"/>
            <a:ext cx="8686800" cy="54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distinguishing mark of the Perfect, in all forms, is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duplica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erfect Active also has a characteristic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erfect Indicative Active endings are similar to those in the Aor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Middle and the Passive share the same forms in the Perfect (as they also do in the Present and Imperfec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erfect Middle and Passive endings are similar to the Present Middle and Passive endings, but they lack any initial vowel (e.g.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α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not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τα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εν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not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μεν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λυκω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eclines lik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α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with nominative singular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λυκω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λυκυι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λυκ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and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eclension stem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λυκοτ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-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get Perfects in all of the other moods, where they convey a sense of completion (e.g. Perfect Infinitive Activ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λυκενα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Passiv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λυσθα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. However these are very r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C277F3A9-FAB7-4F7E-AF13-78A4F493961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171880" y="1571760"/>
            <a:ext cx="4800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6.2.1 Reduplicati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62120" y="2895480"/>
            <a:ext cx="7467480" cy="1810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duplication - Perfect - in all m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ugmentation – Imperfect and Aorist - only in the Indic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9BC4CDE3-02E0-4E8D-A7A8-6AFA7C31BCD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133720" y="1371600"/>
            <a:ext cx="4876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6.2.2 Stem Chang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90680" y="2286000"/>
            <a:ext cx="815328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esence of consonants next to the stem in the perfect causes complications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verbs are straight forward -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urns into a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ther verbs are complicated - the final letter of the stem shifts within defined groups to whatever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nds b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κ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γ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χ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σσ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π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β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φ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 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τ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δ,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θ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ζ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241200" y="44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3 MORE ON THE MEANING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F34BB4BB-EAF2-4961-B43A-0D4A4F8598E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776240" y="1281240"/>
            <a:ext cx="5562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6.3.1 Participl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60200" y="1851120"/>
            <a:ext cx="87631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16.34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γαλλιασατο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επιστευκω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ῳ θε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rejoiced … becaus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e had become a believ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he had believed and still believed in God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5.10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ακαριοι οἱ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διωγμενο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lessed are thos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o have been persecut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i.e. th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secute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1214280" y="1967040"/>
            <a:ext cx="655344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1)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 πιστις σου σεσωκεν σ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Mark 5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2)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κ ἀνεγνω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Mark 12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3)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αλεσεν αὐτ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Mark 1.2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990720" y="4724280"/>
            <a:ext cx="7162560" cy="11692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the meaning of the tens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t their rough English equival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241200" y="44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3 MORE ON THE MEANING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B43E7D36-6BEC-4712-8EF9-54293B8A5C1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87360" y="1281240"/>
            <a:ext cx="835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6.3.</a:t>
            </a:r>
            <a:r>
              <a:rPr b="0" lang="el-GR" sz="29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Difference between the Perfect and Aori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241200" y="44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3 MORE ON THE MEANING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BB911D67-7947-41FE-BB02-4052AE51C48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6000" y="1866960"/>
          <a:ext cx="8686800" cy="3419280"/>
        </p:xfrm>
        <a:graphic>
          <a:graphicData uri="http://schemas.openxmlformats.org/drawingml/2006/table">
            <a:tbl>
              <a:tblPr/>
              <a:tblGrid>
                <a:gridCol w="2670120"/>
                <a:gridCol w="4105080"/>
                <a:gridCol w="1911600"/>
              </a:tblGrid>
              <a:tr h="1267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state resulting from past 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has eaten it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 in indefinite 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has eaten many apples over the last year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 Si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 in definite 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ate i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5:55:53Z</dcterms:created>
  <dc:creator>Sarah</dc:creator>
  <dc:description/>
  <dc:language>en-US</dc:language>
  <cp:lastModifiedBy>Sarah</cp:lastModifiedBy>
  <dcterms:modified xsi:type="dcterms:W3CDTF">2009-03-11T22:54:15Z</dcterms:modified>
  <cp:revision>28</cp:revision>
  <dc:subject/>
  <dc:title>Slide 1</dc:title>
</cp:coreProperties>
</file>