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E5A0-C055-4E31-9885-609D8315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6EBA-E53B-47BB-BF24-DB9054D0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48C-C8FE-4D1F-8B0F-D3031A3B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B1A-A87A-4A58-B7AE-0EDD2FEB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52F-805C-458A-95A5-8F95932B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89D-D5D0-4C56-A39E-4B4F0895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7B6-5DA0-4ED3-8755-C4C907D8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A40D-8DE9-4BE7-B7C4-D7B35CCB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F43-7104-4B40-8030-375E84F2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A67-1B7E-405F-8A6B-F7471E34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03C-5495-4A8C-A31B-A0AC9BFC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AB0-7ECF-484C-8B03-34F5A5F9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C4BE-A253-40A3-ACE4-D5E8B2546C3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4EEF00AD-18BD-4C9F-B545-97C59291D30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76320" y="1138320"/>
            <a:ext cx="899136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e 18.22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σ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 ὁ Ἰησους εἰπεν αὐτῳ∙ Ἐπι ἑ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οι λειπει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aving hea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Jesus said to him, 'One thing still remain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you …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 Jesus hea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this) he said to him, 'You still lack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thing 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e 7.9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: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σας δε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αυτ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Ἰησους ἐθαυμασεν αὐτ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he hear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se thin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Jesus was amazed at h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5BA1ABCF-5AA5-4071-B105-1743E3F53F1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-68400" y="271440"/>
            <a:ext cx="9283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000680" y="1143000"/>
          <a:ext cx="4786200" cy="2752560"/>
        </p:xfrm>
        <a:graphic>
          <a:graphicData uri="http://schemas.openxmlformats.org/drawingml/2006/table">
            <a:tbl>
              <a:tblPr/>
              <a:tblGrid>
                <a:gridCol w="714240"/>
                <a:gridCol w="714240"/>
                <a:gridCol w="1143000"/>
                <a:gridCol w="1143000"/>
                <a:gridCol w="1071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Box 11"/>
          <p:cNvSpPr/>
          <p:nvPr/>
        </p:nvSpPr>
        <p:spPr>
          <a:xfrm>
            <a:off x="330120" y="19018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Gentium"/>
              </a:rPr>
              <a:t>λυ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1928880" y="1500120"/>
            <a:ext cx="1285920" cy="703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λυ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928800" y="2786040"/>
            <a:ext cx="1285920" cy="703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or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λυσα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15"/>
          <p:cNvCxnSpPr/>
          <p:nvPr/>
        </p:nvCxnSpPr>
        <p:spPr>
          <a:xfrm flipV="1">
            <a:off x="999720" y="1785240"/>
            <a:ext cx="857880" cy="2149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22" name="Straight Arrow Connector 17"/>
          <p:cNvCxnSpPr/>
          <p:nvPr/>
        </p:nvCxnSpPr>
        <p:spPr>
          <a:xfrm>
            <a:off x="999720" y="2356920"/>
            <a:ext cx="429480" cy="35820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23" name="Straight Arrow Connector 19"/>
          <p:cNvCxnSpPr/>
          <p:nvPr/>
        </p:nvCxnSpPr>
        <p:spPr>
          <a:xfrm>
            <a:off x="3286080" y="1714680"/>
            <a:ext cx="643320" cy="1800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24" name="Straight Arrow Connector 26"/>
          <p:cNvCxnSpPr/>
          <p:nvPr/>
        </p:nvCxnSpPr>
        <p:spPr>
          <a:xfrm>
            <a:off x="2000160" y="3571920"/>
            <a:ext cx="357840" cy="2865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graphicFrame>
        <p:nvGraphicFramePr>
          <p:cNvPr id="125" name=""/>
          <p:cNvGraphicFramePr/>
          <p:nvPr/>
        </p:nvGraphicFramePr>
        <p:xfrm>
          <a:off x="285840" y="3929040"/>
          <a:ext cx="5214960" cy="2752920"/>
        </p:xfrm>
        <a:graphic>
          <a:graphicData uri="http://schemas.openxmlformats.org/drawingml/2006/table">
            <a:tbl>
              <a:tblPr/>
              <a:tblGrid>
                <a:gridCol w="777960"/>
                <a:gridCol w="779400"/>
                <a:gridCol w="1322280"/>
                <a:gridCol w="1168560"/>
                <a:gridCol w="1166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4169ED7D-CFD5-4E5A-8CF6-BABB3404EEC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649680" y="1143000"/>
          <a:ext cx="5351400" cy="2752560"/>
        </p:xfrm>
        <a:graphic>
          <a:graphicData uri="http://schemas.openxmlformats.org/drawingml/2006/table">
            <a:tbl>
              <a:tblPr/>
              <a:tblGrid>
                <a:gridCol w="765000"/>
                <a:gridCol w="763920"/>
                <a:gridCol w="1376280"/>
                <a:gridCol w="1231920"/>
                <a:gridCol w="1214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η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υ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Box 4"/>
          <p:cNvSpPr/>
          <p:nvPr/>
        </p:nvSpPr>
        <p:spPr>
          <a:xfrm>
            <a:off x="71280" y="1860480"/>
            <a:ext cx="29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Gentium"/>
              </a:rPr>
              <a:t>ῥυομα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1571760" y="1500120"/>
            <a:ext cx="1319040" cy="703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ῥυομενο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571680" y="2786040"/>
            <a:ext cx="1612800" cy="703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or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ῥυσαμενο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Straight Arrow Connector 7"/>
          <p:cNvCxnSpPr/>
          <p:nvPr/>
        </p:nvCxnSpPr>
        <p:spPr>
          <a:xfrm flipV="1">
            <a:off x="642600" y="1785240"/>
            <a:ext cx="857880" cy="2149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33" name="Straight Arrow Connector 8"/>
          <p:cNvCxnSpPr/>
          <p:nvPr/>
        </p:nvCxnSpPr>
        <p:spPr>
          <a:xfrm>
            <a:off x="642600" y="2356920"/>
            <a:ext cx="429480" cy="35820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34" name="Straight Arrow Connector 9"/>
          <p:cNvCxnSpPr/>
          <p:nvPr/>
        </p:nvCxnSpPr>
        <p:spPr>
          <a:xfrm>
            <a:off x="2928960" y="1714680"/>
            <a:ext cx="660600" cy="259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35" name="Straight Arrow Connector 10"/>
          <p:cNvCxnSpPr/>
          <p:nvPr/>
        </p:nvCxnSpPr>
        <p:spPr>
          <a:xfrm>
            <a:off x="1643040" y="3571920"/>
            <a:ext cx="357840" cy="2865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graphicFrame>
        <p:nvGraphicFramePr>
          <p:cNvPr id="136" name=""/>
          <p:cNvGraphicFramePr/>
          <p:nvPr/>
        </p:nvGraphicFramePr>
        <p:xfrm>
          <a:off x="285840" y="3962520"/>
          <a:ext cx="5786280" cy="275256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1468440"/>
                <a:gridCol w="1312560"/>
                <a:gridCol w="1278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η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υ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85840" y="1928880"/>
          <a:ext cx="8858160" cy="974520"/>
        </p:xfrm>
        <a:graphic>
          <a:graphicData uri="http://schemas.openxmlformats.org/drawingml/2006/table">
            <a:tbl>
              <a:tblPr/>
              <a:tblGrid>
                <a:gridCol w="3643200"/>
                <a:gridCol w="2786040"/>
                <a:gridCol w="242892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oden Translations:</a:t>
                      </a: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Participle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tying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rticiple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ing untied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014480" y="3786120"/>
          <a:ext cx="7138800" cy="1158840"/>
        </p:xfrm>
        <a:graphic>
          <a:graphicData uri="http://schemas.openxmlformats.org/drawingml/2006/table">
            <a:tbl>
              <a:tblPr/>
              <a:tblGrid>
                <a:gridCol w="3886200"/>
                <a:gridCol w="3252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Participl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ultaneou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rticipl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AF70203A-4B2B-4D94-9361-B87DC4411AD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MEA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182DBDD3-0205-412F-80C3-A12EEE06634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MEA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42960" y="1428840"/>
            <a:ext cx="7858080" cy="15958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ccessive Aorist participles are often best translated by a number of main verbs in English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28760" y="3500280"/>
            <a:ext cx="835812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Mark 5.27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σασα περι του Ἰη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θουσα ἐ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ῳ ὀχλῳ ὀπισθεν ἡψατα του ἱματιου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en she heard about Jesus, she came up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hind in the crowd and touched his cloak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1BBCAFEF-853A-4E7E-A277-882D78DC866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133720" y="1163520"/>
            <a:ext cx="4876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4.4.1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-642960" y="1609560"/>
            <a:ext cx="97869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5.23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με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ισ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τον πατερα μου μισ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 one who hates 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or whoever hates me), als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tes my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2.45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ὁ θεωρων ἐμε θεωρε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ν πεμψαντα μ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e who sees me is see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 one who sent 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10.44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πεπεσεν το πνευμα το ἁγιον ἐπι παντας   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υς ἀκουοντα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ν λογ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holy spirit fell on all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ose who were liste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the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948A6FED-A140-4AEB-B632-4E3B87502FB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00040" y="1109520"/>
            <a:ext cx="835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4.4.2 Casual, concessive and instrumental use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4280" y="1785960"/>
            <a:ext cx="914400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usal: Matt. 1.19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Ἰωσηφ δε ὁ ἀνηρ αὐτης, δικαι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ὠ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─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ut Joseph her husband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ecause he w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ighteous ..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cessive: Rom. 1.21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γνοντε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ν θεον οὐχ ὡς θεο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δοχασ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─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Although they knew Go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they did not glorify him as God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trumental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 Tim. 4.1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υτο γαρ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οι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σεαυτον σωσεις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τους ἀκουοντας 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y do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this (lit: doing this) you will save both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ourself and your hear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2C343571-398C-4F98-B582-F54DDC6A45F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723960" y="1295280"/>
            <a:ext cx="7696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4.4.3 With Imperatives and Infinitive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42960" y="2357280"/>
            <a:ext cx="7696080" cy="27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k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7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κ εἰμι ἱκαν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υφα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λυσαι το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ἱματα των ὑποδηματων αὐ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 am not worth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o stoop dow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nd untie t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rap of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s sandals (lit: having stooped down, to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ntie)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167A8198-8D4C-4B3B-A6D3-C7BE690BB56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62120" y="2286000"/>
            <a:ext cx="761976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must agree with the noun they qualify in gender, case and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62120" y="1600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ke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762120" y="379404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k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762120" y="4521240"/>
            <a:ext cx="761976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have a tense (Present or Aorist), and may have an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36833FCE-E967-49A5-92D2-07021D0C2D0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26880" y="1254240"/>
            <a:ext cx="8458200" cy="52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v. 7.2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εἰδον ἀλλον ἀγγελο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ναβαινοντ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πο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ατολης ἡλιου ἐχοντα σφραγιδα θε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I saw another angel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scend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rom the rising of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un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av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 seal from God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δ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 main verb, containing in it the subject – 'I saw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γγελ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 object – an ang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an adjective enriched by two partici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ναβαινοντ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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χον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BD645954-9182-4069-B3C8-D162E9C773E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66760" y="1322280"/>
            <a:ext cx="86104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.16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αραγ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παρα την θαλασσαν ... Εἰδε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ιμωνα και Ἀνδρεαν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μφιβαλλοντ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ν τῃ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θαλασσ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ile he was pass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longside the sea, he saw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rew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ast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nets) in the s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δεν Σιμωνα και Ἀνδρεα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he saw Simon and Andr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αραγ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nomin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μφιβαλλοντ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accus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171B7624-5669-4AE3-B196-F7428238A43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FORM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600200" y="1219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ur basic partici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6160" y="1785960"/>
          <a:ext cx="8877240" cy="1874880"/>
        </p:xfrm>
        <a:graphic>
          <a:graphicData uri="http://schemas.openxmlformats.org/drawingml/2006/table">
            <a:tbl>
              <a:tblPr/>
              <a:tblGrid>
                <a:gridCol w="1425600"/>
                <a:gridCol w="1236600"/>
                <a:gridCol w="1820880"/>
                <a:gridCol w="385560"/>
                <a:gridCol w="1843200"/>
                <a:gridCol w="2165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-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nty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-ο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rescuing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-σ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aving unti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-σα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aving rescued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57"/>
          <p:cNvSpPr/>
          <p:nvPr/>
        </p:nvSpPr>
        <p:spPr>
          <a:xfrm>
            <a:off x="500040" y="3732120"/>
            <a:ext cx="784872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e Aorist there is no augment (there are never augments in the other mood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e Aorist there is a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ou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orist Participle uses the Present Participle endings (e.g.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αλω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, as does the (Present)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ὠ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'being'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669960" y="1319040"/>
            <a:ext cx="7791480" cy="13230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ending in -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ο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decline like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γαθ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ending otherwise decline like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πας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42920" y="2986200"/>
            <a:ext cx="885492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4.2.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ομεν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σαμενος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se decline exactly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γαθ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. Th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ομενου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Accusative masculine plural of the Presen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ξαμενα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Dative feminine plural of the Aoris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χ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ρχομεν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Nom./Acc. neuter plural of the Present Participle of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ρχ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77987F8D-F2FA-47E7-92FA-1B66EC11EFC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DA07319A-DDAF-412E-89DC-A517E0F0D35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27040" y="1557360"/>
            <a:ext cx="80722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4.2.2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ν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follow the 3-1-3 pattern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fore, to decline them, we need their three nominative singulars, and th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ension 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nom. sing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ουσ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. stem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οντ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ς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nom. sing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σ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. stem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ντ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-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06DFB356-2884-42B6-8C1B-CB1F4E52E66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6040" y="1351080"/>
          <a:ext cx="8786880" cy="4694040"/>
        </p:xfrm>
        <a:graphic>
          <a:graphicData uri="http://schemas.openxmlformats.org/drawingml/2006/table">
            <a:tbl>
              <a:tblPr/>
              <a:tblGrid>
                <a:gridCol w="798840"/>
                <a:gridCol w="1303200"/>
                <a:gridCol w="1328760"/>
                <a:gridCol w="1201680"/>
                <a:gridCol w="1393920"/>
                <a:gridCol w="1366920"/>
                <a:gridCol w="1393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(Active) Participle -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ω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(Active) Participle -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ς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η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η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61EF034A-B141-4015-85E8-6365C364CAB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14200" y="1214280"/>
            <a:ext cx="900108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Nom./Acc. neuter singular of the Aoris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γραφοντι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Dative masc./neuter singular of the Presen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γραφ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θο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Nom. masculine plural of the (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Aoris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ρχ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σιν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Dative masc./neut. plural of the Presen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71440" y="3143160"/>
            <a:ext cx="8572680" cy="31089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re are two steps in forming a participle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articiple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basic forms (essentially a verbal matter – about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ense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articular instance of that form (essentially an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djectival matter – about gender, case and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number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4:45:20Z</dcterms:created>
  <dc:creator>Sarah</dc:creator>
  <dc:description/>
  <dc:language>en-US</dc:language>
  <cp:lastModifiedBy>Sarah</cp:lastModifiedBy>
  <dcterms:modified xsi:type="dcterms:W3CDTF">2008-09-30T16:36:37Z</dcterms:modified>
  <cp:revision>60</cp:revision>
  <dc:subject/>
  <dc:title>Slide 1</dc:title>
</cp:coreProperties>
</file>