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884-966E-4FC2-BCC9-F6CBC09B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D5E-D864-45C1-A407-E68D212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23A-B6A5-4F4A-A88E-8A8F7B4D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B5A-9D6C-4066-BB38-2622F0F9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82E0-ACA3-4458-A178-CF289A38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5C8F-F7B4-4BF8-8FB3-72C1A354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0031-F9C4-444E-9C4B-2A283064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7142-B5C5-4D84-8DE3-22B0EC0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BE88-C755-443A-8DD0-B7AFBB8A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60E4-8BB4-42B3-BC42-54554E15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9849-A609-4653-A8EF-93E9A52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3DD-B5FE-4FF7-A65B-8CA9C2B8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0F43-8963-465A-B167-6F592E7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B5D6-1B83-466B-AD98-813D51EC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A890-6180-4239-9E59-A278B276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A699-C755-4089-B05D-B3E5011A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A12D-0FA9-4CB7-889B-EC5DD25B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8AC-8EB3-4823-8866-B04EDBD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A0F-FD08-4FDE-B1A1-A14FADAF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4B9-0490-4AB5-BAE0-BF5D736B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BEE-F400-42CA-9BB2-1107F67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E37-1172-422A-81B2-1B8AF7A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FAC-B6E3-4412-BD6B-9376B69F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87F-AAFB-489F-841B-723ACE84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CB26-F0ED-42E2-B2CE-58151BF98D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E38C-DC41-44CA-9B9C-5DE7DBCD3D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C993B666-72B2-4DD1-900B-CF75080029A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1"/>
          <p:cNvSpPr/>
          <p:nvPr/>
        </p:nvSpPr>
        <p:spPr>
          <a:xfrm>
            <a:off x="571680" y="4419720"/>
            <a:ext cx="8001000" cy="10688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itive – Possessor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'of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ive – Indirect object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'to' or 'fo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538280"/>
          <a:ext cx="6922800" cy="2247840"/>
        </p:xfrm>
        <a:graphic>
          <a:graphicData uri="http://schemas.openxmlformats.org/drawingml/2006/table">
            <a:tbl>
              <a:tblPr/>
              <a:tblGrid>
                <a:gridCol w="1249200"/>
                <a:gridCol w="1568520"/>
                <a:gridCol w="1515960"/>
                <a:gridCol w="1424160"/>
                <a:gridCol w="1164960"/>
              </a:tblGrid>
              <a:tr h="48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th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1"/>
          <p:cNvSpPr/>
          <p:nvPr/>
        </p:nvSpPr>
        <p:spPr>
          <a:xfrm>
            <a:off x="1214280" y="2643120"/>
            <a:ext cx="65674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rticle and noun must agree in gender, case an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88D911AD-90C3-46C8-9883-C9CFCD1BBDA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5F847538-0530-4EDE-B60B-46F4F29EDE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4"/>
          <p:cNvSpPr/>
          <p:nvPr/>
        </p:nvSpPr>
        <p:spPr>
          <a:xfrm>
            <a:off x="357120" y="1071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3.4 Overview of Nouns an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1160" y="1617840"/>
          <a:ext cx="8648640" cy="3841560"/>
        </p:xfrm>
        <a:graphic>
          <a:graphicData uri="http://schemas.openxmlformats.org/drawingml/2006/table">
            <a:tbl>
              <a:tblPr/>
              <a:tblGrid>
                <a:gridCol w="1017360"/>
                <a:gridCol w="939960"/>
                <a:gridCol w="1017360"/>
                <a:gridCol w="1133640"/>
                <a:gridCol w="1133280"/>
                <a:gridCol w="1136880"/>
                <a:gridCol w="1135080"/>
                <a:gridCol w="113508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77"/>
          <p:cNvSpPr/>
          <p:nvPr/>
        </p:nvSpPr>
        <p:spPr>
          <a:xfrm>
            <a:off x="361800" y="556416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ticle endings are the same as the noun except in masc. and fem. nom., and in the neuter (sing.) nom. and a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8840" y="1058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5 Variant Feminin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20E518D6-8881-4F8E-849D-7AAA7F47CB8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500120"/>
          <a:ext cx="7010280" cy="4235400"/>
        </p:xfrm>
        <a:graphic>
          <a:graphicData uri="http://schemas.openxmlformats.org/drawingml/2006/table">
            <a:tbl>
              <a:tblPr/>
              <a:tblGrid>
                <a:gridCol w="1103400"/>
                <a:gridCol w="903240"/>
                <a:gridCol w="1563480"/>
                <a:gridCol w="1459080"/>
                <a:gridCol w="198108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lor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64"/>
          <p:cNvSpPr/>
          <p:nvPr/>
        </p:nvSpPr>
        <p:spPr>
          <a:xfrm>
            <a:off x="1214280" y="5811840"/>
            <a:ext cx="7772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variations between sing. and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wel or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efore end, or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χ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ζ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e article pattern follows 3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7120" y="5740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85880" y="1214280"/>
          <a:ext cx="7510320" cy="2283120"/>
        </p:xfrm>
        <a:graphic>
          <a:graphicData uri="http://schemas.openxmlformats.org/drawingml/2006/table">
            <a:tbl>
              <a:tblPr/>
              <a:tblGrid>
                <a:gridCol w="1633320"/>
                <a:gridCol w="2122560"/>
                <a:gridCol w="1447920"/>
                <a:gridCol w="230652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tiv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A9B2FB05-716E-4143-9891-CE5BC05331C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357120" y="3506760"/>
            <a:ext cx="8286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 βλεπω δαιμονιον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Peter, I see a dem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 φιλεις τον κυρι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ary! Do you love the lor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2428920" y="5214600"/>
            <a:ext cx="4343400" cy="1085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Kyrie Eleison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ε ἐλε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8C9638DE-3A07-4398-B0E3-EA55E590794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14200" y="3214800"/>
            <a:ext cx="857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ὀχλοι ζητουσιν τον Ἰησου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crowds are seeking 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ουλος του Ἰησου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slave of Jesus is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1857240" y="5221440"/>
            <a:ext cx="4876920" cy="10616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ησ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the definite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47880" y="1168560"/>
          <a:ext cx="5653080" cy="1996920"/>
        </p:xfrm>
        <a:graphic>
          <a:graphicData uri="http://schemas.openxmlformats.org/drawingml/2006/table">
            <a:tbl>
              <a:tblPr/>
              <a:tblGrid>
                <a:gridCol w="1208160"/>
                <a:gridCol w="1344600"/>
                <a:gridCol w="1709640"/>
                <a:gridCol w="1390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ocative is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ησου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6840" y="1214280"/>
          <a:ext cx="8939160" cy="4508640"/>
        </p:xfrm>
        <a:graphic>
          <a:graphicData uri="http://schemas.openxmlformats.org/drawingml/2006/table">
            <a:tbl>
              <a:tblPr/>
              <a:tblGrid>
                <a:gridCol w="798480"/>
                <a:gridCol w="825480"/>
                <a:gridCol w="1273320"/>
                <a:gridCol w="1233360"/>
                <a:gridCol w="1182600"/>
                <a:gridCol w="1208160"/>
                <a:gridCol w="1211400"/>
                <a:gridCol w="1206360"/>
              </a:tblGrid>
              <a:tr h="54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57732442-B254-4E7E-8EED-85CE6180AD0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291347E6-B785-49F0-BA53-4C682BB0F6E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85840" y="1247760"/>
            <a:ext cx="7924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ings of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similarity to the article in neu. nom. and acc. 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nnecessary in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sessive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ses definite article and 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14240" y="3382920"/>
            <a:ext cx="77155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με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e are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φιλ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ster lov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Do you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840FD090-9892-4738-909C-6995588BE85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42880" y="1406520"/>
            <a:ext cx="7772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ἀγγελος του θεου λεγει τον λογο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of God speaks the word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687E1EB-E4BE-4EFD-9673-4633AF31E6D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4880" y="1655640"/>
            <a:ext cx="701028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αγγελος λεγει τῳ δουλῳ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γελ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14F88C15-B69F-48CE-B20D-8FFE4C45553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85840" y="1339920"/>
            <a:ext cx="11072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ἀγγελος λεγει τον λογον του θεου τῳ δουλ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γελ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he word of God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576360" y="2025720"/>
            <a:ext cx="74959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υ κυρι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e hear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e hear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υσιν τῳ θε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y believe in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4B6C9D00-8E5A-4835-BC5D-3E5FAA404A3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300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PECIAL USES OF THE GENI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88FE3A72-1C18-44D2-A757-BAD2D1292A7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00040" y="1523880"/>
            <a:ext cx="83440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r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3.3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οὐρανος και ἡ γη παρελευσον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a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ar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ll pass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198960"/>
            <a:ext cx="83822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1 The idea of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mascul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femin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ερ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neuter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9"/>
          <p:cNvSpPr/>
          <p:nvPr/>
        </p:nvSpPr>
        <p:spPr>
          <a:xfrm>
            <a:off x="374760" y="12002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2 The Feminine and Neuter Decl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7160" y="1763640"/>
          <a:ext cx="7429680" cy="4449960"/>
        </p:xfrm>
        <a:graphic>
          <a:graphicData uri="http://schemas.openxmlformats.org/drawingml/2006/table">
            <a:tbl>
              <a:tblPr/>
              <a:tblGrid>
                <a:gridCol w="1521000"/>
                <a:gridCol w="1374840"/>
                <a:gridCol w="232884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or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FB9088CA-BEA9-47FD-A0DF-A0DD2B431EE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2EFA470-1AC2-4A54-ABC2-525B1C2E677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00040" y="1428840"/>
            <a:ext cx="731520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om. and acc.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always true in the ne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special rule for neuter plural nou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normally take a singular ver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'children keep the law' is 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τηρε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’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71680" y="4980960"/>
            <a:ext cx="8001000" cy="601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Neuter Plural Nouns take a singular verb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66"/>
          <p:cNvSpPr/>
          <p:nvPr/>
        </p:nvSpPr>
        <p:spPr>
          <a:xfrm>
            <a:off x="347760" y="1143000"/>
            <a:ext cx="7010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3 The feminine and the neuter of the definite article: agre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D5670B2D-AF7B-4F55-BF34-63FFD9A1577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38320" y="2214720"/>
          <a:ext cx="6648480" cy="3992400"/>
        </p:xfrm>
        <a:graphic>
          <a:graphicData uri="http://schemas.openxmlformats.org/drawingml/2006/table">
            <a:tbl>
              <a:tblPr/>
              <a:tblGrid>
                <a:gridCol w="1066680"/>
                <a:gridCol w="933480"/>
                <a:gridCol w="1477800"/>
                <a:gridCol w="1443240"/>
                <a:gridCol w="17272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23:27Z</dcterms:created>
  <dc:creator>Sarah</dc:creator>
  <dc:description/>
  <dc:language>en-US</dc:language>
  <cp:lastModifiedBy>Sarah</cp:lastModifiedBy>
  <dcterms:modified xsi:type="dcterms:W3CDTF">2009-03-04T00:00:10Z</dcterms:modified>
  <cp:revision>61</cp:revision>
  <dc:subject/>
  <dc:title>Slide 1</dc:title>
</cp:coreProperties>
</file>