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E69-A847-4166-88D9-D8157E41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7F6-0540-4B1B-AD89-0EE9C3AE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397-661F-4F8E-85D9-096F92A3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F23-A29C-4458-BB6E-EC3FA31E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F6A-A2B4-4AC5-BD2D-7E2AE446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64A-AC59-4997-A6A4-03FBE67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CA0-1C69-4FC4-8FFA-C684D39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B27-1765-45F7-BD87-62B481B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29E-E59D-4B13-9D22-C7649496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A49-42BD-4545-B805-0882AD5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F56-9E80-4CCE-9C95-CD1DF535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231-4D30-4D11-8C29-3E97AC70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CAC9-DF68-496A-9513-DEE58C1E03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F13E685B-76DC-4D37-8646-20C948FAB195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e„de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feu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fu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gineto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geneto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51610313-FE2D-403A-9537-C7A4051A618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CC4452D2-937E-4D3A-95F8-F955B4FE1D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A2B761BB-645C-4B8E-9B39-8E23ADD7E8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1931FB2B-E39A-444F-BEDE-DED73C88D6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606C81A9-4EBA-49F7-9248-1C14931B20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0F17450-041F-421B-9D5C-7D9A5BF78F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148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2CBE04FD-C348-4B94-A1B8-6261821BD9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593830FD-489C-4F8B-A23D-DBDC817FCF9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6E4B7487-6D91-4B27-8581-A9F06251027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51280"/>
                <a:gridCol w="22636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AE68854-8028-4141-9ABF-373681C1E7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4654D3E-A54F-4791-B26B-DFB615195FB3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20020493-167C-455B-BD84-1DCA3B41BB00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s are formed by adding s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other group form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AB980F78-6523-440C-9C2A-8254EDE63DDA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642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orist </a:t>
            </a:r>
            <a:r>
              <a:rPr b="0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hanged Stem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D2B53B78-43AF-40C9-A435-7E87B760381F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1258DB87-F904-4BC9-8192-223CD8F4D6D3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2A49F27B-15F4-4B09-AC56-E9B211B32C84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C90AB901-A550-4013-A482-24721E7C6003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74BA9DF8-2A27-47EC-8F0D-E89087654E3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8-09-17T16:32:11Z</dcterms:modified>
  <cp:revision>38</cp:revision>
  <dc:subject/>
  <dc:title>Slide 1</dc:title>
</cp:coreProperties>
</file>