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5B2F-366D-43D8-854A-BA045394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AA8-77AC-4C1F-8949-EDFD693D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9ED-48FF-4F1E-92EF-85D6F8DA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B734-4FC0-4EE1-9921-3E483802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52AF-2F68-44DE-AFD7-974EC8E5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99A5-D2C4-441F-B425-B499D4BE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3CA0-D6A9-488B-99E7-DE13D501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AF19-E63D-464B-A684-57B7F249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3AC-CF9A-4067-A651-4E03AF61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657D-1A57-464C-9E58-D3250594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8E20-847C-4BB3-9968-FD57194A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27BD-5A5C-43E0-BF17-0DAA83A9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D3F7-9AC0-4108-AC7B-C39A547FB6C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83" name="TextBox 5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50BC6411-DCFD-4766-804B-2DBBA3FCC90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28760" y="2133720"/>
            <a:ext cx="8429400" cy="26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21.11: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εγον∙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τ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στιν ὁ προφητης Ἰησ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ere saying: '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the prophe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14.1: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κειν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ρ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κουσ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ρῳδη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a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ime Herod heard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1905120" y="117324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2.3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ος</a:t>
            </a:r>
            <a:r>
              <a:rPr b="1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ηλος</a:t>
            </a:r>
            <a:r>
              <a:rPr b="1" lang="en-GB" sz="32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03120" y="2000160"/>
            <a:ext cx="850104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ος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other)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ηλος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one another) both decline like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ειν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4.3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ἄλλ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πλοια ἠν μετ’ αὐ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ot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oats were with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4.4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εγον πρ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λληλ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And they were say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one anot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D1B5DAD2-58F3-4112-A357-EF0E12D0306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3E610756-E33B-46A1-AD1F-CAE9D797976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428920" y="11239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9.3.1 Pronoun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7200" y="1790640"/>
          <a:ext cx="8786880" cy="3353040"/>
        </p:xfrm>
        <a:graphic>
          <a:graphicData uri="http://schemas.openxmlformats.org/drawingml/2006/table">
            <a:tbl>
              <a:tblPr/>
              <a:tblGrid>
                <a:gridCol w="900360"/>
                <a:gridCol w="1290600"/>
                <a:gridCol w="1461960"/>
                <a:gridCol w="1116000"/>
                <a:gridCol w="1031760"/>
                <a:gridCol w="939960"/>
                <a:gridCol w="1101600"/>
                <a:gridCol w="944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μ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μ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ου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μ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me, 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us, 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you, 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μ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ο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/for 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/for 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/for 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μ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273"/>
          <p:cNvSpPr/>
          <p:nvPr/>
        </p:nvSpPr>
        <p:spPr>
          <a:xfrm>
            <a:off x="357120" y="5357880"/>
            <a:ext cx="82296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ομ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self means 'we untie'. There is no need for a word for 'we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428760" y="1773360"/>
            <a:ext cx="824868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al. 5.2: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Greek"/>
                <a:ea typeface="Times New Roman"/>
              </a:rPr>
              <a:t>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γω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Παυλος λε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ὑμ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aul tell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ohn 12.27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ωσο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κ της ὡρας ταυτη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Sa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from this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ohn 21.17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ει αὐτ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ει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..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λεγ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αὐτῳ∙ Κυριε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γινωσκεις ὁτι φιλ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he said … 'Do you lo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?' … and he said to him, 'Lord …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know that I lo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'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1781D4C2-27DD-4CD9-AED5-A30302CBB26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35EB8185-135A-45A9-887E-0C1EFCBA538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752480" y="1752480"/>
            <a:ext cx="5639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3.2 Reflexive Pronoun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2971800"/>
          <a:ext cx="6705360" cy="2011320"/>
        </p:xfrm>
        <a:graphic>
          <a:graphicData uri="http://schemas.openxmlformats.org/drawingml/2006/table">
            <a:tbl>
              <a:tblPr/>
              <a:tblGrid>
                <a:gridCol w="2347920"/>
                <a:gridCol w="435744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se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αυ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(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lines like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ὐ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f (sing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εαυ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(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lines like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ὐ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sel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st use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αυ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ves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st use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αυ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866960" y="1428840"/>
            <a:ext cx="5410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3.3 Possessive Adjective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5800" y="2286000"/>
            <a:ext cx="77724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commonly by using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genitive of the personal pronouns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of me, of you, of us, of you)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, in the singular you can use a special ad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928960" y="4786200"/>
          <a:ext cx="3090960" cy="1006560"/>
        </p:xfrm>
        <a:graphic>
          <a:graphicData uri="http://schemas.openxmlformats.org/drawingml/2006/table">
            <a:tbl>
              <a:tblPr/>
              <a:tblGrid>
                <a:gridCol w="2168640"/>
                <a:gridCol w="9223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 (sing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Box 4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CEBDC85E-2023-448B-A0D3-EED14916BCA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22EECAFC-5ABA-4854-8F3E-0FEB401C3E5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00040" y="3500280"/>
            <a:ext cx="792972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ohn 10.2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κ ἐστε ἐκ των προβατων τω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ou are not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heep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20.2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κυρι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ο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ὁ θε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ord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G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90720" y="1357200"/>
            <a:ext cx="7138800" cy="18997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'My words'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 λογου 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not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ογοι 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Compare: 'his words'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 λογοι αὐ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)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μ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ω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l need the arti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5AFCB0CD-CDC8-458E-B3A2-7635819A1F8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324160" y="1595520"/>
            <a:ext cx="4495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4.1 Timid words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271520" y="2814480"/>
            <a:ext cx="6572160" cy="22356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α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n the one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γα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cause / f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ν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r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ut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nnot come as the first wo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B17E410D-6D21-4F78-9558-19E7D4E1DCA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04920" y="2556000"/>
            <a:ext cx="861048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k 3.10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λλου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γαρ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θεραπευσ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ecau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eale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 Thes. 2.20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ει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γαρ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στε ἡ δοξα ἡμων και ἡ χαρ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ecau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you are our glory and joy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2142720" y="2490840"/>
            <a:ext cx="1667160" cy="223920"/>
            <a:chOff x="2142720" y="2490840"/>
            <a:chExt cx="1667160" cy="223920"/>
          </a:xfrm>
        </p:grpSpPr>
        <p:sp>
          <p:nvSpPr>
            <p:cNvPr id="151" name="Line 5"/>
            <p:cNvSpPr/>
            <p:nvPr/>
          </p:nvSpPr>
          <p:spPr>
            <a:xfrm flipH="1">
              <a:off x="2976120" y="2490840"/>
              <a:ext cx="83340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"/>
            <p:cNvSpPr/>
            <p:nvPr/>
          </p:nvSpPr>
          <p:spPr>
            <a:xfrm flipH="1">
              <a:off x="2142720" y="2490840"/>
              <a:ext cx="83340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2143080" y="2490840"/>
              <a:ext cx="0" cy="22392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8"/>
            <p:cNvSpPr/>
            <p:nvPr/>
          </p:nvSpPr>
          <p:spPr>
            <a:xfrm flipV="1">
              <a:off x="3809880" y="2490840"/>
              <a:ext cx="0" cy="22392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9"/>
          <p:cNvSpPr/>
          <p:nvPr/>
        </p:nvSpPr>
        <p:spPr>
          <a:xfrm>
            <a:off x="304920" y="1946160"/>
            <a:ext cx="32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252A9AC1-5F27-47F3-A4B6-F56667AB310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286000" y="1357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4.2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μεν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57200" y="2143080"/>
            <a:ext cx="762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recede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order to express contr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57120" y="3000240"/>
            <a:ext cx="830592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ογιζεσθε ἑαυτους εἰν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νεκρου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ῃ ἁμαρτιᾳ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ζωντα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ῳ 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om 6.11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consider yourselves to be (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 the on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ha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dead to sin but (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 the other ha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alive t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od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"/>
          <p:cNvGrpSpPr/>
          <p:nvPr/>
        </p:nvGrpSpPr>
        <p:grpSpPr>
          <a:xfrm>
            <a:off x="4786200" y="3670200"/>
            <a:ext cx="1643040" cy="214560"/>
            <a:chOff x="4786200" y="3670200"/>
            <a:chExt cx="1643040" cy="214560"/>
          </a:xfrm>
        </p:grpSpPr>
        <p:sp>
          <p:nvSpPr>
            <p:cNvPr id="162" name="Line 7"/>
            <p:cNvSpPr/>
            <p:nvPr/>
          </p:nvSpPr>
          <p:spPr>
            <a:xfrm flipH="1">
              <a:off x="5607720" y="3670200"/>
              <a:ext cx="82152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"/>
            <p:cNvSpPr/>
            <p:nvPr/>
          </p:nvSpPr>
          <p:spPr>
            <a:xfrm flipH="1">
              <a:off x="4786200" y="3670200"/>
              <a:ext cx="82152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4786200" y="3670200"/>
              <a:ext cx="0" cy="21456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 flipV="1">
              <a:off x="6429240" y="3670200"/>
              <a:ext cx="0" cy="21456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1271160" y="4348080"/>
            <a:ext cx="1371960" cy="152640"/>
            <a:chOff x="1271160" y="4348080"/>
            <a:chExt cx="1371960" cy="152640"/>
          </a:xfrm>
        </p:grpSpPr>
        <p:sp>
          <p:nvSpPr>
            <p:cNvPr id="167" name="Line 12"/>
            <p:cNvSpPr/>
            <p:nvPr/>
          </p:nvSpPr>
          <p:spPr>
            <a:xfrm flipH="1">
              <a:off x="1956960" y="4348080"/>
              <a:ext cx="68580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3"/>
            <p:cNvSpPr/>
            <p:nvPr/>
          </p:nvSpPr>
          <p:spPr>
            <a:xfrm flipH="1">
              <a:off x="1271160" y="4348080"/>
              <a:ext cx="68580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1271520" y="4348080"/>
              <a:ext cx="0" cy="15264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 flipV="1">
              <a:off x="2643120" y="4348080"/>
              <a:ext cx="0" cy="15264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239760" y="1414440"/>
            <a:ext cx="8648640" cy="43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Cor. 1.12: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ἑκαστος ὑμων λεγει∙ Ἐ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εἰμι Παυλου, ἐγω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’Απολλω, ἐ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ηφα, ἐ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Χρισ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Each of you says, 'I am Paul's, I am Apollos', I a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phas', I am Christ's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cts 14.4: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.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ἠσαν συν τοις Ἰουδαιοις,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συ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τοις ἀποστολο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ere with the Jews bu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ere with th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ostles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2E789AAB-72E9-44D4-9A19-067F1D0B122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743200" y="1095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.1.1 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46200" y="2035080"/>
          <a:ext cx="7854840" cy="4108680"/>
        </p:xfrm>
        <a:graphic>
          <a:graphicData uri="http://schemas.openxmlformats.org/drawingml/2006/table">
            <a:tbl>
              <a:tblPr/>
              <a:tblGrid>
                <a:gridCol w="1166760"/>
                <a:gridCol w="1127160"/>
                <a:gridCol w="2012760"/>
                <a:gridCol w="1890720"/>
                <a:gridCol w="1657440"/>
              </a:tblGrid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κειν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202"/>
          <p:cNvSpPr/>
          <p:nvPr/>
        </p:nvSpPr>
        <p:spPr>
          <a:xfrm>
            <a:off x="928800" y="1428840"/>
            <a:ext cx="160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ειν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824632A3-A493-434F-BA8A-77DD3F9C680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30632348-CCB1-4414-8EE1-C9DC726FBEB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981080" y="12142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4.3 Use of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723960" y="1857240"/>
            <a:ext cx="769608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a weak ‘but’, wherea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α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presses 'but' more strongly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also used just with the article (e.g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δ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 point out that the subject has change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k 6.37-38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ουσιν αὐτῳ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 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λεγει αὐτοις,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σους ἀρτους ἐχ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They said to him ..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he sai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to them, 'How many loaves of brea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do you have?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2666880" y="11430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.4.4 Use of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και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85840" y="1614600"/>
            <a:ext cx="878688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rmally means 'and', but can also be used to give emphasis, equivalent to 'also' or 'even'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τε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s often followed by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iving the meaning 'both … and'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2.2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ος ἐστιν ὁ υἱος του ἀνθρωπου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υ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σαββα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on of man is lor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v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ver the Sabba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1.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(ὡν) ἠρξατο ὁ Ἰησους ποιει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διδασκε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which) Jesus began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o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do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tea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10ACB119-1CE2-45D1-9A0A-FD4FDB55F60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857160" y="14000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ὑτ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09720" y="1963800"/>
          <a:ext cx="7305480" cy="4108320"/>
        </p:xfrm>
        <a:graphic>
          <a:graphicData uri="http://schemas.openxmlformats.org/drawingml/2006/table">
            <a:tbl>
              <a:tblPr/>
              <a:tblGrid>
                <a:gridCol w="1104840"/>
                <a:gridCol w="1068480"/>
                <a:gridCol w="1904760"/>
                <a:gridCol w="1791000"/>
                <a:gridCol w="1436400"/>
              </a:tblGrid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ὑ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ὑ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υ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υ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α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Box 3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CDCF88DA-1FED-4A4E-83AD-022120E4333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57120" y="1179360"/>
            <a:ext cx="857268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endings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re actually the same as for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εινος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gins with a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most of its forms; rough breathing in the nom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sc. and fem., sing. and plural, the same as in the art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irst vowel fluctuates betwee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 it matches the second vowel.  If the second vowel has a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ound, the first vowel i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but if it has a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ound, it i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28800" y="4238640"/>
            <a:ext cx="7277040" cy="23565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itially, what is important is simply to be able to recognise the forms of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Greek. This is relatively easy, but watch for the forms without the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τ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88F3B451-1016-41AC-A90A-65FF2016360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790640" y="1949400"/>
            <a:ext cx="5562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9.1.2 Us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000080" y="2635200"/>
            <a:ext cx="74296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Use as pronoun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βλεψα ἐκειν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saw those (peopl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ξεται ταυτ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He will begin these th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4C917678-0500-4C19-BB90-4543CD7F1A1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B4D9B9ED-2C32-499D-B6ED-146343E1DF4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90720" y="1500120"/>
            <a:ext cx="7162560" cy="45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Use as adjectiv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) The article must always be used in addition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i) They are placed in the predicative word order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English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br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Greek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δελφος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his the broth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λ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lines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αθ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it is used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it comes before the articl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whole crowd 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λος ὁ ὀχλ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ὁλος ὀχλ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447920" y="12142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9.2.1 Further use of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33280" y="2168640"/>
            <a:ext cx="8910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αὐτο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n be used as an adjectiv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jective meaning 'sam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rmal attributive position (between article and nou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mphatic adjective (himself, herself, itself, themsel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ing before the article (predicative position) 'for emphasis'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2AA41342-347B-451D-871E-B862AABF342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E68F5895-18F1-4958-9B7C-6C8C08B8DA3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14200" y="1643040"/>
            <a:ext cx="864396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am speak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 μαθητ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ο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λεγ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isciples s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ο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υριος σωζει τον λα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or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ves th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ο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 κυριος σωζει τον λα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 Lor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msel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ves the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552760" y="11635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9.2.2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ἑαυ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3480" y="1781280"/>
            <a:ext cx="91440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ἑαυ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the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erson reflexive pronoun (himself, herself, itself, themselves).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ἑαυ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eclines exactly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κυριος σωζε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ἑαυτ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- The Lord save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imself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αὐτο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ὁ κυριος σωζει τον λα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- The Lor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imself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aves the peo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43000" y="4200480"/>
            <a:ext cx="6858000" cy="19594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You can tell whether 'himself' etc.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flex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or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mphatic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by deleting it. If the sentence's basic meaning is unaltered, it wa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mphatic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, if not it wa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flex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6D816080-BC7C-4977-9245-5340F94C73B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3:19:25Z</dcterms:created>
  <dc:creator>Sarah</dc:creator>
  <dc:description/>
  <dc:language>en-US</dc:language>
  <cp:lastModifiedBy>Sarah</cp:lastModifiedBy>
  <dcterms:modified xsi:type="dcterms:W3CDTF">2009-03-04T13:01:32Z</dcterms:modified>
  <cp:revision>69</cp:revision>
  <dc:subject/>
  <dc:title>Slide 1</dc:title>
</cp:coreProperties>
</file>