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A754-D9AD-4F69-B226-1743C97B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4036-0BA0-4814-8434-35AB3CF9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7626-74FC-43F3-B58A-E2E62DEC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6E99-0410-4F62-BF77-D2A6FC40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D857-5D67-4813-B662-42237857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3F25-459E-4343-B312-81E0C16D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E3A8-FD9A-4833-8928-EDC72352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7B72-DACE-47EB-9479-CE02A0FF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8BD7-0403-466E-8CC4-6B92E431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59DA-F1EA-4606-8005-390DB752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924F-62EB-4E2E-B916-3D380942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455A-1663-41DC-BCB7-C798E263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356D-1200-4DAA-BFD4-D222D017D64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78913CE6-7B67-4023-8F80-89E233DA9FCB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840" y="1500120"/>
            <a:ext cx="8572320" cy="15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City' or ‘town’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ολ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ολεω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'king' is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βασιλε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βασιλεω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14400" y="3232080"/>
          <a:ext cx="7342200" cy="2468520"/>
        </p:xfrm>
        <a:graphic>
          <a:graphicData uri="http://schemas.openxmlformats.org/drawingml/2006/table">
            <a:tbl>
              <a:tblPr/>
              <a:tblGrid>
                <a:gridCol w="1486080"/>
                <a:gridCol w="1373040"/>
                <a:gridCol w="1014480"/>
                <a:gridCol w="1590480"/>
                <a:gridCol w="1878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υ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ω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ω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υ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ε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(ONE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C0099B7F-47EA-47BE-AA61-DD8DD1DB9C10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655640" y="1560600"/>
          <a:ext cx="5803920" cy="2468520"/>
        </p:xfrm>
        <a:graphic>
          <a:graphicData uri="http://schemas.openxmlformats.org/drawingml/2006/table">
            <a:tbl>
              <a:tblPr/>
              <a:tblGrid>
                <a:gridCol w="1006560"/>
                <a:gridCol w="1795680"/>
                <a:gridCol w="1687320"/>
                <a:gridCol w="1314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u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min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ι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ι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ι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ιᾳ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Text Box 131"/>
          <p:cNvSpPr/>
          <p:nvPr/>
        </p:nvSpPr>
        <p:spPr>
          <a:xfrm>
            <a:off x="1986120" y="4473720"/>
            <a:ext cx="5138640" cy="14731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int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atch the breathings -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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ἑ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one) 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in);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εἱ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one) 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εἰ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into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ε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(ONE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C13BB309-CC93-49ED-B988-8766DE855665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714680" y="1071720"/>
            <a:ext cx="5715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δεις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nd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δεις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= 'no one, nothing'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880920" y="1598760"/>
          <a:ext cx="7358040" cy="2225520"/>
        </p:xfrm>
        <a:graphic>
          <a:graphicData uri="http://schemas.openxmlformats.org/drawingml/2006/table">
            <a:tbl>
              <a:tblPr/>
              <a:tblGrid>
                <a:gridCol w="1252800"/>
                <a:gridCol w="2235240"/>
                <a:gridCol w="2100240"/>
                <a:gridCol w="1769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μι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μι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μι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μι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427040" y="4000680"/>
          <a:ext cx="6288120" cy="2225520"/>
        </p:xfrm>
        <a:graphic>
          <a:graphicData uri="http://schemas.openxmlformats.org/drawingml/2006/table">
            <a:tbl>
              <a:tblPr/>
              <a:tblGrid>
                <a:gridCol w="1067040"/>
                <a:gridCol w="1904760"/>
                <a:gridCol w="1791000"/>
                <a:gridCol w="1525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μι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μι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μι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μι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ε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(ONE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8A96101F-CA7F-4B1A-A176-0E0A098F0354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42920" y="1143000"/>
            <a:ext cx="8929800" cy="53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n Greek, a sentence is either negative, or not; unlike in English, two negatives do not make a positi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xamples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rk 13.32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ερι δε της ἡμερας ἐκεινης ἠ της ὡρας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ὐδει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οἰδεν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[he knows]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ὐ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οἱ ἀγγελοι ἐν οὐρανῳ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ὐ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ὁ υἱος, εἰ μη ὁ πατηρ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- But about that day or hou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 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knows,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ith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th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ngels in heaven,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the Son, but only the Fat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rk 14.60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ὐκ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ἀποκριν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δ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                                 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-  Do you repl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th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76040" y="1500120"/>
            <a:ext cx="8610840" cy="43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0800" indent="-936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se two patterns are very similar – in particular having the distinctive gen. singular in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ω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nd nom. and acc. plurals in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ι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 The main difference between them is in the acc. singular (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ι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or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0800" indent="-936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ink of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ω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s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nd then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ending is correct for the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eclens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0800" indent="-93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re is another pattern of words which have stems ending in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 However, there only word in this family which is at all common, 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ἰχθυ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and even that only occurs 20 times in the New Testament. Its endings are the same 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στηρ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xcept for the accusative singular: 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ἰχθυς,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ἰχθυ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, ἰχθυος, ἰχθυ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ἰχθυες, ἰχθυας, ἰχθυων, ἰχθυσι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23254D91-913F-498F-8D1D-220263B4939D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6914CD28-48C7-437E-96D5-759C513F6884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892080" y="1817640"/>
            <a:ext cx="7353360" cy="33242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Arial"/>
              </a:rPr>
              <a:t>Hint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Don't worry too much about these noun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They are not particularly common,</a:t>
            </a:r>
            <a:r>
              <a:rPr b="0" lang="el-GR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and most of their forms are close enough to either the 1</a:t>
            </a:r>
            <a:r>
              <a:rPr b="0" lang="en-GB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st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/2</a:t>
            </a:r>
            <a:r>
              <a:rPr b="0" lang="en-GB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d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 or the 3</a:t>
            </a:r>
            <a:r>
              <a:rPr b="0" lang="en-GB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 declension endings in the appropriate case and number, that you can normally guess them correctly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2705040" y="11239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13.2.1 Nou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028880" y="1765440"/>
          <a:ext cx="7099200" cy="4343400"/>
        </p:xfrm>
        <a:graphic>
          <a:graphicData uri="http://schemas.openxmlformats.org/drawingml/2006/table">
            <a:tbl>
              <a:tblPr/>
              <a:tblGrid>
                <a:gridCol w="1212840"/>
                <a:gridCol w="798480"/>
                <a:gridCol w="1174680"/>
                <a:gridCol w="1538280"/>
                <a:gridCol w="117360"/>
                <a:gridCol w="2257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ss of getting the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, therefore as nomin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, therefore as nomin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5C4E81E2-28C0-45BA-AC7A-9F2C7A8619F4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CONTRACTING NOUN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AND ADJECTIV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338D743A-709B-4FDF-B73C-F837679B4417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71680" y="1527120"/>
          <a:ext cx="8001000" cy="3916440"/>
        </p:xfrm>
        <a:graphic>
          <a:graphicData uri="http://schemas.openxmlformats.org/drawingml/2006/table">
            <a:tbl>
              <a:tblPr/>
              <a:tblGrid>
                <a:gridCol w="907920"/>
                <a:gridCol w="798480"/>
                <a:gridCol w="1494000"/>
                <a:gridCol w="1828800"/>
                <a:gridCol w="1371600"/>
                <a:gridCol w="160020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uline / Feminine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.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copying nom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σι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σι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ext Box 262"/>
          <p:cNvSpPr/>
          <p:nvPr/>
        </p:nvSpPr>
        <p:spPr>
          <a:xfrm>
            <a:off x="1409760" y="103824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13.2.2 Adjectiv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263"/>
          <p:cNvSpPr/>
          <p:nvPr/>
        </p:nvSpPr>
        <p:spPr>
          <a:xfrm>
            <a:off x="176040" y="5572080"/>
            <a:ext cx="832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Note:</a:t>
            </a:r>
            <a:r>
              <a:rPr b="0" lang="el-GR" sz="19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It is only the acc. plural masculine/feminine which is peculiar, in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copying the nom. when one might expect some contraction of –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  <a:ea typeface="Arial"/>
              </a:rPr>
              <a:t>εα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CONTRACTING NOUN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AND ADJECTIV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357120" y="1392120"/>
            <a:ext cx="821556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o decline a word such a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, you needs to know four pieces of inform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masculine nominative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neuter nominative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genitive (or stem) for the masculine &amp; neu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feminine nominative singul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or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, once we know the nom. sing.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σ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nd th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declension stem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ντ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, we can deduce the rest of the declens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14EB5C80-516E-4BF6-A039-8D91F7791FF5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π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E3143DD7-E148-4FC4-BE7D-7A56BFAC533D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41200" y="1285920"/>
          <a:ext cx="8643960" cy="4892760"/>
        </p:xfrm>
        <a:graphic>
          <a:graphicData uri="http://schemas.openxmlformats.org/drawingml/2006/table">
            <a:tbl>
              <a:tblPr/>
              <a:tblGrid>
                <a:gridCol w="1330560"/>
                <a:gridCol w="1171440"/>
                <a:gridCol w="2192400"/>
                <a:gridCol w="2062080"/>
                <a:gridCol w="1887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u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min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rd Dec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st Dec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rd Dec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η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ε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α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Box 4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π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115920" y="1098720"/>
            <a:ext cx="914400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Using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On its own; masculine = person/man; feminine = woman; 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neuter = thing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John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1.3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παντα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 δι’ αὐτου ἐγενετο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ll thing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came to be through hi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Mark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6.50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παντες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 γαρ αὐτον εἰδ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For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veryon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saw hi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It can occur with a noun without an artic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Example: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Matt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7.17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παν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 ὁ πιστευων ὁτι Ἰησους ἐστιν ὁ Χριστ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very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good tree produces good fruit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ED44BAE6-3869-4043-BDC3-BFDB6D80B0E0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π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π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A3A8C41A-D893-4E39-84F3-387156F3095C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57320" y="1214280"/>
            <a:ext cx="877248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· It can occur with a noun with the article, in which case it normally stands in the predicative positive (i.e. before the 'the'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rk 14.53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συνερχοντ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παντε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 οἱ ἀρχιερει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l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the chief priests gat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·  It can occur with the article and particip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1 John 5.1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πα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 ὁ πιστευων ὁτι Ἰησους ἐστιν ὁ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Χριστ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very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who believes that the Messiah is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Jesu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0:11:56Z</dcterms:created>
  <dc:creator>Sarah</dc:creator>
  <dc:description/>
  <dc:language>en-US</dc:language>
  <cp:lastModifiedBy>Sarah</cp:lastModifiedBy>
  <dcterms:modified xsi:type="dcterms:W3CDTF">2008-09-25T13:06:31Z</dcterms:modified>
  <cp:revision>23</cp:revision>
  <dc:subject/>
  <dc:title>Slide 1</dc:title>
</cp:coreProperties>
</file>