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4D7-BF89-4FC2-A5E2-E10F2B81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020-D04D-4826-8827-1EB00A3F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956-F663-4BCD-87AD-F9BE3AA2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41D-B11B-4C95-89E5-F37F5CD2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9A0E-81BF-4659-B64E-E02A30D0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41B4-E1FB-4895-B33C-01BCC363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4185-375A-43CC-B531-E6489E4E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E7E6-7E7E-454F-988D-68AB231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DA4B-489B-4EDB-A1AC-35E3E0E9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607A-B271-4454-B17B-A00C8B63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FD6F-E5D0-4F99-AC4A-1BAB1E68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EFE-BBEF-4FCF-9C5D-EF3341A3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F86-2F47-4464-9D9D-31D2328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5A8A-5D5E-45DB-B5CC-1A4AC12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8B45-F8F3-4EA7-89EA-B27C504D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9A0-271D-4CD9-9FB0-AA60DF83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2615-44BD-4C37-9741-FCD84A6F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FDC-AFE3-42D6-BE56-186D8D2A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89B-78C5-4205-BE04-BDE6BFAE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832-B288-4782-908E-610FBBCB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B65-F1D0-4B26-B35E-04E79D5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7A5-CDD7-4EBF-8147-3D37535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A6F-5193-422B-A4D5-2E12473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CE7-0BCA-4178-9253-6F8A0623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062C-F31F-4AC1-A9D6-3CF14FC6A6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886-1990-43B4-BE1B-121F3D1135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55520" y="1357200"/>
          <a:ext cx="8832960" cy="4373640"/>
        </p:xfrm>
        <a:graphic>
          <a:graphicData uri="http://schemas.openxmlformats.org/drawingml/2006/table">
            <a:tbl>
              <a:tblPr/>
              <a:tblGrid>
                <a:gridCol w="1951200"/>
                <a:gridCol w="1293840"/>
                <a:gridCol w="3041640"/>
                <a:gridCol w="2546280"/>
              </a:tblGrid>
              <a:tr h="45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ma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5A16421E-685D-491A-B179-5D008B9BD5B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62400" y="1500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3 Forming a Sen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28760" y="207180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τε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plural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ς βλεπει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A slave sees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- Slaves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laves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86080" y="1641600"/>
            <a:ext cx="617220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bs agree with their subject i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7120" y="3251160"/>
            <a:ext cx="8286840" cy="268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three steps to tran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Work out the case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Work out why the different words have the cases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Translate the sentenc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2428920"/>
            <a:ext cx="87868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)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δουλου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lave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A lord has slave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143000" y="1714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928800" y="22147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Arial"/>
              </a:rPr>
              <a:t>κυριος ἐχει δουλ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460520"/>
          <a:ext cx="5977080" cy="2271600"/>
        </p:xfrm>
        <a:graphic>
          <a:graphicData uri="http://schemas.openxmlformats.org/drawingml/2006/table">
            <a:tbl>
              <a:tblPr/>
              <a:tblGrid>
                <a:gridCol w="1992600"/>
                <a:gridCol w="1992240"/>
                <a:gridCol w="199224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2920" y="4000680"/>
            <a:ext cx="1035828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πει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ν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ular)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ι βλεπουσιν.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νθρωπος βλεπει τους αγγελο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l-GR" sz="10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on 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4200" y="1658880"/>
            <a:ext cx="87868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special uses of the definite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αυι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David (not 'the Davi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bstrac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ανθρωπ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the person’, also ‘humanity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law’ (as a concept), also ‘the law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ather than ‘a god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θε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PECIAL USES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2" name="Rectangle 4"/>
          <p:cNvSpPr/>
          <p:nvPr/>
        </p:nvSpPr>
        <p:spPr>
          <a:xfrm>
            <a:off x="928800" y="2013120"/>
            <a:ext cx="70722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 or Plural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: he, she, or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: two possibilities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Verdana"/>
              </a:rPr>
              <a:t>is always used before a vowel and at the end of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D8C6BEFA-33AA-4B7F-A482-191CB108489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.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43080" y="4626000"/>
            <a:ext cx="8458200" cy="10076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e Greek word often means more than one Englis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785960"/>
          <a:ext cx="6765840" cy="1879560"/>
        </p:xfrm>
        <a:graphic>
          <a:graphicData uri="http://schemas.openxmlformats.org/drawingml/2006/table">
            <a:tbl>
              <a:tblPr/>
              <a:tblGrid>
                <a:gridCol w="761760"/>
                <a:gridCol w="1024200"/>
                <a:gridCol w="1593720"/>
                <a:gridCol w="1003320"/>
                <a:gridCol w="1023840"/>
                <a:gridCol w="1359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BE9FD317-AE34-4CD4-A9F0-6C6B429AE10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103" name="Group 28"/>
          <p:cNvGrpSpPr/>
          <p:nvPr/>
        </p:nvGrpSpPr>
        <p:grpSpPr>
          <a:xfrm>
            <a:off x="228600" y="1709640"/>
            <a:ext cx="8686080" cy="2362320"/>
            <a:chOff x="228600" y="1709640"/>
            <a:chExt cx="8686080" cy="2362320"/>
          </a:xfrm>
        </p:grpSpPr>
        <p:sp>
          <p:nvSpPr>
            <p:cNvPr id="104" name="Rectangle 4"/>
            <p:cNvSpPr/>
            <p:nvPr/>
          </p:nvSpPr>
          <p:spPr>
            <a:xfrm>
              <a:off x="228600" y="1709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757880" y="1709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604760" y="1709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144840" y="1709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28600" y="2087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1757880" y="2087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4604760" y="2087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144840" y="2087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228600" y="2465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1757880" y="2465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4604760" y="2465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6144840" y="2465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2843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57880" y="2843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604760" y="2843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6144840" y="2843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8600" y="3221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1757880" y="3221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4604760" y="3221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144840" y="3221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228600" y="3599640"/>
              <a:ext cx="15292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1757880" y="3599640"/>
              <a:ext cx="28468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604760" y="3599640"/>
              <a:ext cx="15397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144840" y="3599640"/>
              <a:ext cx="27698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"/>
          <p:cNvSpPr/>
          <p:nvPr/>
        </p:nvSpPr>
        <p:spPr>
          <a:xfrm>
            <a:off x="142920" y="4514760"/>
            <a:ext cx="8658360" cy="10994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ce you know the Present of </a:t>
            </a:r>
            <a:r>
              <a:rPr b="0" lang="el-GR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you know the Present of almost every Greek ver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4611600" y="24685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βλεπ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4216451-2CA5-4683-A6DE-C7F9174CCF6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4" name="Text Box 4"/>
          <p:cNvSpPr/>
          <p:nvPr/>
        </p:nvSpPr>
        <p:spPr>
          <a:xfrm>
            <a:off x="857160" y="1428840"/>
            <a:ext cx="7358040" cy="194040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reek grammar is very regu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ut with many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minor adju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hen certain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letters com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4"/>
          <p:cNvSpPr/>
          <p:nvPr/>
        </p:nvSpPr>
        <p:spPr>
          <a:xfrm>
            <a:off x="71280" y="4214880"/>
            <a:ext cx="9144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: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ops out before long vowel or dipht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B1D856A8-EEAD-4955-827C-93B68978856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140" name=""/>
          <p:cNvGraphicFramePr/>
          <p:nvPr/>
        </p:nvGraphicFramePr>
        <p:xfrm>
          <a:off x="166680" y="1576440"/>
          <a:ext cx="8763120" cy="4281480"/>
        </p:xfrm>
        <a:graphic>
          <a:graphicData uri="http://schemas.openxmlformats.org/drawingml/2006/table">
            <a:tbl>
              <a:tblPr/>
              <a:tblGrid>
                <a:gridCol w="2679840"/>
                <a:gridCol w="1807920"/>
                <a:gridCol w="4275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ocess of getting t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ov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D4337092-BDFC-4C2B-A2C1-771B30D15B2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85840" y="2000160"/>
            <a:ext cx="8420040" cy="23198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always listed in vocabularies or dictionaries in their uncontracted form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hough this form will never be found in Greek (since it would have contracted in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1CA67814-02E4-46B3-9FB9-A88D141AB19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785880" y="428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3DD3929C-6393-4EF1-AF00-5C3AFE7DF58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62040" y="2768760"/>
          <a:ext cx="6172200" cy="218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76"/>
          <p:cNvSpPr/>
          <p:nvPr/>
        </p:nvSpPr>
        <p:spPr>
          <a:xfrm>
            <a:off x="1523880" y="1854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1 The forms of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200016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2 The Meaning of the Nominative and Accusativ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00160" y="3429000"/>
            <a:ext cx="51436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ominative –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cusative –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0:50:58Z</dcterms:created>
  <dc:creator>Sarah</dc:creator>
  <dc:description/>
  <dc:language>en-US</dc:language>
  <cp:lastModifiedBy>Sarah</cp:lastModifiedBy>
  <dcterms:modified xsi:type="dcterms:W3CDTF">2008-08-25T11:50:21Z</dcterms:modified>
  <cp:revision>53</cp:revision>
  <dc:subject/>
  <dc:title>Slide 1</dc:title>
</cp:coreProperties>
</file>