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3E8B-40B9-4195-9D71-2631C41ECF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32E-B922-40B9-B434-6C97D6A1E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986-47DE-4E64-AC9E-544733A5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458-E503-4FFE-89D4-15142BC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04A-9745-4EA8-8485-FB60FB6E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645-1EE5-4546-B71B-86DE5D29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351-F588-4C33-82B1-D863E511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14D-E217-453F-BA83-FE807C13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160-EC83-4FC7-BA74-A69C4A8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6DE-E7CA-4DCF-AEC0-975E53A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0B1-DFB3-4828-A55E-6D79189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894-27BB-4836-B2D1-2C9B3D7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614-93D8-40D8-BE46-3916AEE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1A6-00A9-4FF4-B592-51FC9DF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E15-6C6A-4836-B8CF-D2F2FEDCAC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E072A7EC-ACC8-4C71-9442-D819E2080A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948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ω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made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6480"/>
                <a:gridCol w="1103400"/>
                <a:gridCol w="1979640"/>
                <a:gridCol w="1211400"/>
                <a:gridCol w="16239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291505C3-78E2-401A-83E3-179753D41B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678DFF37-DA17-4820-A14C-4270E8F2BE8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4316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6DD63C4F-E0F7-42F5-A544-BC14F4303C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0240"/>
                <a:gridCol w="1199880"/>
                <a:gridCol w="1197000"/>
                <a:gridCol w="1424160"/>
                <a:gridCol w="1096920"/>
                <a:gridCol w="1170000"/>
                <a:gridCol w="13255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F27BE333-CD49-4319-B88A-4B0D40F7D6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7000"/>
                <a:gridCol w="18651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8-10-06T15:06:42Z</dcterms:modified>
  <cp:revision>45</cp:revision>
  <dc:subject/>
  <dc:title>Slide 1</dc:title>
</cp:coreProperties>
</file>