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79E-B69A-4351-9552-8A5F9B5F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0D1-B3BA-450A-8C1F-19246F32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F7A-50D0-4F91-B04E-3ACAEB8C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CB3-F9A9-4D52-8C98-76633A74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73E-7791-4D55-8582-DFDCCB3B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94A-9D5A-4986-B1C7-24E92D98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368-3FE9-4DE8-8C1D-F527A4B2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D22-2954-4150-B92A-B305733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1EA-D81A-436A-9B81-B8A28103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B20-F117-4C38-8CF2-0E05619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EE0-CD78-4AC9-A42B-FB69ACB0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72B-ECBF-4D35-BDA5-FCB87CBE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9C6D-1718-413C-B7DE-EF2D31FF5D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3229B9BD-FBE7-413E-B3A6-191D732B591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04840" y="1285920"/>
            <a:ext cx="8653320" cy="53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2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υτα γραφ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ἱνα μη ἁμαρτη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 writing these things to you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 that you may no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i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Pet. 3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Χριστος ἁπαξ περι ἁματιων ἐπαθε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ἱν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ὑμ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ροσαγαγ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t once for all suffered for sins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 order to br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to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1.27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 ἀν ἐσθι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ἀρτον ἠ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ν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 ποτηριον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ever ea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bread 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rink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cup of the Lord.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46200" y="3564000"/>
          <a:ext cx="7840440" cy="1508040"/>
        </p:xfrm>
        <a:graphic>
          <a:graphicData uri="http://schemas.openxmlformats.org/drawingml/2006/table">
            <a:tbl>
              <a:tblPr/>
              <a:tblGrid>
                <a:gridCol w="933480"/>
                <a:gridCol w="350640"/>
                <a:gridCol w="1081080"/>
                <a:gridCol w="3537000"/>
                <a:gridCol w="351000"/>
                <a:gridCol w="158724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 ἀ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π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που ἀ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τα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85"/>
          <p:cNvSpPr/>
          <p:nvPr/>
        </p:nvSpPr>
        <p:spPr>
          <a:xfrm>
            <a:off x="2019240" y="1508040"/>
            <a:ext cx="5105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1 Indefinit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6"/>
          <p:cNvSpPr/>
          <p:nvPr/>
        </p:nvSpPr>
        <p:spPr>
          <a:xfrm>
            <a:off x="1333440" y="2398680"/>
            <a:ext cx="647712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+ Subjunctive = indefini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AFFCAAE8-D23C-4AED-9732-C9521D76E04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61061E01-FBF4-41A7-A484-E4B7B120D0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0360" y="1357200"/>
            <a:ext cx="92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35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ς ἀν ποιησ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 θελημα του θεου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ever do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will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6.6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υ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αν προσευχ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ever you pr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14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ι οἱ ἀκολουθουντες τῳ ἀρνιῳ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που ἀ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ὑπαγ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se ones follow the lamb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rever he go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74729F30-410D-432E-A6F0-B02AC3571E6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14200" y="1571760"/>
            <a:ext cx="86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</a:t>
            </a:r>
            <a:r>
              <a:rPr b="0" lang="en-GB" sz="28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used in plac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uses the indefinite strictly, even when there is no ‘ever’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 6.6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ὁταν προσευχῃ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s 'whenever 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ay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10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μενετε ἑως ἀν ἐξελθητε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s 'remai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il ever you leav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1866960" y="117648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2 Purpos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52480" y="1833480"/>
            <a:ext cx="5639040" cy="627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</a:t>
            </a: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+ Subjunctive =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2920" y="2666880"/>
            <a:ext cx="8858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8.5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ραν οὐν λιθου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 βαλωσ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ἐπ’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They took ston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 order that they might thr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them) a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tt 7.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η κρινετε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 μη κριθητε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Do not judge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 order that you might not be judg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hil. 1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τουτο προσευχομαι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ἡ ἀγαπη 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ερισσευ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I pray th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your lov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y overfl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921A35A6-F644-4BB4-B0D6-72EC041A1AC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F95C32CC-DE8D-4FB1-BC25-DED38B2008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7040" y="1631880"/>
          <a:ext cx="8699760" cy="3969000"/>
        </p:xfrm>
        <a:graphic>
          <a:graphicData uri="http://schemas.openxmlformats.org/drawingml/2006/table">
            <a:tbl>
              <a:tblPr/>
              <a:tblGrid>
                <a:gridCol w="2217600"/>
                <a:gridCol w="216000"/>
                <a:gridCol w="2426040"/>
                <a:gridCol w="1797120"/>
                <a:gridCol w="191520"/>
                <a:gridCol w="1851480"/>
              </a:tblGrid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 of thes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ν οὐν λιθου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να βαλω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’ αὐτ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be translated by any of the following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fore they took st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order 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m) at hi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order 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19B3BBAD-423C-4512-9465-AC2E068CAF8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11400" y="3500280"/>
            <a:ext cx="6691320" cy="2174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ave looked at the two most common uses of the Subjunctive. Notice that each has a 'flag word'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(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hich alerts you to the fact that a Subjunctive is on the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6200" y="1428840"/>
            <a:ext cx="88390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 Subjunctive is a more unusual alternativ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 Subjun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0C2E8F87-2E13-4841-B48C-D1FC099657C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104840"/>
            <a:ext cx="8229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3 Exhortations (Hortatory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486080" y="1797120"/>
            <a:ext cx="617220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lural Subjunctive = 'let us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768240" y="2544840"/>
            <a:ext cx="97581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rk 4.35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ελθωμε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εἰς το περα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et us go to the other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14.19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ρα οὐν τα της εἰρηνη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ωκωμε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 therefor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t us purs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 things of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b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0.22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ροσερχωμεθ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μετα ἀληθινης καρδιας ἐν πληροφορι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ιστ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t us approa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with a true heart in full assurance of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909D3581-873E-47E1-BDE9-3DB89A0E92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1176480"/>
            <a:ext cx="853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4 Deliberation (Deliberative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09480" y="1816200"/>
            <a:ext cx="792504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erson Subjunctive = delib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14200" y="2473200"/>
            <a:ext cx="855828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3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 οὐ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οιησω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hat the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we d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b. 11.3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ί ἐτ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 – And what mor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I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. 6.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 ο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ἁμαρτησ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ὁτι οὐκ ἐσμεν ὑπο νομο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λλα ὑπο χαρ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hen?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we si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because we are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under law but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grac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E4377436-D543-4207-B3A0-880C56FDC4A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76520" y="121932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5 Prohibitio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38080" y="2133720"/>
            <a:ext cx="746784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orist Subjunctive replaces Aorist Imperative in prohib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3786120"/>
          <a:ext cx="6622920" cy="1920960"/>
        </p:xfrm>
        <a:graphic>
          <a:graphicData uri="http://schemas.openxmlformats.org/drawingml/2006/table">
            <a:tbl>
              <a:tblPr/>
              <a:tblGrid>
                <a:gridCol w="1392120"/>
                <a:gridCol w="1471680"/>
                <a:gridCol w="375912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Imperative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aul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244440" y="12636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1.4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σενεγκῃ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ἡμας εἰς πειρασμ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 to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10.6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πῃ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ν τῃ καρδιᾳ σου∙ τίς ἀναβησεται εἰ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οὐραν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s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your heart, 'Who will go up to heave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10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υς τους δωδεκα ἀπεστειλεν ὁ Ἰησους ..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ν∙ Εἰς ὁδον ἐθν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ἀπελθητε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πολ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αμαριτ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σελθη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sent out these twelve … saying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go ou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d of the Gentiles,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en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city of the Samarians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61586483-89DB-4863-8308-E3FD99FB35B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D1575454-CD19-4A32-A582-802B4E20575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57120" y="1657440"/>
            <a:ext cx="840096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10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που ἐαν εἰσελθη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εἰς οἰκιαν, ἐκει μενετ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rever you ent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house, stay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tus 3.1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αν πεμψ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Ἀρτεμαν προς σε ἠ Τυχικον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πουδασον ἐλθειν προς με εἰς Νικοπολ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(ever) I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temas to you, or Tychicus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ry effort to come to me at Nicopol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3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λεγει αὐτοις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γ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ἀλλαχ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he said to them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t us g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lsewhere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B44577A5-1A76-4B37-B912-FADDE5261D1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76240" y="1119240"/>
            <a:ext cx="7391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6 Emphatic Negative Futur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62040" y="1749600"/>
            <a:ext cx="6019920" cy="1114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1" lang="en-GB" sz="3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1" lang="en-GB" sz="3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+ Aorist Subjunctive = emphatic negativ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2871720"/>
            <a:ext cx="91440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13.30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μην λεγω ὑμιν 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ὐ μη παρελθῃ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ἡ γενεα αὑτ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ruly I tell to you that this gener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ll (definitely) not pass aw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6.3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ἐρχομενον προς ἐμ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ὐ μη ἐκβαλ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ξ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comes to m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(definitely) not drive aw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ut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6.3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αὐτῳ ὁ Πετρος∙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ὑ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παρνησ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said to him, '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never den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48005430-8A7B-40A2-B1C7-6B2552D62C9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61800" y="1428840"/>
            <a:ext cx="84963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2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ελθουσα εἰπεν τῃ μητρι αὐτης∙ Τ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ἰτησωμ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she had gone out, she said to her mother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Wha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I ask (for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b. 10.35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ἀποβαλη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ὐν την παρρησιαν 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o not thro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way you boldnes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18.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ηθησεται Βαβυλων ἡ μεγαλη πολις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οὐ μη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ὑρεθ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τ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bylon the great city will be thrown down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ever be fou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9EEA6C2C-8819-4CFD-BEB9-627D9922F5F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IDEA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14240" y="211284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ubjunctive is the fifth and final Mood which occurs in all three vo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e, middle, or pa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2A6D330F-1A6D-43B0-BC9D-532E3A94C0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401840" y="2327400"/>
            <a:ext cx="6324480" cy="1810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move any 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lace the Indicative endings with the Subjunctive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E1575142-330B-4118-AA3C-1FFD784A226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2840" y="1455840"/>
            <a:ext cx="850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2.1 Present Active, Aorist Active, Aorist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5840" y="2714760"/>
          <a:ext cx="8580240" cy="1828800"/>
        </p:xfrm>
        <a:graphic>
          <a:graphicData uri="http://schemas.openxmlformats.org/drawingml/2006/table">
            <a:tbl>
              <a:tblPr/>
              <a:tblGrid>
                <a:gridCol w="2428920"/>
                <a:gridCol w="615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, λυῃς, λυῃ, λυωμεν, λυητε, λυ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ω, λυσῃς, λυσῃ, λυσωμεν, λυσητε, λυσ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, βαλῃς, βαλῃ, βαλωμεν, βαλητε, βαλ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ω, λυθῃς, λυθῃ, λυθωμεν, λυθητε, λυθ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3"/>
          <p:cNvSpPr/>
          <p:nvPr/>
        </p:nvSpPr>
        <p:spPr>
          <a:xfrm>
            <a:off x="0" y="1461960"/>
            <a:ext cx="9061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2.2 Present Middle, Present Passive, Aorist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3160" y="2389320"/>
          <a:ext cx="8785080" cy="3047760"/>
        </p:xfrm>
        <a:graphic>
          <a:graphicData uri="http://schemas.openxmlformats.org/drawingml/2006/table">
            <a:tbl>
              <a:tblPr/>
              <a:tblGrid>
                <a:gridCol w="1404720"/>
                <a:gridCol w="738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ωμαι, ῥυῃ, ῥυηται, ῥυωμεθα, ῥυησθε, ῥυωντα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μαι, λυῃ, λυηται, λυωμεθα, λυησθε, λυ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ωμαι, ῥυσῃ, ῥυσηται, ῥυσωμεθα, ῥυσησθε, ῥυσ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ενωμαι, γενῃ, γενηται, γενωμεθα, γενησθε, γεν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88B97F64-C0AD-4DE5-8565-E3EC67F6614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BFB6CE1E-B7F5-4C37-9150-BB241592E9E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7"/>
          <p:cNvSpPr/>
          <p:nvPr/>
        </p:nvSpPr>
        <p:spPr>
          <a:xfrm>
            <a:off x="303120" y="1614600"/>
            <a:ext cx="85010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are easy in the Subjunctive – the endings always begin with a long vowel, s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always be absor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us, the Present Active Subjunct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ῃς, φιλῃ, φιλωμεν, φιλητε, φιλ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μι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the same endings – its Present Subjunctive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ᾐ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ᾐ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409760" y="2604960"/>
            <a:ext cx="6324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nt Subjunctive –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orist Subjunctive – Defa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1840EBBD-4890-4D91-89CE-4F67B737B46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3:35:06Z</dcterms:created>
  <dc:creator>Sarah</dc:creator>
  <dc:description/>
  <dc:language>en-US</dc:language>
  <cp:lastModifiedBy>Sarah</cp:lastModifiedBy>
  <dcterms:modified xsi:type="dcterms:W3CDTF">2009-03-18T15:47:25Z</dcterms:modified>
  <cp:revision>48</cp:revision>
  <dc:subject/>
  <dc:title>Slide 1</dc:title>
</cp:coreProperties>
</file>