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197-371A-42ED-849A-02A36F0C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744-74E4-4C69-8702-30B71B0B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2CE-702E-4ABB-887F-EA712646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378-B702-40A7-99EC-320C42FC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97A-5085-4D87-BA5E-B4BF7724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830-167A-435C-B0B9-2CF9157E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2BC-B336-4E1B-88CF-D5292824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40D-6694-4EC3-8580-EF5C500F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7CF-232B-442B-AFA4-B625C3A2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499-F661-4C35-AE92-4449CAB3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781-E52C-4554-9A3D-00D24CFF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F81-5CE0-4EB8-869D-71241029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FCC0-8E1F-4FA2-B568-578D83CE05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3E97F147-4A1A-41A4-886D-AC4A9946549B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14200" y="2262240"/>
            <a:ext cx="9001080" cy="22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.11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ς τα ἰδια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ἠλθ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και οἱ ἰδιοι αὐτον οὐ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ελαβ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his own, and his ow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recei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4.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ἠγαγ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ε αὐτον εἰς Ἰερουσαλημ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ἰπ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αὐτῳ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to Jerusalem …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a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hi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85800" y="2624040"/>
          <a:ext cx="7772400" cy="2590920"/>
        </p:xfrm>
        <a:graphic>
          <a:graphicData uri="http://schemas.openxmlformats.org/drawingml/2006/table">
            <a:tbl>
              <a:tblPr/>
              <a:tblGrid>
                <a:gridCol w="1271520"/>
                <a:gridCol w="3884760"/>
                <a:gridCol w="261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δε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Aoris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sa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ευ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Imperfec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ere fl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υ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Aoris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fl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ινετ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Imperfect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was happ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νετ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Aorist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happe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15"/>
          <p:cNvSpPr/>
          <p:nvPr/>
        </p:nvSpPr>
        <p:spPr>
          <a:xfrm>
            <a:off x="647640" y="1998720"/>
            <a:ext cx="33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8"/>
          <p:cNvSpPr/>
          <p:nvPr/>
        </p:nvSpPr>
        <p:spPr>
          <a:xfrm>
            <a:off x="1714680" y="1319040"/>
            <a:ext cx="5715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1.1.4 Indicativ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4676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4AA76A05-041A-4E08-BD5C-30D469209BF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-68400" y="271440"/>
            <a:ext cx="9283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786720" y="6299280"/>
            <a:ext cx="2084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2A3F8C0A-316B-420F-8A63-A2B4D87F1A3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486080" y="1219320"/>
            <a:ext cx="6172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5 Other moods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3520" y="184140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gments &amp;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4440" y="3063960"/>
          <a:ext cx="8643960" cy="2773440"/>
        </p:xfrm>
        <a:graphic>
          <a:graphicData uri="http://schemas.openxmlformats.org/drawingml/2006/table">
            <a:tbl>
              <a:tblPr/>
              <a:tblGrid>
                <a:gridCol w="1513080"/>
                <a:gridCol w="4635360"/>
                <a:gridCol w="249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Sing. Presen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β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Sing. 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tak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θει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come (undefined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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δοντε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Pl. 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s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νθαν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Present Imper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! (process/ongoing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028B901E-A07F-4062-96DD-D3D35BC5112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2200" y="2571840"/>
          <a:ext cx="7750080" cy="1431720"/>
        </p:xfrm>
        <a:graphic>
          <a:graphicData uri="http://schemas.openxmlformats.org/drawingml/2006/table">
            <a:tbl>
              <a:tblPr/>
              <a:tblGrid>
                <a:gridCol w="1497240"/>
                <a:gridCol w="2523960"/>
                <a:gridCol w="1582560"/>
                <a:gridCol w="2146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με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σα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ν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ου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38"/>
          <p:cNvSpPr/>
          <p:nvPr/>
        </p:nvSpPr>
        <p:spPr>
          <a:xfrm>
            <a:off x="609480" y="1857240"/>
            <a:ext cx="417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i)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ινωσκ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ταβαινω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12840" y="4235400"/>
          <a:ext cx="9144000" cy="1798560"/>
        </p:xfrm>
        <a:graphic>
          <a:graphicData uri="http://schemas.openxmlformats.org/drawingml/2006/table">
            <a:tbl>
              <a:tblPr/>
              <a:tblGrid>
                <a:gridCol w="1658880"/>
                <a:gridCol w="3325680"/>
                <a:gridCol w="1765440"/>
                <a:gridCol w="2394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ς,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με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σα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ηθ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η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αβηναι</a:t>
                      </a: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αντε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52"/>
          <p:cNvSpPr/>
          <p:nvPr/>
        </p:nvSpPr>
        <p:spPr>
          <a:xfrm>
            <a:off x="1905120" y="121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1.1.6 Unusual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642960" y="1884240"/>
            <a:ext cx="807228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ii)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 with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ending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νεγκο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e sometimes used with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ending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ther th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Acts 16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τ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ther th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Matthew 25.36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ACB07535-F70C-40D0-A8AA-52468CDDC67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5B553F40-00FD-435B-88D5-15CE6503A76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28560" y="2214720"/>
            <a:ext cx="78868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Cor. 1.17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 γα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πεστειλ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ε Χριστος βαπτιζ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cause Chris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d not s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me to baptis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uke 11.4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ποστελῶ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αὐτους προφητας και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ποστολ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 will s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o them prophets and apostles 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95360" y="1143000"/>
            <a:ext cx="764856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different stem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s added (which you would expect for the Futu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endings from the Present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e used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(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Aor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different stem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s added (which you would expect for the Aori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augment and endings of the (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Aorist are used as normal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33520" y="5619600"/>
            <a:ext cx="807696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liquid verbs there is no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n the Future or Ao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7A8E0AA8-3B37-4FD4-9E1A-F5BA117A21A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276200" y="2643120"/>
          <a:ext cx="6510600" cy="1965240"/>
        </p:xfrm>
        <a:graphic>
          <a:graphicData uri="http://schemas.openxmlformats.org/drawingml/2006/table">
            <a:tbl>
              <a:tblPr/>
              <a:tblGrid>
                <a:gridCol w="1209960"/>
                <a:gridCol w="1766880"/>
                <a:gridCol w="1766880"/>
                <a:gridCol w="17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πει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ra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ει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τει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τεν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κτε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79"/>
          <p:cNvSpPr/>
          <p:nvPr/>
        </p:nvSpPr>
        <p:spPr>
          <a:xfrm>
            <a:off x="1790640" y="127152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1.2.1 Common Liquid Verb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0"/>
          <p:cNvSpPr/>
          <p:nvPr/>
        </p:nvSpPr>
        <p:spPr>
          <a:xfrm>
            <a:off x="871560" y="1928880"/>
            <a:ext cx="74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 use the same stem in the Aorist as the Pres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4"/>
          <p:cNvSpPr/>
          <p:nvPr/>
        </p:nvSpPr>
        <p:spPr>
          <a:xfrm>
            <a:off x="871560" y="48243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il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52680" y="5484960"/>
          <a:ext cx="6091200" cy="502920"/>
        </p:xfrm>
        <a:graphic>
          <a:graphicData uri="http://schemas.openxmlformats.org/drawingml/2006/table">
            <a:tbl>
              <a:tblPr/>
              <a:tblGrid>
                <a:gridCol w="1147680"/>
                <a:gridCol w="1647720"/>
                <a:gridCol w="1648080"/>
                <a:gridCol w="16477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ft 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ἰ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BC60266E-1535-4FE7-B84D-6D931D9DCC1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4E03170E-9E85-4CD4-AA05-8F9FCA64B33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04920" y="1214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move from a final double consonant in the Present, to a single consonant in the Future, and to a single consonant with a lengthened vowel in the Aoris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4240" y="2637000"/>
          <a:ext cx="7715520" cy="100620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28880"/>
                <a:gridCol w="19288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στει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nnou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γ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γε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γει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25"/>
          <p:cNvSpPr/>
          <p:nvPr/>
        </p:nvSpPr>
        <p:spPr>
          <a:xfrm>
            <a:off x="304920" y="39020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are similar, but show no change in the Future since in the Present their final vowel is already short, and their final consonant is not doub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00120" y="5214960"/>
          <a:ext cx="6096240" cy="914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re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ju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ιν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ιν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ρ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1FC0BC4A-84DD-44D5-9F4F-CB6B92BC322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71440" y="1214280"/>
            <a:ext cx="90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follow the same general principles, but ha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43120" y="1922400"/>
          <a:ext cx="7467480" cy="1006560"/>
        </p:xfrm>
        <a:graphic>
          <a:graphicData uri="http://schemas.openxmlformats.org/drawingml/2006/table">
            <a:tbl>
              <a:tblPr/>
              <a:tblGrid>
                <a:gridCol w="1312560"/>
                <a:gridCol w="2049480"/>
                <a:gridCol w="2265480"/>
                <a:gridCol w="18399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d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νῃσκ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ανε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θαν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45"/>
          <p:cNvSpPr/>
          <p:nvPr/>
        </p:nvSpPr>
        <p:spPr>
          <a:xfrm>
            <a:off x="284040" y="3255840"/>
            <a:ext cx="875844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5.10: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ειτε ἐν τῃ ἀγαπῃ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You will remain in my love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thew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1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τε Ἰησους ἀπεστειλεν δυο μαθη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Then Jesus sent two disciple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6A6FBFA3-96F2-405D-A0A8-CD4CCE4AF18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04840" y="1538280"/>
            <a:ext cx="6934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2.2 Accents in the Futu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752480" y="2743200"/>
            <a:ext cx="563904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liquid verb has a circumflex if  - and only if - it is Futu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24000" y="4286160"/>
            <a:ext cx="85341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έν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Present (you remain)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εῖ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Future (you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ll remain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7400" y="1676520"/>
            <a:ext cx="502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 The Prin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214280" y="3048120"/>
            <a:ext cx="6705720" cy="2090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has the same meaning as the 1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A verb will have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either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 1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bu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bo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42DE94A9-05DA-4992-A5A5-89452B7E1477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A5B82424-DAFE-4605-B303-8A87BE4F58EC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714680" y="1241280"/>
            <a:ext cx="5790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2 Compare in Englis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9040" y="1981080"/>
            <a:ext cx="830592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st English words form their past tense by adding –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walk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alked; row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rowed; attack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ttac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me words form their past tense by changing their stem instead of adding -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sing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ng; see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aw; throw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hr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ly very rare words can do bo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hang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ung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ang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95360" y="1200240"/>
          <a:ext cx="8153280" cy="50054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is a standard form of the past ten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verbs have a 1st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rtain words follow a different patter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 verbs have a 2nd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few words can follow both patter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verb has a 1st and a 2nd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ormal pattern forms the past tense by adding –ed to the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t Aorists are formed by adding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the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other group forms the past tense by changing the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Aorists are formed by changing their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CDE91246-B2BA-4E32-B0E9-E0A40EDF4D96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838080" y="1447920"/>
            <a:ext cx="7467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3 The formation of th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905120" y="2438280"/>
            <a:ext cx="5333760" cy="5205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orist = Changed 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14400" y="3733920"/>
            <a:ext cx="7391520" cy="1818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impossible to spot a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or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less you recognise the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orist 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arn Them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44D85CF6-F0E8-4EC3-92C9-29CD8903A938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405080" y="1765440"/>
          <a:ext cx="6095880" cy="4663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μαρτ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αρτ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d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νῃσκ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θαν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th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f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ὑπισκ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ὑρ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le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αλειπ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ελιπ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t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αβ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le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νθ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αθ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suf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χ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αθ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d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ι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ι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fl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υγ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υγ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00"/>
          <p:cNvSpPr/>
          <p:nvPr/>
        </p:nvSpPr>
        <p:spPr>
          <a:xfrm>
            <a:off x="214200" y="1214280"/>
            <a:ext cx="88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me 2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stems are shortened versions of the Present ste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6F47B216-D9BC-4DFA-AAE2-6AC14CD6A32D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00200" y="1828800"/>
          <a:ext cx="5943600" cy="146376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g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ιν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-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ινωσκ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-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1"/>
          <p:cNvSpPr/>
          <p:nvPr/>
        </p:nvSpPr>
        <p:spPr>
          <a:xfrm>
            <a:off x="428760" y="12193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include two whose endings are a little differen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4324320"/>
          <a:ext cx="6096240" cy="1828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ea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-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αγ-ο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a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χ-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χ-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fa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ιπτ-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εσ-ο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18"/>
          <p:cNvSpPr/>
          <p:nvPr/>
        </p:nvSpPr>
        <p:spPr>
          <a:xfrm>
            <a:off x="452520" y="3683160"/>
            <a:ext cx="79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make other minor adjustments to the stem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D8A078B7-0712-4DB7-A20C-A72D9AA7A9BF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670040"/>
          <a:ext cx="6096240" cy="960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beco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ιν-ομ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ν-ομ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4"/>
          <p:cNvSpPr/>
          <p:nvPr/>
        </p:nvSpPr>
        <p:spPr>
          <a:xfrm>
            <a:off x="571680" y="120168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ne is deponent (and therefore has deponent endings)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340200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χ-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λθ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γ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π-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θι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αγ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ρα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δ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ρ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νεγκ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61"/>
          <p:cNvSpPr/>
          <p:nvPr/>
        </p:nvSpPr>
        <p:spPr>
          <a:xfrm>
            <a:off x="571680" y="264312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ve ha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 that bear no resemblance to their forms in the Presen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1A68E84E-F40D-4063-92C0-CCD2B6057CD7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AF21B909-20A7-44C9-8592-D4F15C8C3EC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638360" y="1413000"/>
            <a:ext cx="5867280" cy="1015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Indicative – Imperfect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Other Moods – Present 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5280" y="2840040"/>
          <a:ext cx="8893440" cy="2743200"/>
        </p:xfrm>
        <a:graphic>
          <a:graphicData uri="http://schemas.openxmlformats.org/drawingml/2006/table">
            <a:tbl>
              <a:tblPr/>
              <a:tblGrid>
                <a:gridCol w="1609920"/>
                <a:gridCol w="1412640"/>
                <a:gridCol w="1498680"/>
                <a:gridCol w="1690920"/>
                <a:gridCol w="1323720"/>
                <a:gridCol w="1357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P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sc. nom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1:29:26Z</dcterms:created>
  <dc:creator>Sarah</dc:creator>
  <dc:description/>
  <dc:language>en-US</dc:language>
  <cp:lastModifiedBy>Sarah</cp:lastModifiedBy>
  <dcterms:modified xsi:type="dcterms:W3CDTF">2009-03-06T11:05:56Z</dcterms:modified>
  <cp:revision>48</cp:revision>
  <dc:subject/>
  <dc:title>Slide 1</dc:title>
</cp:coreProperties>
</file>