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749-E450-4BC8-AF0C-926789A9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775-DDF6-4949-9ABF-F41EE84D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D55-7AA0-45D1-866C-701D2A65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E9B-BD47-4537-BE05-E87E8DFE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5B7-D766-4684-80C3-75E6154D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ABC-6419-4BD2-B25B-93E3EC31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B2A-884E-4C1F-920B-A4ADD389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2B0-1653-4518-9CC8-F4EA5EDA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FD6-1D45-45D0-9E4A-D294E444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D23-7CA4-4B37-AB36-EA69760F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73A-2ACB-40BD-B3EB-08760DCF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7A6-DCF1-4466-945F-0862481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6C0C-A50E-4EDD-8A44-ADF882FE44E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F81E189E-85E0-4F44-AD4C-034BB56CAFA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57120" y="1500120"/>
            <a:ext cx="83822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m. 8.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δε οὐκ ἐστε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λλα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νευμα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are no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bu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tt. 16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εἰπεν αὐτῳ∙ Μακαριος εἶ, Σιμων Βαριωνα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ξ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ἱμ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κ ἀπεκαλυψεν σοι ἀλλα’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πατη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said to him, 'You are blessed, Simon Bariona, becaus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l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id not reveal (this) to you, but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th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ts 2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ὁ θεος∙ Ἐκχεῶ ἀπο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 πνευματ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 ἐπι πασα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προφητευσουσιν οἱ υἱοι ὑμων και αἱ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θυγατερ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d says, 'I will pour out from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on al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and you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ns and you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aught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will prophesy.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37DFFFB3-CD04-4D25-9B53-7365AFBAAF6D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427040"/>
            <a:ext cx="8686800" cy="921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800" spc="-1" strike="noStrike">
                <a:solidFill>
                  <a:srgbClr val="000000"/>
                </a:solidFill>
                <a:latin typeface="Greek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s the indefinite pronoun - someone, an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is the interrogative pronoun - who? wha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1200" y="2643120"/>
          <a:ext cx="7505640" cy="3335400"/>
        </p:xfrm>
        <a:graphic>
          <a:graphicData uri="http://schemas.openxmlformats.org/drawingml/2006/table">
            <a:tbl>
              <a:tblPr/>
              <a:tblGrid>
                <a:gridCol w="1020600"/>
                <a:gridCol w="1725480"/>
                <a:gridCol w="1695600"/>
                <a:gridCol w="1731960"/>
                <a:gridCol w="13320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A1E827B5-E280-46ED-982F-ECA4CDC8AB2F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43080" y="1274760"/>
            <a:ext cx="84582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se as Pronou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θεωρ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om do you see?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τι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aw some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o is coming?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ει τ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one is liste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τίνων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at/Who are you speaking ab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se as Adjectiv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μισθον ἐχ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at reward do you hav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τρατιωται τινες ἐρχονται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 soldiers are 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Ι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t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n also mean 'why?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are you speaking ?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'what are you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aying'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81080EE0-E604-4772-9FB3-44972D27043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5840" y="1428840"/>
            <a:ext cx="85010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Distinguishing betwee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 (someone) and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 (who?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Three ways: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context normally makes it very clear (and indeed there will be a question mark i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mean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omeone) cannot be the first word in a sentence, whil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who) frequently 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learn some relatively simply rules about the acc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cent on the first syllable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who?, what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 accent or an accent on the second syllable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omeone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77928E09-5543-4F4E-B4FB-0FAC63AAC07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1407960"/>
            <a:ext cx="792504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re are a few characteristic features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masculine and feminine are identical; the neuter is simil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nominative singular form is irregular – it is not formed from the stem plus an ending, although all the other forms 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Because the nominative is irregula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for a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 word you need to learn both the nominative and another form from which the stem can be deduced (the genitive is bes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no ending indicates that a word is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, as up to now words ending in -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have always declined lik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λογ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Indeed, the beauty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 is its ability to cope with words whatever their nomina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02FEAFAC-1D21-4F16-8108-97B3DDBEC07C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1424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re as follow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10000" y="1928880"/>
          <a:ext cx="3924000" cy="2468520"/>
        </p:xfrm>
        <a:graphic>
          <a:graphicData uri="http://schemas.openxmlformats.org/drawingml/2006/table">
            <a:tbl>
              <a:tblPr/>
              <a:tblGrid>
                <a:gridCol w="1000080"/>
                <a:gridCol w="1724040"/>
                <a:gridCol w="1199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85"/>
          <p:cNvSpPr/>
          <p:nvPr/>
        </p:nvSpPr>
        <p:spPr>
          <a:xfrm>
            <a:off x="304920" y="4495680"/>
            <a:ext cx="85341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n the whole there is no connection between these endings and those of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eclension, although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enitive plur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ending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ω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the s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5717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atch out for the endings which are used differently in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eclension than in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440" y="2857680"/>
          <a:ext cx="8515440" cy="2743200"/>
        </p:xfrm>
        <a:graphic>
          <a:graphicData uri="http://schemas.openxmlformats.org/drawingml/2006/table">
            <a:tbl>
              <a:tblPr/>
              <a:tblGrid>
                <a:gridCol w="684360"/>
                <a:gridCol w="3603600"/>
                <a:gridCol w="42274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. nom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 sing. (masc. or fem.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. nom. or acc. pl. (or nom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 pl. (masc. or fem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. acc. pl. (or gen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74A1A9C0-DA02-4CBE-A132-0CE19033FD5B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419CA65A-864D-4D92-8EC9-B2A69DE2114F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42960" y="1447920"/>
            <a:ext cx="7643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or example, 'star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στηρ, ἀστε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 and therefore its stem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στερ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nce it declines as follow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0520" y="3081240"/>
          <a:ext cx="5969160" cy="2468520"/>
        </p:xfrm>
        <a:graphic>
          <a:graphicData uri="http://schemas.openxmlformats.org/drawingml/2006/table">
            <a:tbl>
              <a:tblPr/>
              <a:tblGrid>
                <a:gridCol w="1135080"/>
                <a:gridCol w="2325600"/>
                <a:gridCol w="250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η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7DD94460-A6B8-4BAD-B828-0468D8D12B2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6"/>
          <p:cNvSpPr/>
          <p:nvPr/>
        </p:nvSpPr>
        <p:spPr>
          <a:xfrm>
            <a:off x="1805040" y="12668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12.2.1 Note on the dative plu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6920" y="1839960"/>
          <a:ext cx="4734000" cy="1508040"/>
        </p:xfrm>
        <a:graphic>
          <a:graphicData uri="http://schemas.openxmlformats.org/drawingml/2006/table">
            <a:tbl>
              <a:tblPr/>
              <a:tblGrid>
                <a:gridCol w="1538280"/>
                <a:gridCol w="603360"/>
                <a:gridCol w="877680"/>
                <a:gridCol w="757440"/>
                <a:gridCol w="957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60"/>
          <p:cNvSpPr/>
          <p:nvPr/>
        </p:nvSpPr>
        <p:spPr>
          <a:xfrm>
            <a:off x="495360" y="332280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flesh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σαρ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σαρκ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σαρξ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child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παι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παιδ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παι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0640" y="4714920"/>
          <a:ext cx="5562720" cy="503280"/>
        </p:xfrm>
        <a:graphic>
          <a:graphicData uri="http://schemas.openxmlformats.org/drawingml/2006/table">
            <a:tbl>
              <a:tblPr/>
              <a:tblGrid>
                <a:gridCol w="2781360"/>
                <a:gridCol w="2781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84"/>
          <p:cNvSpPr/>
          <p:nvPr/>
        </p:nvSpPr>
        <p:spPr>
          <a:xfrm>
            <a:off x="490680" y="5143680"/>
            <a:ext cx="84391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ruler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ἀρχω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ἀρχοντ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ἀρχ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A136B8FB-7F85-45BE-8ECD-C8598D4748BF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60440" y="1714680"/>
          <a:ext cx="6421320" cy="1371600"/>
        </p:xfrm>
        <a:graphic>
          <a:graphicData uri="http://schemas.openxmlformats.org/drawingml/2006/table">
            <a:tbl>
              <a:tblPr/>
              <a:tblGrid>
                <a:gridCol w="1333440"/>
                <a:gridCol w="2664000"/>
                <a:gridCol w="24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follow the same slightly irregular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ητρο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ug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57680" y="3214800"/>
          <a:ext cx="3641400" cy="2225520"/>
        </p:xfrm>
        <a:graphic>
          <a:graphicData uri="http://schemas.openxmlformats.org/drawingml/2006/table">
            <a:tbl>
              <a:tblPr/>
              <a:tblGrid>
                <a:gridCol w="866520"/>
                <a:gridCol w="1341360"/>
                <a:gridCol w="14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15"/>
          <p:cNvSpPr/>
          <p:nvPr/>
        </p:nvSpPr>
        <p:spPr>
          <a:xfrm>
            <a:off x="361800" y="5380200"/>
            <a:ext cx="842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he e is sometimes part of the stem, and sometimes not. Also th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in the dative plural.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πατη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(alone) also has an irregular vocativ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πατ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ε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16"/>
          <p:cNvSpPr/>
          <p:nvPr/>
        </p:nvSpPr>
        <p:spPr>
          <a:xfrm>
            <a:off x="2571840" y="1138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12.2.2 The family grou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3F010F64-F105-43D0-8ADF-D99E17115CF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NEUTER NOUNS WITH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7160" y="1163520"/>
          <a:ext cx="6296040" cy="2270160"/>
        </p:xfrm>
        <a:graphic>
          <a:graphicData uri="http://schemas.openxmlformats.org/drawingml/2006/table">
            <a:tbl>
              <a:tblPr/>
              <a:tblGrid>
                <a:gridCol w="973080"/>
                <a:gridCol w="2662560"/>
                <a:gridCol w="266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o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ι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 (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 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ι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95"/>
          <p:cNvSpPr/>
          <p:nvPr/>
        </p:nvSpPr>
        <p:spPr>
          <a:xfrm>
            <a:off x="2143080" y="35002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body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το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: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57160" y="4060800"/>
          <a:ext cx="5079960" cy="2317680"/>
        </p:xfrm>
        <a:graphic>
          <a:graphicData uri="http://schemas.openxmlformats.org/drawingml/2006/table">
            <a:tbl>
              <a:tblPr/>
              <a:tblGrid>
                <a:gridCol w="1220760"/>
                <a:gridCol w="1887480"/>
                <a:gridCol w="1971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σι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43000" y="1230480"/>
          <a:ext cx="6667560" cy="2987640"/>
        </p:xfrm>
        <a:graphic>
          <a:graphicData uri="http://schemas.openxmlformats.org/drawingml/2006/table">
            <a:tbl>
              <a:tblPr/>
              <a:tblGrid>
                <a:gridCol w="871560"/>
                <a:gridCol w="1506600"/>
                <a:gridCol w="1361880"/>
                <a:gridCol w="1509840"/>
                <a:gridCol w="1417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ν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164"/>
          <p:cNvSpPr/>
          <p:nvPr/>
        </p:nvSpPr>
        <p:spPr>
          <a:xfrm>
            <a:off x="173160" y="4411800"/>
            <a:ext cx="8786520" cy="1984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f a noun and an adjective qualifying it are from different families, their endings will differ even when they are agreeing in gender, case and numb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ἀγαθος ἐχει πλειον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 φιλ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υ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 The good man has more frien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7C4D6FB0-CF9B-4431-87B2-C748A84FBE4A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DJECTIVES WITH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8:45:46Z</dcterms:created>
  <dc:creator>Sarah</dc:creator>
  <dc:description/>
  <dc:language>en-US</dc:language>
  <cp:lastModifiedBy>Sarah</cp:lastModifiedBy>
  <dcterms:modified xsi:type="dcterms:W3CDTF">2008-09-19T11:28:02Z</dcterms:modified>
  <cp:revision>33</cp:revision>
  <dc:subject/>
  <dc:title>Slide 1</dc:title>
</cp:coreProperties>
</file>