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5C2-8AA1-45D4-961A-435D5598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F99-231C-463F-8AB7-A761AF1D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A5D-1F4D-4BA8-8859-77B03245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BD0-FDB5-4AC3-9035-96EB6B3B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628-AFD5-4960-B911-0FB8E016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AFB-718D-4ABD-8486-E33AE03C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2CA-31F5-483D-A72D-6B51C043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FAF-60A9-4900-B87D-F92D1809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6D1-E1B2-45E3-8A2B-4E4CBC66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CA5-4BEE-4089-A78B-D4DF7A48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036-70E8-4C10-B4EE-EA662AD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434-C84F-4C65-899C-AB59CE7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4A37-2DD9-481F-AC95-410D140900C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B1FA3AD0-4703-4AC0-A8FC-8B9487DCCB6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16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s a beginni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7.2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(the one)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rning who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6.46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ζῳοποιει αὐτους οὑς θελε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38CB82B2-B585-47A3-A9A0-1230B23E4A0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hn 6.2: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om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9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6F3F75E1-1D66-4ACE-92CD-DACFD891D1F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6.6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7.2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EEAD3FB4-CD86-4593-B31C-DE33415E993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is difficult to find any logical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re question words, they will normally come first word in the sentence which is rare when they occur simply the negative (and there will also be a question mar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4.2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they were saying, 'Isn't this Joseph's son?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[to kill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0B3EE15-9119-4EBC-9541-5750ACC2BC4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83FD5ACD-5A35-4F71-BA05-9A570A0F240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am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at he was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erbs of saying or thin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0BF24D00-1D99-42F4-AF80-EF4099B7B27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wor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thus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articiple of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pening inverted comma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Mark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−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he used to proclaim (saying), 'he is coming …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oth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th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εγ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465EA18B-F328-40AA-8F03-5BAF0234F0F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ωρω ὁτι προφητης εἶ σ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fferent meaning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C368088-3D91-4EC2-8DB4-13938827617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A51532F8-D80B-4523-B5A5-7FDEEA397C10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how long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during'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eni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at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For two day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en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During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o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B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EE7134E3-D4A9-4A27-8F38-FDAD11A952B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 The lord s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messeng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97AE08C9-F32A-4D30-9041-4F9B6BFB878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DC76B901-2CEF-46D4-95BF-C2DD20D07AF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On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63840759-AD1A-4FAB-8ED3-DD3D59EB39D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ic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he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 They are keeping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2. He teache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E74C8934-AD07-42BC-848D-B8260DED3DCE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F063BC04-6AF1-491C-97D5-5903E5E72B3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Gend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s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C4DD38D3-4278-4E7F-90E0-6189B4CD4ED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3A538B9C-B941-4E30-BC42-09A520C09F6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C1A773D-85C5-4838-94DE-4CFDA8738BF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C650387C-9547-4D6D-ADB9-161DE7C85E9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to 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8-09-10T20:36:37Z</dcterms:modified>
  <cp:revision>36</cp:revision>
  <dc:subject/>
  <dc:title>Slide 1</dc:title>
</cp:coreProperties>
</file>