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9D0-F10A-4DB9-B301-C433AF2A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9C00-8D02-4014-A457-384A419B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A60-11B6-44CA-9097-1DF7A710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A0B-F5F2-4C61-A047-71D50835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3E2-993C-4E70-852B-E1CABAF3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FAD-0C19-48B6-A614-944D4C38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5FB3-C236-4FB2-B231-B04BE687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FD4-29DD-4452-84F4-372E52F2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133-8051-485F-AB56-15B262F9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1E21-5CEA-4903-A56D-DF6FA4D5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728-4233-40EF-AA0D-676BCBFE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670-C978-488F-A037-8E557618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F8CA-D5BA-4209-BC6A-EE4F1DD8128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Footer Placeholder 2"/>
          <p:cNvSpPr/>
          <p:nvPr/>
        </p:nvSpPr>
        <p:spPr>
          <a:xfrm>
            <a:off x="307188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6946F33B-4740-426A-A93B-1ABD9A42D63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95360" y="1333440"/>
            <a:ext cx="8153280" cy="47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m. 16.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σπασασθε Ἐπαινετον τον ἀγαπητον μου,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στι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ἀπαρχη της Ἀσιας εἰς Χρισ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eet my beloved Epaenetos,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h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a beginning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f Asia for Chr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7.2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ς ἐστι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ρι οὑ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γεγραπ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is (the one)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concerning whom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t is writte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6.46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 δε με καλειτε∙ κυριε κυριε, και οὐ ποιετε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ἁ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λεγ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do you call me, 'Lord, Lord', and do not d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ha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 sa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98280" y="1373040"/>
            <a:ext cx="891540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urther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·         Often the relative clause will come in the middle of the complex sentence, not neatly at the end. English also does this, but not as often as in Gr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α τεκνα ἁ ἐδιδασκον κραζ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hildren whom I was teaching are crying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·         If the antecedent should be part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will often be omit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υἱος οὑς θελει ζῳοποι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υἱος ζῳοποιε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υ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ὑς θελ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on makes alive those whom he wishes (John 5.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B724AAFD-2D42-4636-91BD-0CF6C689161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762120" y="1447920"/>
            <a:ext cx="76197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reek will often put the relative clause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ἁ βλεπω φιλω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=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ἁ βλεπ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like the things which I see = I like what I s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9680" y="3357720"/>
            <a:ext cx="91440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6.2: 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θεωρουν τα σημεια ἁ ἐποι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ere seeing the signs which he was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9.1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α οὐν ὁν θελει ἐλε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then, he has mercy on whom he wis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D5FDAC9D-3A1B-4817-A13B-3E43C30F57A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57320" y="1511280"/>
          <a:ext cx="8829360" cy="1158840"/>
        </p:xfrm>
        <a:graphic>
          <a:graphicData uri="http://schemas.openxmlformats.org/drawingml/2006/table">
            <a:tbl>
              <a:tblPr/>
              <a:tblGrid>
                <a:gridCol w="6283080"/>
                <a:gridCol w="2546280"/>
              </a:tblGrid>
              <a:tr h="58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question expecting the answer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no' –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... ;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yes' –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... ;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48"/>
          <p:cNvSpPr/>
          <p:nvPr/>
        </p:nvSpPr>
        <p:spPr>
          <a:xfrm>
            <a:off x="1447920" y="3048120"/>
            <a:ext cx="624816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ohn 6.6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 και ὑμεις θελετε ὑπαγε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don't also wish to go away, do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rely you don't also want to go a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7.2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χ οὑτος ἐστιν ὁν ζητουσ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is whom they are seeking isn't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rely this is the one they are af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0787218C-C111-445C-80F4-28A13B0DB9D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LANTED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04920" y="1295280"/>
            <a:ext cx="8534160" cy="28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is difficult to find any logical reason behind the use in slanted questions of these two forms of 'not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e question words, they will normally come first in the sentence, which is rare when they occur simply as the negative (and there will also always be a question mark of cour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also sometimes used instead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χ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stead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4920" y="4267080"/>
            <a:ext cx="85341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4.22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ἐλεγον, Οὐκι υἱος ἐστιν Ἰωσηφ οὑ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they were saying, 'Isn't this Joseph's son?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ohn 8:22: 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εγον οὐν οἱ Ἰουδαιοι, Μητι ἀποκτενε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[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kill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ἑαυ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the Jews were saying, 'He isn't going to kill himself, is he?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D2F9484D-2987-4A85-BABD-88F37DE063A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LANTED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303E9B19-415C-499B-B55E-681EC6B993D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STATEM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19040" y="1785960"/>
            <a:ext cx="83059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said, 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 am the Chr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'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Direc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sai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at he was the Chr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Indirect stat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direct statements also occur after other '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verbs of saying or think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' (such as feeling, believing, knowing, learning, fearing etc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thought that he was the Chr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3A613CF6-EF8E-4A83-B86D-03C2CC83796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52600" y="1217520"/>
            <a:ext cx="80388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Stat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are expressed in four different ways in Gree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ord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used to introduce the direct stat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thus th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equivalent to the opening inverted comma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articiple of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added immediately before the 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tement (again, the Participle is then equivalent to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pening inverted commas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ἐκηρυσσεν λεγων∙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.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Mark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−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he used to proclaim (saying), ‘He is coming …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th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the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ω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i.e. 1 and 2 combin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hing marks out the beginning of the direct stat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AC2A1186-484B-4EF4-ADD0-6ABD3A43112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71680" y="3124080"/>
            <a:ext cx="8001000" cy="25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direct Stat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direct statements are expressed in Greek by the wor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meaning 'that'), and so are quite straight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ωρω ὁτι προφητης εἶ σ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John 4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see that you are a proph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95360" y="1676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hing marks out the end of a direct statement in Greek. Thus it is hard to be certain where direct speech finishes (e.g. in John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495360" y="2928960"/>
            <a:ext cx="8153280" cy="31111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not be confused by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re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ifferent meanings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To introduce direct statements (= open quotation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To introduce indirect statements (= 'that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As a word meaning 'becaus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866960" y="1500120"/>
            <a:ext cx="541008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eek uses the tense of the original words or thou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9BF621CC-91B4-4952-9763-F45D3C0507A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1C5389C7-58E7-4E36-8999-871C92617E5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409760" y="2362320"/>
            <a:ext cx="6324480" cy="1818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ime 'how long'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ccusa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ime 'during'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geni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ime 'at'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da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609480" y="1219320"/>
            <a:ext cx="792504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υο ἡμερ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ερας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a time expressi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means time 'how long', expressed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English by 'for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'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or two day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y listen to the Lord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ης ἡμερ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ερας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en. 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a time expressi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en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ans time 'during', expressed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glish by 'during' or 'by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'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uring the d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y listen to the Lord.' or '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y listen to the Lord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30BC5D2A-0D61-4CAD-97F1-234D05129AC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523880" y="2365200"/>
            <a:ext cx="6096240" cy="977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The relative pronoun links together two basic sentenc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43080" y="3500280"/>
            <a:ext cx="84582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Two basic sentence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. The lord sent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the messen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The messeng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aw the se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ne complex sentenc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 The lord sent the messenger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ho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a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s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42960" y="1371600"/>
            <a:ext cx="6058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0.1.1 Understanding rel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52B90BE3-833C-4CC7-8E47-81572FC5062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91295A60-D5B5-4A7E-BD2F-14E531367DC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19040" y="1828800"/>
            <a:ext cx="8305920" cy="38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ῃ ἡμερ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ερᾳ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a time expressi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at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ans time 'at which', expressed in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glish by 'on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'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On the d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y listen to the Lord.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 Sometimes, although no preposition is needed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used as well as the dative (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 τῃ ἡμερᾳ βλεπουσ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. This makes no difference to the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EACC6593-A9E2-4977-B797-4814C753B32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71680" y="1357200"/>
            <a:ext cx="8001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ne complex sentenc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  They are keeping the law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hic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he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each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Two basic sentence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. They are keeping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the law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. He teaches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the law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5920" y="3476520"/>
            <a:ext cx="8929800" cy="24987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antecedent will come in the first sent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relative will be in the second sent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replacing the anteceden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English the antecedent normally immediately precedes the relativ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190440" y="1098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.1.2 Formation of the relative in Gr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52560" y="1660680"/>
          <a:ext cx="7119720" cy="4054320"/>
        </p:xfrm>
        <a:graphic>
          <a:graphicData uri="http://schemas.openxmlformats.org/drawingml/2006/table">
            <a:tbl>
              <a:tblPr/>
              <a:tblGrid>
                <a:gridCol w="892080"/>
                <a:gridCol w="835200"/>
                <a:gridCol w="892080"/>
                <a:gridCol w="1027080"/>
                <a:gridCol w="758880"/>
                <a:gridCol w="1130400"/>
                <a:gridCol w="658800"/>
                <a:gridCol w="925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ἣ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ἡ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ην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η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υ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ᾑ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ῃ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ᾡ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ῳ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ο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ἳ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α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ὑ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ι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64960" y="5796000"/>
          <a:ext cx="8614080" cy="533520"/>
        </p:xfrm>
        <a:graphic>
          <a:graphicData uri="http://schemas.openxmlformats.org/drawingml/2006/table">
            <a:tbl>
              <a:tblPr/>
              <a:tblGrid>
                <a:gridCol w="866880"/>
                <a:gridCol w="546120"/>
                <a:gridCol w="2438280"/>
                <a:gridCol w="668520"/>
                <a:gridCol w="409428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ve pronou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e article for compa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183F4833-8BC9-4B2A-8526-41F36135E8C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000080" y="1643040"/>
            <a:ext cx="7062840" cy="4026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very short word with a rough breathing is almost certain to be part of the relative pronou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place the rough breathing by a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τ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nd you will have the corresponding part of the article which you should be able to recogn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2BBF43AB-1179-48F9-AB73-A2AFAA91873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1135080" y="1549440"/>
            <a:ext cx="68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0.1.3 Using the relative in Greek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66720" y="2540160"/>
            <a:ext cx="7810560" cy="17838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the relativ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Numb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Gend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gree with the antece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s determined within its own sentence, by the normal rules (e.g. it is the object, governed by a preposition etc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809720" y="4902120"/>
            <a:ext cx="552456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relative pronoun links together two basic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97C922C5-0E40-4423-9EF9-C479B50FAD0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C7B68E5D-E687-408B-B30C-AAC5482B7FD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90440" y="1214280"/>
            <a:ext cx="85964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·         The lord sent the messenge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aw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tecedent: the messe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ntence: who (the messenger) saw the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ntecedent is masculine singular; 'who' is the subject of its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should be masculine, singular, nominative 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κυριος ἐπεμψεν τον ἀγγελ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βλεψεν την θαλασσ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33200" y="1454040"/>
            <a:ext cx="901080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·         They are keeping the law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e tea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tecedent: the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ntence: he teaches which (the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ntecedent is masculine singular; 'which' is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 its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should be masculine singular, accusative 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ηρουσιν τον νομ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διδασκ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E4FA0A0B-008D-4BBE-9D8D-50C74347741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DD801251-0D6F-4B99-A9A7-A0D7785BF69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03040" y="1585800"/>
            <a:ext cx="835848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·         That is the synagogu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to whi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y are c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tecedent: the synag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ntence: they are coming into which (the synago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ntecedent is feminine singular; 'who' is governed by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therefore must be accusative. Relative should be feminine, singular, accusative =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=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η ἐστιν ἡ συναγωγη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εἰς ἡ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ρχον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10:59Z</dcterms:created>
  <dc:creator>Sarah</dc:creator>
  <dc:description/>
  <dc:language>en-US</dc:language>
  <cp:lastModifiedBy>Sarah</cp:lastModifiedBy>
  <dcterms:modified xsi:type="dcterms:W3CDTF">2009-03-06T10:33:32Z</dcterms:modified>
  <cp:revision>47</cp:revision>
  <dc:subject/>
  <dc:title>Slide 1</dc:title>
</cp:coreProperties>
</file>