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7F0-C3A6-4E0D-AF65-76DC0DEA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46F-D9B8-4FA7-B9B8-C7053FE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21B-246E-4600-AB6B-1D4D4EFF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FD0-7BD1-4170-B859-5F2453DD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0E8-9A1C-479B-BE0E-546FA4B9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2553-58AA-4B13-8C1B-F26886C8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0489-C0E6-4ABC-998E-FCA1580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F7A4-2BA4-423F-8F7E-0B894C1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BE47-80D3-4522-BC62-C7847B3B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27C-A5A3-4D7B-A54E-64B5387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6870-7EAF-4720-9E29-9DCA033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9AA-7B16-4337-A224-681A55B9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E12D-9B92-4DCB-BA7F-6E64B29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0699-CC74-4EF1-A9CB-C08DD62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4405-BA35-4BDD-8ADE-04A7F649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312D-6D5C-4CE4-ABCC-11A4948A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AD98-1853-4811-A133-AAE64422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DA8-73AF-4880-84AD-43B0A70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773-7467-4A1E-AE04-685A3334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7F1-8D73-4705-A1CB-C1643117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455-A695-4C02-A9C3-43CE452D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114-E617-4726-BE34-440D6A2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88D-0807-4A28-B3C1-C2C69A3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058-B2C5-4278-85B4-2542236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EDB7-24BE-406E-94C6-8C3B05D4E8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6AD2-0157-4CC5-BF2C-DBC8D0850C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724FCF3-CA66-4C68-8C76-2872DCC042B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. 4-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E654A1D-DB83-496E-B73E-BB63A1EFA5E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1117213-03CC-42EB-A64D-C3247D8F8AC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10A009B-D2B1-4125-8B80-45E3004E021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C9598833-E209-44B8-91B5-A027B7E5C73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Ηερῳδης ἐλεγ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71E1146-757C-4524-8DF5-A41FDB636CD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969462A-F4F3-4BEB-BAC8-D0F7FDA3442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912C518-DE3F-4DAD-8DB5-230B5E58A47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 flipH="1">
            <a:off x="7429680" y="4483080"/>
            <a:ext cx="31680" cy="47304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C8863B7-4CD7-4151-A81C-A32A5F1CDB2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3BFC4E14-A08F-40ED-8032-893F86D3F9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C6086781-BDE9-41D5-BE8D-A1DAB818BCE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d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A75976E-C3C0-47D0-B7D1-6769165861A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's easy to mix up the Future Indicative and the Aorist Imperative (both have a s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3C1E44C-27F5-464C-9A60-14B1298C97E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4722F9E9-8A13-4D01-BBC7-3603AB303DE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3F9E1FF6-0FB8-4A5B-9FBC-4FBE77655A4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equivalent of 'to say' in English. This is clearly closely related to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leg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D19422E-B5AE-46CB-82DA-B431F2A8B9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CC11466E-D116-480F-A0D2-C33F78A7D1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8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mperative, the Aorist Infinitive has a s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w verbs follow the normal rules: filein, filh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ED24091-3AAD-4ABF-8F83-7ADFE933E8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8-09-07T14:29:35Z</dcterms:modified>
  <cp:revision>49</cp:revision>
  <dc:subject/>
  <dc:title>Slide 1</dc:title>
</cp:coreProperties>
</file>