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F9AB-4141-4B54-83B8-F078446416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20C9-A4A6-4531-9D51-E606C939A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199-B682-4C90-947B-4DA1C36F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E99-7263-47B3-B53E-DD6F3BF5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BE1-726C-49CA-A355-81F608CA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0D1-D0C6-4992-8207-647B8933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23E-AC27-4A01-A84F-39F298DD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56C-F16C-4270-99D3-B87EF358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3B9-99F2-4830-A65E-921F50EF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6D5-B3F2-42BA-9A11-927DC177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CC4-BE64-4708-B02F-5C045D3A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B67-482B-4FB6-B5AC-458F8DE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DE6-9DAB-4054-A715-41C1F129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FAC-51E7-4E07-A724-1B27B1C4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6F6-026B-4855-9F68-96CBD1CFD5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8E7116E4-D3E6-470A-8170-A9325A6A3F0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85880" y="1247760"/>
            <a:ext cx="7543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20.1.1 The basic conditional sent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4200" y="2133720"/>
          <a:ext cx="9072720" cy="2295360"/>
        </p:xfrm>
        <a:graphic>
          <a:graphicData uri="http://schemas.openxmlformats.org/drawingml/2006/table">
            <a:tbl>
              <a:tblPr/>
              <a:tblGrid>
                <a:gridCol w="1621080"/>
                <a:gridCol w="3736800"/>
                <a:gridCol w="37148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asi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'if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dosi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'then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5.18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 δε πνευματι ἀγ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ὐκ ἐστε ὑπο νομ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you are led by the spir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 under la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54"/>
          <p:cNvSpPr/>
          <p:nvPr/>
        </p:nvSpPr>
        <p:spPr>
          <a:xfrm>
            <a:off x="228600" y="4276800"/>
            <a:ext cx="8986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you like Greek (then) you are wis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t is true that you like Greek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t is automatically true that you are w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A8573EA4-2719-44B2-93F4-1BE1AD84F98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8075160" y="36972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oup 46" descr=""/>
          <p:cNvPicPr/>
          <p:nvPr/>
        </p:nvPicPr>
        <p:blipFill>
          <a:blip r:embed="rId1"/>
          <a:stretch/>
        </p:blipFill>
        <p:spPr>
          <a:xfrm>
            <a:off x="895320" y="1901880"/>
            <a:ext cx="7456680" cy="4406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4"/>
          <p:cNvSpPr/>
          <p:nvPr/>
        </p:nvSpPr>
        <p:spPr>
          <a:xfrm>
            <a:off x="214200" y="11430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14.17: 'Evening having happened, he comes with the twelve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1"/>
          <p:cNvSpPr/>
          <p:nvPr/>
        </p:nvSpPr>
        <p:spPr>
          <a:xfrm>
            <a:off x="3338640" y="1785960"/>
            <a:ext cx="1440" cy="439884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4831E23B-0FEF-4E35-B31E-92F9FF9453B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85680" y="1984320"/>
            <a:ext cx="7162920" cy="3378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itive absolutes normally occur at the beginning of sentences – so if the first word in a sentence is in the genitive, 'think genitive absolute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ery often genitive absolutes give some 'background information', such as the time or circumstances at which something happe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8C945F59-E427-4481-B5BC-42FCCB575E8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2920" y="1157400"/>
            <a:ext cx="900108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6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ὀντος του Πετρου κατω ἐν τῃ αὐλ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εται μια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 παιδισκ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Peter was below in the Ha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one of the servant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rls of the high priest c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6.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σθιοντων αὐ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∙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λεγω ὑμι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they were ea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Jesus said, 'Amen I say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. 5.13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ια δε οὐκ ἐλλογει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μη ὀντος νο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 is not count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there is no la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683C8988-C8B7-4492-8F89-AAE13786ADA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3880" y="1928880"/>
          <a:ext cx="8404200" cy="3475080"/>
        </p:xfrm>
        <a:graphic>
          <a:graphicData uri="http://schemas.openxmlformats.org/drawingml/2006/table">
            <a:tbl>
              <a:tblPr/>
              <a:tblGrid>
                <a:gridCol w="2235240"/>
                <a:gridCol w="2683080"/>
                <a:gridCol w="348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phrastic Construc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4CABDA88-F9ED-4674-955F-0BEBB04648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2000" y="1173240"/>
            <a:ext cx="95536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2.1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σα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ἱ μαθηται Ἰωαννου και οἱ Φαρισαιοι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νηστευοντε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sciples of John and the Pharise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ere fas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h. 2.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χαριτ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στε σεσῳσμεν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grac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you have been sa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John 12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ἱνα ἡ χαρα ἡμω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ληρωμενη ᾐ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rder that our jo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ight be comple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Note: here the periphrastic uses the present subjunctiv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40C06317-E216-4803-993E-1EA4B9F69E8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3840" y="1596960"/>
          <a:ext cx="8867880" cy="4118040"/>
        </p:xfrm>
        <a:graphic>
          <a:graphicData uri="http://schemas.openxmlformats.org/drawingml/2006/table">
            <a:tbl>
              <a:tblPr/>
              <a:tblGrid>
                <a:gridCol w="2662200"/>
                <a:gridCol w="2714760"/>
                <a:gridCol w="1643040"/>
                <a:gridCol w="1847880"/>
              </a:tblGrid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r, more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lative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st, most/very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ive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l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/very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5D0A2B6B-6B0E-4F53-B199-570D7650DC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8520" y="2185920"/>
          <a:ext cx="9752040" cy="3017880"/>
        </p:xfrm>
        <a:graphic>
          <a:graphicData uri="http://schemas.openxmlformats.org/drawingml/2006/table">
            <a:tbl>
              <a:tblPr/>
              <a:tblGrid>
                <a:gridCol w="1214640"/>
                <a:gridCol w="1000080"/>
                <a:gridCol w="642960"/>
                <a:gridCol w="1785960"/>
                <a:gridCol w="1314360"/>
                <a:gridCol w="231840"/>
                <a:gridCol w="1411200"/>
                <a:gridCol w="1371600"/>
                <a:gridCol w="779400"/>
              </a:tblGrid>
              <a:tr h="505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s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εισ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κ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ει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γ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ιζ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κ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κρο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er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αχισ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2" name="Text Box 267"/>
          <p:cNvSpPr/>
          <p:nvPr/>
        </p:nvSpPr>
        <p:spPr>
          <a:xfrm>
            <a:off x="685800" y="1428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n Irregular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7"/>
          <p:cNvCxnSpPr/>
          <p:nvPr/>
        </p:nvCxnSpPr>
        <p:spPr>
          <a:xfrm>
            <a:off x="2443320" y="294336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5" name="Straight Arrow Connector 8"/>
          <p:cNvCxnSpPr/>
          <p:nvPr/>
        </p:nvCxnSpPr>
        <p:spPr>
          <a:xfrm>
            <a:off x="2443320" y="348624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6" name="Straight Arrow Connector 9"/>
          <p:cNvCxnSpPr/>
          <p:nvPr/>
        </p:nvCxnSpPr>
        <p:spPr>
          <a:xfrm>
            <a:off x="2443320" y="397152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7" name="Straight Arrow Connector 10"/>
          <p:cNvCxnSpPr/>
          <p:nvPr/>
        </p:nvCxnSpPr>
        <p:spPr>
          <a:xfrm>
            <a:off x="2457360" y="445788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8" name="Straight Arrow Connector 11"/>
          <p:cNvCxnSpPr/>
          <p:nvPr/>
        </p:nvCxnSpPr>
        <p:spPr>
          <a:xfrm>
            <a:off x="2443320" y="495576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674D7519-0D45-42EA-8C34-425168E82A5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1371600"/>
          <a:ext cx="8501040" cy="2057400"/>
        </p:xfrm>
        <a:graphic>
          <a:graphicData uri="http://schemas.openxmlformats.org/drawingml/2006/table">
            <a:tbl>
              <a:tblPr/>
              <a:tblGrid>
                <a:gridCol w="1300680"/>
                <a:gridCol w="499680"/>
                <a:gridCol w="331560"/>
                <a:gridCol w="216000"/>
                <a:gridCol w="607680"/>
                <a:gridCol w="1478520"/>
                <a:gridCol w="1284840"/>
                <a:gridCol w="428040"/>
                <a:gridCol w="1405440"/>
                <a:gridCol w="948600"/>
              </a:tblGrid>
              <a:tr h="50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used r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λ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λι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96"/>
          <p:cNvSpPr/>
          <p:nvPr/>
        </p:nvSpPr>
        <p:spPr>
          <a:xfrm>
            <a:off x="243000" y="3714840"/>
            <a:ext cx="868680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 learned in module 12.4 that comparison is expressed in Greek either (i) by a genitive, or (ii) by the use of the word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ἠ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ith the second noun in the same case as the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μαλλο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erb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'more' (qualifying a verb), while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πλει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the adjective 'more' (qualifying a no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superlative was gradually falling out of use, and often the comparative was used in its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5"/>
          <p:cNvCxnSpPr/>
          <p:nvPr/>
        </p:nvCxnSpPr>
        <p:spPr>
          <a:xfrm>
            <a:off x="2700360" y="211464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74" name="Straight Arrow Connector 6"/>
          <p:cNvCxnSpPr/>
          <p:nvPr/>
        </p:nvCxnSpPr>
        <p:spPr>
          <a:xfrm>
            <a:off x="2700360" y="268560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75" name="Straight Arrow Connector 7"/>
          <p:cNvCxnSpPr/>
          <p:nvPr/>
        </p:nvCxnSpPr>
        <p:spPr>
          <a:xfrm>
            <a:off x="2700360" y="318456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76" name="Straight Arrow Connector 8"/>
          <p:cNvCxnSpPr/>
          <p:nvPr/>
        </p:nvCxnSpPr>
        <p:spPr>
          <a:xfrm>
            <a:off x="5929200" y="268560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EB6554C6-36BC-45B7-A5DA-E902DA0DC5D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71520" y="2233440"/>
            <a:ext cx="8400960" cy="23112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helpful to remember that word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adverbs. You should now understand how the form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μοι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which you learnt earlier, have been formed from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ος, ὁμοι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838E5E19-AAA1-463C-8577-9630F9859D1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680" y="1171440"/>
          <a:ext cx="8143560" cy="1524240"/>
        </p:xfrm>
        <a:graphic>
          <a:graphicData uri="http://schemas.openxmlformats.org/drawingml/2006/table">
            <a:tbl>
              <a:tblPr/>
              <a:tblGrid>
                <a:gridCol w="4174920"/>
                <a:gridCol w="396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ξιως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a worthy ma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ωτως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 the first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ς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all m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ὀντω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­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29"/>
          <p:cNvSpPr/>
          <p:nvPr/>
        </p:nvSpPr>
        <p:spPr>
          <a:xfrm>
            <a:off x="338040" y="29224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214200" y="2957400"/>
            <a:ext cx="914400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1.32: 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ἐφερον προς αὐτον παντας τους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κακω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ἐχοντας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bringing to him all those who were s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lit: the ones 'having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adl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5.23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ων ὁτι Το θυγατριον μου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σχατω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ἐχε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ing, 'My daughter is dying' (lit: ha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inall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 Cor. 7.40: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μακαριωτερα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δε ἐστιν ἐαν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οὑτω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μειν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more bless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f she remains as she is (lit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5ECF5813-CC6F-4A3A-AA3E-9031328D624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0200" y="1176480"/>
            <a:ext cx="7743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20.1.2 Two variations on the basic conditi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3200" y="1814400"/>
            <a:ext cx="8996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) Indefinite Conditions (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subjunc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Greek will use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subjunctive 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 + Indicative in the prot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'If you like Greek, you will learn it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sometimes,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subjunctive is used to highlight that the protasis is indefinite because it addresses a generic situation, without a particular occasion being in m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‘If someone enjoys rules and patterns, they like Greek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02116619-9FFF-4AC3-B639-FC9B2307E20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44440" y="2761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OPT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14200" y="12142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ptative is used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For w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For indirect questions (i.e. questions within reported speech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42920" y="2928960"/>
            <a:ext cx="88581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ans 6.1-2: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μενωμεν τῃ ἁμαρτιᾳ, ἱνα ἡ χαρις πλεονασ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μη γενοι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hould we remain in sin in order that grace abounds?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y no mea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1.3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γενοιτο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μοι κατα το ῥημα 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y it b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me according to your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9DD9B716-6EDA-452B-94EE-B80350F7B1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14280" y="4000680"/>
            <a:ext cx="6715440" cy="1723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nglish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ontrary to fact conditio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marked out by 'would' in th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podosi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90440" y="1214280"/>
            <a:ext cx="8953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'Contrary to Fact' conditions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apodo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Greek will put the wor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apodosis; it is still the case t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protasis is tru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apodosis follows. However, the writer believes that the protasis is NOT tr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‘If you had liked Greek, you would have learnt it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3DB39A26-6B36-4C69-A243-42BBBB24B06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00120" y="1157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.1.3 The form of conditionals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3040" y="1785960"/>
          <a:ext cx="8199360" cy="1768320"/>
        </p:xfrm>
        <a:graphic>
          <a:graphicData uri="http://schemas.openxmlformats.org/drawingml/2006/table">
            <a:tbl>
              <a:tblPr/>
              <a:tblGrid>
                <a:gridCol w="3460680"/>
                <a:gridCol w="2352960"/>
                <a:gridCol w="23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a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ic Condi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finite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αν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Subjun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Contrary to Fact'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0"/>
          <p:cNvSpPr/>
          <p:nvPr/>
        </p:nvSpPr>
        <p:spPr>
          <a:xfrm>
            <a:off x="152280" y="3857760"/>
            <a:ext cx="8839440" cy="2273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otasis: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 + Indicative = If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+ Subjunctive = If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(future/generalised/hypothetical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odosis: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= Would (</a:t>
            </a: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protasis seen as untrue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C2D6246B-C9D9-40EF-BD71-D11D4EB61B2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14200" y="1274760"/>
            <a:ext cx="87156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Basic Conditions (Fulfille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Gal. 3.29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δε ὑμεις Χριστου, ἀρα του Ἀβρααμ σπερμα ἐστε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you are Christ's, then you are Abraham's offspr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1 Cor. 8.3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ε τις ἀγαπᾳ τον θεον, οὑτος ἐγνωσται ὑπ’ αὐτο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someone loves God, he is known by hi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uke 23.37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συ εἶ ὁ βασιλευς των Ἰουδαιων, σωσον σεαυτ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you are the king of Israel, save yourself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uke 11.19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δε ἐγω ἐν Βεελζεβουλ ἐκβαλλω τα δαιμονια, οἱ υἱοι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ὑμων ἐν τίνι ἐκβαλλουσι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I cast out demons by Beelzeboul, by whom do your sons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cast them out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A0CD1B69-6257-44C1-BBC5-31DC45B0729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14200" y="1184400"/>
            <a:ext cx="88585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definit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9.21: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ν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ἁψωμα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ου ἱματιου αὐτου, σωθησ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ly I touch his cloak, I will b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14.14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αἰτησητε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ε ἐν τῳ ὀνοματι μου, ἐγω ποιησ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you ask me for anything in my name, I will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r. 14.14: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αρ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προσευχω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λωσσ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νευμα μ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if I pray in a tongue, my spirit pr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 John 2.15: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γαπ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κοσμον, οὐκ ἐστιν ἡ ἀγαπη του πατρ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someone loves the world, the love of th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ther is not in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C64155AB-2642-4F39-9FE6-8BA9546BFAC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57120" y="1440000"/>
            <a:ext cx="85010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Unfulfilled Cond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John 5.46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γαρ ἐπιστευετε Μωϋσει, ἐπιστευετε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ἐμοι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you believe Moses, you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believe 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1 Cor. 2.8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γαρ ἐγνωσαν, οὐκ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τον κυριον της δοξης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σταυρωσα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they had known, they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not have crucified the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ord of glo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Heb. 8.4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μεν οὐν ἠν ἐπι γης, οὐδ’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ἠν ἱερευ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he were on earth, he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not even be a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prie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85840" y="220500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ὀψιας γενομεν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εται μετα των δωδεκ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it was eve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he comes (came) with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e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lit: 'evening having happene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6C57FBB3-0E3D-4E54-B925-503FABC2860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28A158C9-5C0F-4A21-BBC3-F1B62E6FE24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494720" y="18334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5118120" y="19684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831560" y="2225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278320" y="30542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4925160" y="33130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98960" y="41385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5136480" y="49212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7440480" y="2563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7403400" y="2822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7561440" y="3651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7249320" y="39099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7376400" y="4734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1"/>
          <p:cNvSpPr/>
          <p:nvPr/>
        </p:nvSpPr>
        <p:spPr>
          <a:xfrm>
            <a:off x="3011400" y="3962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944080" y="4221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7"/>
          <p:cNvSpPr/>
          <p:nvPr/>
        </p:nvSpPr>
        <p:spPr>
          <a:xfrm>
            <a:off x="3132000" y="50497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2550600" y="530064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2"/>
          <p:cNvSpPr/>
          <p:nvPr/>
        </p:nvSpPr>
        <p:spPr>
          <a:xfrm>
            <a:off x="3017880" y="613260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oup 65" descr=""/>
          <p:cNvPicPr/>
          <p:nvPr/>
        </p:nvPicPr>
        <p:blipFill>
          <a:blip r:embed="rId1"/>
          <a:stretch/>
        </p:blipFill>
        <p:spPr>
          <a:xfrm>
            <a:off x="1401840" y="1908000"/>
            <a:ext cx="6315120" cy="470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42920" y="1141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While he was passing along the sea, he saw Simon and Andrew casting (nets) in the sea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8:27:07Z</dcterms:created>
  <dc:creator>Sarah</dc:creator>
  <dc:description/>
  <dc:language>en-US</dc:language>
  <cp:lastModifiedBy>Sarah</cp:lastModifiedBy>
  <dcterms:modified xsi:type="dcterms:W3CDTF">2009-03-23T17:29:26Z</dcterms:modified>
  <cp:revision>44</cp:revision>
  <dc:subject/>
  <dc:title>Slide 1</dc:title>
</cp:coreProperties>
</file>