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DA0-775E-45F5-811A-00694656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B19-A72B-427B-A39D-5D7D4204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B09-FE55-4C3B-B2A8-BCDE2C5A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0F5-90EE-47BD-9ECE-7257C3C0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4A18-02A2-47C9-9404-3177EE99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ECF0-9E25-4D92-AAAF-547BAE53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F0A0-7998-44A5-AB72-DA0B0570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0023-F00F-4A64-AABF-BE3666D0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EF28-0400-4336-89D8-736E0EC5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434E-D307-4009-970A-C1BE2287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E8E6-2427-46F7-92D4-1A505D04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B4C-E74F-4009-9CA1-AB2ADDE9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EF79-8C66-40FA-9BB8-2E320EBE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04E1-FF35-48A4-AB1A-5A33E176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8CD2-B86B-4098-BE10-D1224826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A704-6A51-495B-8C0D-9015FF6B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3725-4D53-4DAD-BCEF-7958AB40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7EB-A261-47E6-8881-0D52B676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06C-9D9C-4F37-BE45-C1779B6F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6D1-A3AC-4DCA-B5A0-2188D7CE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45C-0B25-4119-B531-1E14AD63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30F-ABD2-4CA3-B655-0F890261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800-77C3-44C8-BD8D-2E2B26FB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E6A-9C7B-4B50-870C-9D1C35AB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745F-8C0A-404F-8015-2A3F835223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5D7B-9C68-46A2-97F4-56B6A8AF86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409760" y="1258920"/>
            <a:ext cx="6324480" cy="10990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Prepositions dictate the case of the noun they prece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FF3C3271-1D52-47F4-AA9B-2410B8C3913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70040" y="2666880"/>
          <a:ext cx="5330880" cy="3316320"/>
        </p:xfrm>
        <a:graphic>
          <a:graphicData uri="http://schemas.openxmlformats.org/drawingml/2006/table">
            <a:tbl>
              <a:tblPr/>
              <a:tblGrid>
                <a:gridCol w="2840040"/>
                <a:gridCol w="2490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si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to, i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to, towar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πο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(away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κ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 (out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60280" y="2286000"/>
          <a:ext cx="8643960" cy="3421080"/>
        </p:xfrm>
        <a:graphic>
          <a:graphicData uri="http://schemas.openxmlformats.org/drawingml/2006/table">
            <a:tbl>
              <a:tblPr/>
              <a:tblGrid>
                <a:gridCol w="974880"/>
                <a:gridCol w="1604880"/>
                <a:gridCol w="606420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ximately, around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 τον Παυλ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round Pau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rning, about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 ἁμαρτια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concerning si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ve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 την γη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bove the earth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behalf of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 τεκν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n behalf of a chil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 νομ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under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 του Πετρ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y Pet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22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73CED2DE-6EA6-435A-B444-26791D0B8C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2120" y="2209680"/>
            <a:ext cx="761976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y’ or ‘with’ occurs in English to indicat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strumen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but in Greek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da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82F1DF0D-C21A-4DAB-9EC7-3561F43E1EC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1143000" y="10843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2.4 Prepositions with on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2000" y="1698480"/>
          <a:ext cx="8820000" cy="4462560"/>
        </p:xfrm>
        <a:graphic>
          <a:graphicData uri="http://schemas.openxmlformats.org/drawingml/2006/table">
            <a:tbl>
              <a:tblPr/>
              <a:tblGrid>
                <a:gridCol w="1569960"/>
                <a:gridCol w="1606680"/>
                <a:gridCol w="56433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accus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, in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, tow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π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geni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way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ut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ωπι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(place) -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ωπιον του θεου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fore G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side -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ω της οἰκα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utside the 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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ω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til - 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ω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until th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(time)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 σαββατο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for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d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υν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υν αὐτοι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ith th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8BF85F5-9FF6-4672-970C-98A6100CCA2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73200" y="1195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2.5 Elision in pre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219320" y="18892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front of a word beginning with a vow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640" y="2571840"/>
          <a:ext cx="7848720" cy="1371600"/>
        </p:xfrm>
        <a:graphic>
          <a:graphicData uri="http://schemas.openxmlformats.org/drawingml/2006/table">
            <a:tbl>
              <a:tblPr/>
              <a:tblGrid>
                <a:gridCol w="4753080"/>
                <a:gridCol w="30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, δια, ἐπι, κατα, μετα, παρα, ὑπ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p their final vow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ω, περ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ρ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 unchang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9"/>
          <p:cNvSpPr/>
          <p:nvPr/>
        </p:nvSpPr>
        <p:spPr>
          <a:xfrm>
            <a:off x="1928880" y="442908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δι’ αὐ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through h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ἁμαρτι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concerning si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ξ οἰκι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from the ho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08320" y="4143240"/>
            <a:ext cx="148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C48EE741-720B-4070-A039-EF384C5B13B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457200" y="16002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 English, there are two uses of 'with' or 'by‘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298600"/>
          <a:ext cx="8229600" cy="1968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9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indicate the means by which something happens, or an instrument or agent used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helped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walking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with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stick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hit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ston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35"/>
          <p:cNvSpPr/>
          <p:nvPr/>
        </p:nvSpPr>
        <p:spPr>
          <a:xfrm>
            <a:off x="428760" y="4572000"/>
            <a:ext cx="82296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'with' in a different sense, not meaning 'by means of' but rather 'along with'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 went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wit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hi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3C854B9D-F24D-4E05-AF79-6F61C33C68F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57120" y="928800"/>
            <a:ext cx="838224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nanimat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bject by means of which the action of the verb happens; dative - no prepos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od makes the heaven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ith a wo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ποιει τους ουρανους  λογ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wever, sometimes an instrument is expressed by the preposition 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+ d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C15DE9A5-D11A-4487-9664-6DEA4C88059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80880" y="1444680"/>
            <a:ext cx="670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Greek, ‘with’ and ‘by’ expr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B3383131-7ACD-41FD-8E66-2720847974C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6680" y="2449440"/>
            <a:ext cx="904860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'With' meaning 'along with' rather than 'by means of';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μετ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or more rarely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+ dat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depart with Peter –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αγω του Πετρ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ὁ θεος λεγει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μετα τεκνων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και ποιει τον κοσμον λογῳ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speak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th childr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makes the worl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th a wo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68120" y="1114560"/>
            <a:ext cx="7858440" cy="23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 agent is a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living be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means of which the action of the ver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ppens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.g.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gospel was proclaime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y Pet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…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ο του Πετρ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409760" y="1843200"/>
            <a:ext cx="632448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 many words are constructed by combining a basic word with a pre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ou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= I th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αλ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I throw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BC2D22D7-FCBE-429E-8A39-A8E1A58A13F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3A9F3252-CFE7-438C-B806-1BB9171E82E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135080"/>
            <a:ext cx="8534160" cy="51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· In Greek you cannot always deduce the meaning of a word from its par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orce of both the verb and the preposition is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throw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 the meaning is intensified or completed, though without the force of the preposition being clearly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release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self means 'I untie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 the verb is given a new meaning, which is not easily connected to the force of the prepos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αγινωσκ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read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ινωσκ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self means 'I know' an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ans 'upwards' or 'again'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711F23AD-2C4C-4D5E-891A-C84D97DA39F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14200" y="1357200"/>
            <a:ext cx="871560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en forming compounds, the rules for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lisio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f prepositions are particularly important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αγω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I lead awa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ven though a compound verb may 'contain' a preposition, the correct preposition will still be found in the sentence used in the normal way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κ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λω αὐτ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κ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της οἰκ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49E94EF6-BFE2-447F-9E8E-50DEA903840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00040" y="1214280"/>
            <a:ext cx="79297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gnifie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o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ce betwee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 an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and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3500280" y="3500280"/>
            <a:ext cx="2143440" cy="1714680"/>
          </a:xfrm>
          <a:prstGeom prst="rect">
            <a:avLst/>
          </a:prstGeom>
          <a:noFill/>
          <a:ln w="25560">
            <a:solidFill>
              <a:srgbClr val="ffe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4143240" y="3954600"/>
            <a:ext cx="8575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ἐν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9"/>
          <p:cNvCxnSpPr/>
          <p:nvPr/>
        </p:nvCxnSpPr>
        <p:spPr>
          <a:xfrm>
            <a:off x="1143000" y="3785760"/>
            <a:ext cx="192960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4" name="TextBox 20"/>
          <p:cNvSpPr/>
          <p:nvPr/>
        </p:nvSpPr>
        <p:spPr>
          <a:xfrm>
            <a:off x="1357200" y="30718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προ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21"/>
          <p:cNvCxnSpPr/>
          <p:nvPr/>
        </p:nvCxnSpPr>
        <p:spPr>
          <a:xfrm>
            <a:off x="6000840" y="3785760"/>
            <a:ext cx="192960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6" name="TextBox 22"/>
          <p:cNvSpPr/>
          <p:nvPr/>
        </p:nvSpPr>
        <p:spPr>
          <a:xfrm>
            <a:off x="6357960" y="3084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ἀπο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23"/>
          <p:cNvCxnSpPr/>
          <p:nvPr/>
        </p:nvCxnSpPr>
        <p:spPr>
          <a:xfrm>
            <a:off x="1143000" y="4928760"/>
            <a:ext cx="292968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cxnSp>
        <p:nvCxnSpPr>
          <p:cNvPr id="98" name="Straight Arrow Connector 25"/>
          <p:cNvCxnSpPr/>
          <p:nvPr/>
        </p:nvCxnSpPr>
        <p:spPr>
          <a:xfrm>
            <a:off x="5143320" y="4928760"/>
            <a:ext cx="292932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9" name="TextBox 26"/>
          <p:cNvSpPr/>
          <p:nvPr/>
        </p:nvSpPr>
        <p:spPr>
          <a:xfrm>
            <a:off x="1500120" y="42400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εἰ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6500880" y="4227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ἐ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642960" y="1454040"/>
            <a:ext cx="800100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ith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 Use a question word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how?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wher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 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How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. Rely on tone of voice; but when written, questions are marked with a question ma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You see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37240" y="1284120"/>
            <a:ext cx="467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sking questions is simple in Gre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3AA1DF38-3287-47EC-B540-9B8273C6F09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285840" y="1481040"/>
            <a:ext cx="835812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 verb in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dica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which means all the verbs we have met so far) is made negative by the addition of the wor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=‘not’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moot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reathing this become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roug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reathing this beca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βλεπ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I do not se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ἀκουου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They do not h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εὑρισκει το τεκν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– She does not find the chil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F9F949AF-14F8-466B-AF25-EFA01B377F4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NEG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71280" y="1179360"/>
            <a:ext cx="9072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1" lang="el-GR" sz="2900" spc="-1" strike="noStrike">
                <a:solidFill>
                  <a:srgbClr val="ffffff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ffffff"/>
                </a:solidFill>
                <a:uFillTx/>
                <a:latin typeface="Gentium"/>
              </a:rPr>
              <a:t>εἰς την οἰκαν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Gentiu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master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slav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  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ν οἰκια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the object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governed by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ich takes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tence = 'The master is leading the slav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nto the house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7938980-7E7E-4D25-812B-D1648BA94BC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471600" y="1500120"/>
            <a:ext cx="788652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ffffff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ffffff"/>
                </a:solidFill>
                <a:uFillTx/>
                <a:latin typeface="Gentium"/>
              </a:rPr>
              <a:t>ἐκ της οἰκιας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master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slav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ς οἰκια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the object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it is governed by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ich 'takes'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i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tence = 'The master leads the slav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out of the house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BB07FC28-AE7C-4989-B09D-A6F635CB021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785880" y="2408400"/>
            <a:ext cx="7572240" cy="2365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The two different factors which determine which case a noun will be in: function in the sentence or preposition. Fortunately, these two never clash.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-71280" y="26028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EC3352EA-FFB4-4D8D-A332-E26B0CB66F5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647640" y="1905120"/>
            <a:ext cx="7848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1 The principle of prepositions with more than one c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19320" y="3657600"/>
            <a:ext cx="6705360" cy="1328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same preposition has a different meaning when it is used with a different c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EE6F60DD-2FB8-4BAD-99CA-7E26FA825A2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B9A00CFB-5300-4F85-AAAA-D1B1A235CFE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5800" y="1353960"/>
            <a:ext cx="777240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ffffff"/>
                </a:solidFill>
                <a:latin typeface="Gentium"/>
              </a:rPr>
              <a:t>παρα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Gentium"/>
              </a:rPr>
              <a:t>+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2798640"/>
          <a:ext cx="8215200" cy="2578320"/>
        </p:xfrm>
        <a:graphic>
          <a:graphicData uri="http://schemas.openxmlformats.org/drawingml/2006/table">
            <a:tbl>
              <a:tblPr/>
              <a:tblGrid>
                <a:gridCol w="1563840"/>
                <a:gridCol w="665136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on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side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πατει παρα την θαλασ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walk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m beside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νθρωπος παρα του θε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 man from G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ide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δασκει παρα τῃ θαλασσ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teache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80FB3F0D-6CF5-4DC0-AD69-9DEE15850DD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04960" y="1195560"/>
            <a:ext cx="7696080" cy="12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πι +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57160" y="2357280"/>
          <a:ext cx="7562880" cy="3859200"/>
        </p:xfrm>
        <a:graphic>
          <a:graphicData uri="http://schemas.openxmlformats.org/drawingml/2006/table">
            <a:tbl>
              <a:tblPr/>
              <a:tblGrid>
                <a:gridCol w="1876680"/>
                <a:gridCol w="568620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to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αλλει τον ἀρτον ἐπι το βιβλ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throws the bread onto the boo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πι της γη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n the land/earth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time of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πατει ἐπι του Ἰησ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lives in the time of Je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7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/in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πι τοις οὐρα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n the heave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the basis of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ὐ περιπατει ἐπι ἀρτῳ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does not live by brea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CF558CF8-CDD5-4EF0-AA14-5DEAFABC178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4200" y="2254320"/>
          <a:ext cx="8715600" cy="3531960"/>
        </p:xfrm>
        <a:graphic>
          <a:graphicData uri="http://schemas.openxmlformats.org/drawingml/2006/table">
            <a:tbl>
              <a:tblPr/>
              <a:tblGrid>
                <a:gridCol w="984240"/>
                <a:gridCol w="1722600"/>
                <a:gridCol w="600876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of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 τον ὀχλ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cause of the crow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ug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 του ἀγγελου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hrough the messeng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rding to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 νομ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ccording to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ainst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 του Ἰησ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gainst Jesu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 το σαββατ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fter the Sabbath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 αὐτ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ith hi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3:59:45Z</dcterms:created>
  <dc:creator>Sarah</dc:creator>
  <dc:description/>
  <dc:language>en-US</dc:language>
  <cp:lastModifiedBy>Sarah</cp:lastModifiedBy>
  <dcterms:modified xsi:type="dcterms:W3CDTF">2009-03-04T00:30:49Z</dcterms:modified>
  <cp:revision>57</cp:revision>
  <dc:subject/>
  <dc:title>Slide 1</dc:title>
</cp:coreProperties>
</file>