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E63-3883-4AF2-B44E-EA5A9D39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EB5-5C07-49E3-B4D1-45C7D99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2E1-FC95-4CE4-8112-0601436A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622-246F-4C87-BCF5-A71E4638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462-6DAB-4CDB-82BF-32F5FFFE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FC5-6110-4C45-94F6-BFC67C1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BF0-AE30-4E2E-A879-26803AD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EF4-0903-424C-A44F-9DD12E5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86D-D069-4B2B-8775-1667F4D6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719-FDA8-41C5-A380-AD9597A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99D-DD1C-4FF4-AE82-A205494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A9F-503E-45D1-BF36-53B8096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7EC-4FE0-4CC8-B38B-3C19AF372B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EFEC6E97-9601-4EAB-80E1-5C53EC46AC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2A11B858-DAEB-4D0F-8059-D92A80BE04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4965E13D-4484-4F12-83FC-67DD74DD967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?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C7B5489-B17A-4886-A15D-E9DF7B5637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0B7E602A-BDBC-4A4F-AFE3-6FB12C87DA5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1BB680A5-345D-41B0-A23E-BEA7062B63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2560"/>
                <a:gridCol w="36054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3A6482D6-F1BD-4485-A74D-8F27CF727E1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243DD2B-87FE-491C-A744-489B49B5DE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8A130EAC-A5D3-4331-B613-3FC07E46F1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F3D79E27-9F49-4B71-8BDD-AB272AC1A4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F46BC62-EC82-42E5-99FA-1799987985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624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11280"/>
                <a:gridCol w="141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1627BCDE-161A-4226-856B-F9F215BEE0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9-03-06T12:36:50Z</dcterms:modified>
  <cp:revision>36</cp:revision>
  <dc:subject/>
  <dc:title>Slide 1</dc:title>
</cp:coreProperties>
</file>