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5A43-3ADE-41C1-89CB-55DAB664E4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5EDA-A2DC-4EAB-912C-7D61DA005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E53-1533-4E34-A4D7-FFCB81E4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A10-5165-4253-9F94-1E6A1305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5EC-BADD-4926-BC78-958E516E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54D-413C-40AC-8ADD-BC451228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E24-FB19-416A-9D17-6C9528EA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6AB-0425-43D5-BEEE-7365B0FB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F4A-3FC9-4711-8561-848A36A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C29-F099-4B79-8F2C-60D0E178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7A1-CF0C-486D-BBC4-989E10F6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E82-0295-45DD-BFBF-47605B67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737-9797-4D11-AF08-A4D87DF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08D-818A-483A-AFC4-D3673A0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FF38-4B5E-46C3-9D58-D997D441E9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EB563138-257C-450E-8612-461D6D3FFAE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804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a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8280"/>
                <a:gridCol w="1103400"/>
                <a:gridCol w="1977840"/>
                <a:gridCol w="1212840"/>
                <a:gridCol w="16225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33523745-642D-4CB3-9E56-87D37C9350D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774BD5D4-5745-40CF-B1FA-64735C8FCDB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2"/>
          <p:cNvCxnSpPr>
            <a:stCxn id="96" idx="3"/>
            <a:endCxn id="97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3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sp>
        <p:nvSpPr>
          <p:cNvPr id="104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1785960" y="318600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812D0D08-045B-485A-871C-0188FE6E90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1680"/>
                <a:gridCol w="1200240"/>
                <a:gridCol w="1195200"/>
                <a:gridCol w="1424160"/>
                <a:gridCol w="1096920"/>
                <a:gridCol w="1171440"/>
                <a:gridCol w="132408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77E90380-CF18-447C-A820-B4EF593C34F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5200"/>
                <a:gridCol w="18669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9-03-11T22:46:50Z</dcterms:modified>
  <cp:revision>49</cp:revision>
  <dc:subject/>
  <dc:title>Slide 1</dc:title>
</cp:coreProperties>
</file>