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783B-B20F-4DCE-AB87-25D844357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0CAB-3E64-487A-8431-6334218C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7877-8DB4-4FC0-BBC5-D9AE44943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A70D-83BC-4024-8618-CE339AE1F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6A0E-EF28-4ED7-B67E-062A751B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2221-69D1-4E6F-BB4C-F2CA4573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9B03-508C-4D04-9CFD-960B630B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EE91-CD87-4316-AC35-27099CFB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5461-EB19-44B4-B59E-73E76C6C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96A9-D78F-459F-B0EC-46321513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B2A4-070B-47A1-9850-2BAD50ED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27DF-4F92-42CA-B7B4-DB5A4674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3E6F-1358-437B-BF86-47216719090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FC42528F-B01A-484F-B2E3-08C129D9601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: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76320" y="1138320"/>
            <a:ext cx="8991360" cy="50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uke 18.22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κουσ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δε ὁ Ἰησους εἰπεν αὐτῳ∙ Ἐπι ἑ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σοι λειπει∙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aving hea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Jesus said to him, 'One thing still remain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you …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en Jesus hea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this) he said to him, 'You still lack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e thing 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uke 7.9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: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σας δε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αυτ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Ἰησους ἐθαυμασεν αὐτ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he hear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ese thing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Jesus was amazed at hi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750C0953-DFEA-4DF6-9F47-6D1212690F1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-68400" y="271440"/>
            <a:ext cx="9283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000680" y="1143000"/>
          <a:ext cx="4786200" cy="2752560"/>
        </p:xfrm>
        <a:graphic>
          <a:graphicData uri="http://schemas.openxmlformats.org/drawingml/2006/table">
            <a:tbl>
              <a:tblPr/>
              <a:tblGrid>
                <a:gridCol w="714240"/>
                <a:gridCol w="714240"/>
                <a:gridCol w="1143000"/>
                <a:gridCol w="1143000"/>
                <a:gridCol w="1071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α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η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ε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ι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α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α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ι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Box 11"/>
          <p:cNvSpPr/>
          <p:nvPr/>
        </p:nvSpPr>
        <p:spPr>
          <a:xfrm>
            <a:off x="330120" y="190188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Gentium"/>
              </a:rPr>
              <a:t>λυ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1928880" y="1500120"/>
            <a:ext cx="1285920" cy="7034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s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λυω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3"/>
          <p:cNvSpPr/>
          <p:nvPr/>
        </p:nvSpPr>
        <p:spPr>
          <a:xfrm>
            <a:off x="928800" y="2786040"/>
            <a:ext cx="1285920" cy="7034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ori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λυσα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Straight Arrow Connector 15"/>
          <p:cNvCxnSpPr/>
          <p:nvPr/>
        </p:nvCxnSpPr>
        <p:spPr>
          <a:xfrm flipV="1">
            <a:off x="999720" y="1785240"/>
            <a:ext cx="857880" cy="21492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22" name="Straight Arrow Connector 17"/>
          <p:cNvCxnSpPr/>
          <p:nvPr/>
        </p:nvCxnSpPr>
        <p:spPr>
          <a:xfrm>
            <a:off x="999720" y="2356920"/>
            <a:ext cx="429480" cy="35820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23" name="Straight Arrow Connector 19"/>
          <p:cNvCxnSpPr/>
          <p:nvPr/>
        </p:nvCxnSpPr>
        <p:spPr>
          <a:xfrm>
            <a:off x="3286080" y="1714680"/>
            <a:ext cx="643320" cy="1800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24" name="Straight Arrow Connector 26"/>
          <p:cNvCxnSpPr/>
          <p:nvPr/>
        </p:nvCxnSpPr>
        <p:spPr>
          <a:xfrm>
            <a:off x="2000160" y="3571920"/>
            <a:ext cx="357840" cy="28656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graphicFrame>
        <p:nvGraphicFramePr>
          <p:cNvPr id="125" name=""/>
          <p:cNvGraphicFramePr/>
          <p:nvPr/>
        </p:nvGraphicFramePr>
        <p:xfrm>
          <a:off x="285840" y="3929040"/>
          <a:ext cx="5214960" cy="2752920"/>
        </p:xfrm>
        <a:graphic>
          <a:graphicData uri="http://schemas.openxmlformats.org/drawingml/2006/table">
            <a:tbl>
              <a:tblPr/>
              <a:tblGrid>
                <a:gridCol w="777960"/>
                <a:gridCol w="779400"/>
                <a:gridCol w="1322280"/>
                <a:gridCol w="1168560"/>
                <a:gridCol w="1166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α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η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ε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ι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α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α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ι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3260F527-3AC8-4DB1-A573-96D68C138FB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649680" y="1143000"/>
          <a:ext cx="5351400" cy="2752560"/>
        </p:xfrm>
        <a:graphic>
          <a:graphicData uri="http://schemas.openxmlformats.org/drawingml/2006/table">
            <a:tbl>
              <a:tblPr/>
              <a:tblGrid>
                <a:gridCol w="765000"/>
                <a:gridCol w="763920"/>
                <a:gridCol w="1376280"/>
                <a:gridCol w="1231920"/>
                <a:gridCol w="1214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η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η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υ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α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α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Box 4"/>
          <p:cNvSpPr/>
          <p:nvPr/>
        </p:nvSpPr>
        <p:spPr>
          <a:xfrm>
            <a:off x="71280" y="1860480"/>
            <a:ext cx="29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Gentium"/>
              </a:rPr>
              <a:t>ῥυομα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1571760" y="1500120"/>
            <a:ext cx="1319040" cy="7034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s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ῥυομενο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571680" y="2786040"/>
            <a:ext cx="1612800" cy="7034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ori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ῥυσαμενο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Straight Arrow Connector 7"/>
          <p:cNvCxnSpPr/>
          <p:nvPr/>
        </p:nvCxnSpPr>
        <p:spPr>
          <a:xfrm flipV="1">
            <a:off x="642600" y="1785240"/>
            <a:ext cx="857880" cy="21492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33" name="Straight Arrow Connector 8"/>
          <p:cNvCxnSpPr/>
          <p:nvPr/>
        </p:nvCxnSpPr>
        <p:spPr>
          <a:xfrm>
            <a:off x="642600" y="2356920"/>
            <a:ext cx="429480" cy="35820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34" name="Straight Arrow Connector 9"/>
          <p:cNvCxnSpPr/>
          <p:nvPr/>
        </p:nvCxnSpPr>
        <p:spPr>
          <a:xfrm>
            <a:off x="2928960" y="1714680"/>
            <a:ext cx="660600" cy="2592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35" name="Straight Arrow Connector 10"/>
          <p:cNvCxnSpPr/>
          <p:nvPr/>
        </p:nvCxnSpPr>
        <p:spPr>
          <a:xfrm>
            <a:off x="1643040" y="3571920"/>
            <a:ext cx="357840" cy="28656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graphicFrame>
        <p:nvGraphicFramePr>
          <p:cNvPr id="136" name=""/>
          <p:cNvGraphicFramePr/>
          <p:nvPr/>
        </p:nvGraphicFramePr>
        <p:xfrm>
          <a:off x="285840" y="3962520"/>
          <a:ext cx="5786280" cy="275256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1468440"/>
                <a:gridCol w="1312560"/>
                <a:gridCol w="1278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η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η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υ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α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α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285840" y="1928880"/>
          <a:ext cx="8858160" cy="974520"/>
        </p:xfrm>
        <a:graphic>
          <a:graphicData uri="http://schemas.openxmlformats.org/drawingml/2006/table">
            <a:tbl>
              <a:tblPr/>
              <a:tblGrid>
                <a:gridCol w="3643200"/>
                <a:gridCol w="2786040"/>
                <a:gridCol w="242892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oden Translations:</a:t>
                      </a: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Participle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tying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Participle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ing untied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1014480" y="3786120"/>
          <a:ext cx="7138800" cy="1158840"/>
        </p:xfrm>
        <a:graphic>
          <a:graphicData uri="http://schemas.openxmlformats.org/drawingml/2006/table">
            <a:tbl>
              <a:tblPr/>
              <a:tblGrid>
                <a:gridCol w="3886200"/>
                <a:gridCol w="32526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Participl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multaneous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Participl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4B28104C-5458-4E3F-8B3E-17C70A8EFB4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MEAN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070F78F7-4993-4F90-8728-9256BB6D95D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MEAN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42960" y="1428840"/>
            <a:ext cx="7858080" cy="15958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i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ccessive Aorist participles are often best translated by a number of main verbs in English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428760" y="3500280"/>
            <a:ext cx="835812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Mark 5.27-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σασα περι του Ἰησ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λθουσα ἐ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τῳ ὀχλῳ ὀπισθεν ἡψατα του ἱματιου αὐτ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hen she heard about Jesus, she came up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ehind in the crowd and touched his cloak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76F5DB28-BBE2-4702-ABF3-AED66BB2A8D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OTHER USES OF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133720" y="1163520"/>
            <a:ext cx="4876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4.4.1 As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-642960" y="1609560"/>
            <a:ext cx="978696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15.23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με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ισω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αι τον πατερα μου μισ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e one who hates 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or whoever hates me), also hates my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12.45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ὁ θεωρων ἐμε θεωρε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ον πεμψαντα μ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one who sees me is seeing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e one who sent 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s 10.44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πεπεσεν το πνευμα το ἁγιον ἐπι παντας           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ους ἀκουοντα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ον λογ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holy spirit fell on all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ose who were listen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the wo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0955D113-4168-4F05-A60A-43D59AA5394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OTHER USES OF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00040" y="1109520"/>
            <a:ext cx="835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14.4.2 Casual, concessive and instrumental use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4280" y="1785960"/>
            <a:ext cx="9144000" cy="46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ausal: Matt. 1.19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Ἰωσηφ δε ὁ ἀνηρ αὐτης, δικαιο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ὠ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─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ut Joseph her husband,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because he wa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righteous ..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ncessive: Rom. 1.21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γνοντε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ον θεον οὐχ ὡς θεο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δοξασα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─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Although they knew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God, they did not glorify him as God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trumental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 Tim. 4.16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τουτο γαρ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οιω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αι σεαυτον σωσεις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τους ἀκουοντας σ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or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by do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this (lit: doing this) you will save both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yourself and your hear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2DE351B1-CF10-4ABF-AD89-734D5494B95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OTHER USES OF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723960" y="1295280"/>
            <a:ext cx="7696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14.4.3 With Imperatives and Infinitive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42960" y="2357280"/>
            <a:ext cx="7696080" cy="27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rk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7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κ εἰμι ἱκανο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κυφα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λυσαι το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ἱμαντα των ὑποδηματων αὐτ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 am not worthy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o stoop dow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nd untie the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rap of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is sandals (lit: having stooped down, to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ntie)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E3EA5496-DFD3-4272-BD83-4FBC12B2B12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: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762120" y="2286000"/>
            <a:ext cx="7619760" cy="947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iciples must agree with the noun they qualify in gender, case and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762120" y="1600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ke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762120" y="379404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ke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762120" y="4521240"/>
            <a:ext cx="7619760" cy="947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iciples have a tense (Present or Aorist), and may have an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A36734C1-83E0-436F-B83B-55C466607A4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: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14200" y="1428840"/>
            <a:ext cx="8643960" cy="46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 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v. 7.2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εἰδον ἀλλον ἀγγελο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ναβαινοντα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ἀπο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νατολης ἡλιου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χοντα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σφραγιδα θε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I saw another angel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ascending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rom the rising of the su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having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 seal from God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δ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the main verb, containing in it the subject – 'I saw'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γγελ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the object – an ang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λλ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an adjective qualifying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γγελον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entence is enriched by two participles describing the objec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ναβαινοντα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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χον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65D7C2BB-CAAC-4213-8C04-38322310F7D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: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66760" y="1322280"/>
            <a:ext cx="861048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 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1.16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αραγω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παρα την θαλασσαν ... εἰδε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Σιμωνα και Ἀνδρεαν ...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μφιβαλλοντ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ν τῃ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θαλασσῃ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ile he was pass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longside the sea, he saw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mon and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rew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ast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nets) in the se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δεν Σιμωνα και Ἀνδρεαν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he saw Simon and Andr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αραγω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nomina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μφιβαλλοντ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accusa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D2C05265-9959-4877-9892-B18743B7DA4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FORM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600200" y="1219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ur basic partici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46160" y="1785960"/>
          <a:ext cx="8877240" cy="1874880"/>
        </p:xfrm>
        <a:graphic>
          <a:graphicData uri="http://schemas.openxmlformats.org/drawingml/2006/table">
            <a:tbl>
              <a:tblPr/>
              <a:tblGrid>
                <a:gridCol w="1425600"/>
                <a:gridCol w="1236600"/>
                <a:gridCol w="1820880"/>
                <a:gridCol w="385560"/>
                <a:gridCol w="1843200"/>
                <a:gridCol w="2165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-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untyin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υ-ομε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rescuing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-σ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aving unti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υ-σαμε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aving rescued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57"/>
          <p:cNvSpPr/>
          <p:nvPr/>
        </p:nvSpPr>
        <p:spPr>
          <a:xfrm>
            <a:off x="500040" y="3732120"/>
            <a:ext cx="7848720" cy="25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the Aorist there is no augment (there are never augments in the other mood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the Aorist there is a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an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ou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orist Participle uses the Present Participle endings (e.g.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αλω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, as does the (Present)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μ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ὠ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– 'being'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669960" y="1319040"/>
            <a:ext cx="7791480" cy="13230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iciples ending in -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ος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decline like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ἀγαθ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iciples ending otherwise decline like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πας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42920" y="2986200"/>
            <a:ext cx="885492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4.2.1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ῥυομεν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ῥυσαμενος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se decline exactly a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γαθ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. Thu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ῥυομενου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Accusative masculine plural of the Present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ῥυομ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ρξαμεναι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Dative feminine plural of the Aorist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ρχομ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ρχομενα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Nom./Acc. neuter plural of the Present Participle of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ρχομ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7F3A21D0-7064-4765-A252-5212BCB1935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16B7DB75-18C1-40B8-9939-4A05E9C7910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527040" y="1557360"/>
            <a:ext cx="807228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14.2.2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ων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σας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se follow the 3-1-3 pattern lik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π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fore, to decline them, we need their three nominative singulars, and th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eclension st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ω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nom. sing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ουσ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ecl. stem -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οντ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σας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nom. sing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σ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σασ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σα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ecl. stem -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σαντ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-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0B3B3DB9-2F11-42A7-9A18-AD824CC575D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76040" y="1351080"/>
          <a:ext cx="8786880" cy="4694040"/>
        </p:xfrm>
        <a:graphic>
          <a:graphicData uri="http://schemas.openxmlformats.org/drawingml/2006/table">
            <a:tbl>
              <a:tblPr/>
              <a:tblGrid>
                <a:gridCol w="798840"/>
                <a:gridCol w="1303200"/>
                <a:gridCol w="1328760"/>
                <a:gridCol w="1201680"/>
                <a:gridCol w="1393920"/>
                <a:gridCol w="1366920"/>
                <a:gridCol w="1393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(Active) Participle -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ω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(Active) Participle -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ς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α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α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η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η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ε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α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ε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α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αι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αι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62E345DF-37D4-491F-802A-89E67E93141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14200" y="1214280"/>
            <a:ext cx="900108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σα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Nom./Acc. neuter singular of the Aorist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γραφοντι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Dative masc./neuter singular of the Present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γραφ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λθοντε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Nom. masculine plural of the (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 Aorist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ρχομ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σιν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Dative masc./neut. plural of the Present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μ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71440" y="3143160"/>
            <a:ext cx="8572680" cy="31089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There are two steps in forming a participle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Participle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basic forms (essentially a verbal matter – about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tense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particular instance of that form (essentially an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adjectival matter – about gender, case and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number)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4:45:20Z</dcterms:created>
  <dc:creator>Sarah</dc:creator>
  <dc:description/>
  <dc:language>en-US</dc:language>
  <cp:lastModifiedBy>Sarah</cp:lastModifiedBy>
  <dcterms:modified xsi:type="dcterms:W3CDTF">2009-03-11T22:25:31Z</dcterms:modified>
  <cp:revision>70</cp:revision>
  <dc:subject/>
  <dc:title>Slide 1</dc:title>
</cp:coreProperties>
</file>