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90F-5576-43D9-8BE9-3BEB4746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7E9-ADE3-4A35-B6E4-1EB95F87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4D5-257E-4F7F-8D5B-6A165D41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F93-E71F-462F-85CE-F6CCB45C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189-14A0-40B0-98EB-9186608B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FA4-842B-4514-B067-29FD4C4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1C4-BD9E-4350-AE6E-A55B6A4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11A-D125-4564-ACCB-C9C4E2FD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763-445E-46A3-B5A0-5B9CEC7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46E-AC74-48E5-AA2F-FFC805E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92A-DC1A-4A67-82CD-70376EA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CF9-9F8C-426A-8641-FA6A805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D56-AF6A-4254-B50B-CAF23EB3CE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E11A3D7-8EB3-42D7-AE7A-25C68D09E81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31800" y="1643040"/>
            <a:ext cx="78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7.6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 ἐν τῳ καινῳ αὐ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νημει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in his new t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0.3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ν ἐστιν μαλ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διδον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ἠ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more bless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g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n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3.20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ἑστηκ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πι την θυραν και κρου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st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the door and kn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AC20E79-D68B-423A-9469-035C0244E8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1800" y="1428840"/>
            <a:ext cx="8420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s marked † conjugate identically to the corresponding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the Perfect Active is used for a Present intransitive meaning, the Pluperfect Ac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στηκ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†) is used for an Imperfect intransitive mea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s both a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watch the forms of the participles (and the other moods) -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Present Participl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ησ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-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transitiv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o suffix -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intransitiv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135AFE9B-5A39-4D06-9F1F-325033D210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8120" y="1128600"/>
            <a:ext cx="89614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i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9.36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λαβων παιδ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στησ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 ἐν μεσῳ αὐτω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aking a child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ood hi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heir mid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5.33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ησε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α μεν προβατα ἐκ δεξιων αὐτου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will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or 'put') the sheep on his righ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ran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3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ας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ὁ Ἰησους ἐφωνησαν αὐτους και εἰπ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ood sti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lit: 'having stood') and called them and sai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24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υνεργοι ἐσμεν της χαρας ὑμων∙ τῃ γαρ πιστ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ἑστηκατ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fellow-workers of your joy, becaus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0647229-EB77-409A-B67D-A1DE7D58C1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14680" y="131616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9.1.4 The pattern of ending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160" y="2643120"/>
          <a:ext cx="8858160" cy="3140280"/>
        </p:xfrm>
        <a:graphic>
          <a:graphicData uri="http://schemas.openxmlformats.org/drawingml/2006/table">
            <a:tbl>
              <a:tblPr/>
              <a:tblGrid>
                <a:gridCol w="1584360"/>
                <a:gridCol w="1455480"/>
                <a:gridCol w="1536840"/>
                <a:gridCol w="1477800"/>
                <a:gridCol w="1428840"/>
                <a:gridCol w="1374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89"/>
          <p:cNvSpPr/>
          <p:nvPr/>
        </p:nvSpPr>
        <p:spPr>
          <a:xfrm>
            <a:off x="2362320" y="1928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E686F42-15A0-43F8-BC38-0C1AD2FF93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528720" y="1285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7320" y="2057400"/>
          <a:ext cx="8915400" cy="3139920"/>
        </p:xfrm>
        <a:graphic>
          <a:graphicData uri="http://schemas.openxmlformats.org/drawingml/2006/table">
            <a:tbl>
              <a:tblPr/>
              <a:tblGrid>
                <a:gridCol w="1557360"/>
                <a:gridCol w="1571400"/>
                <a:gridCol w="1571760"/>
                <a:gridCol w="1191960"/>
                <a:gridCol w="1251000"/>
                <a:gridCol w="17719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ς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–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τ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EA3C5073-C5DC-4CBD-B4AD-D1A5176AF1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43080" y="1500120"/>
            <a:ext cx="84582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Aorist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η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σα, ἐδω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jugat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rly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so has intransi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ndings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υθ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As in the Present but using the Verbal stem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missing the initi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, δ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, except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 which ar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ς, στηθι, δ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nfinitiv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ιναι, στηναι, δουν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42360" y="3981600"/>
            <a:ext cx="8458200" cy="1440"/>
          </a:xfrm>
          <a:prstGeom prst="line">
            <a:avLst/>
          </a:prstGeom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F8816471-8ABE-457C-A0D4-2B032ED1ED2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71600" y="112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.1.5 Other similar verb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8520" y="1684440"/>
            <a:ext cx="88012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ἱ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erally 'send' but only found in compounds 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φ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forgiv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understand) – This follows that same pattern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the Present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Verbal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Verbs in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κ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how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λυ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destro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γ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break) – These hav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 endings in the Present Tense (with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owel dominating), but then use an altered stem for the other tenses along with the normal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dings  (see the principal parts for the detai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φημ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 say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- This only appears in the following Indicative Active forms: Prese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ys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α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they say; Imperfec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μι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am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If you look back at the Present of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will see that it has some similarities with the Present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1FA1612A-2A93-4087-80C5-5FFC7D3DBA7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2920" y="1214280"/>
            <a:ext cx="885816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5.2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ς δυναται ἁμαρτια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ειν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ἰ μη μονος ὁ θ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abl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o forgi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s except God al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2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α ἐχω κατα σου ὁτι την ἀγαπην σου την πρωτη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ηκε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 have (this) against you that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abandon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r firs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4.7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φη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αὐτῳ ὁ Ἰησους∙ Παλιν γεγραπ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, 'Again it is written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as. 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οι την πιστιν σου χωρις των ἐργων, καγω σο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ων ἐργων μου την πιστ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e your faith without work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 m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through my 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A7184221-0C34-4C7F-B882-A358210C66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81160" y="2233440"/>
            <a:ext cx="6781680" cy="229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and Imper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T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hort vowel leng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4C8B40D5-A68A-4B65-84A2-647085228F7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0840" y="1865160"/>
          <a:ext cx="8840880" cy="3292560"/>
        </p:xfrm>
        <a:graphic>
          <a:graphicData uri="http://schemas.openxmlformats.org/drawingml/2006/table">
            <a:tbl>
              <a:tblPr/>
              <a:tblGrid>
                <a:gridCol w="1523880"/>
                <a:gridCol w="2210040"/>
                <a:gridCol w="2280960"/>
                <a:gridCol w="282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μ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no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ηρ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ulf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ong or long drops 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ten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BA0039A-116D-4439-8E86-A8ACBA5230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0880" y="1643040"/>
            <a:ext cx="8305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infinitives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behave as if the Infinitive ending is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Imperfect Active Indicative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the 'option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was not used. Thus the ending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iving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, ἐτιμα, ἐπληρ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ew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keep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other tenses 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46C2D607-2AFE-4438-8B2A-1CC8B678FD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1415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1 Characteristics of 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5840" y="2581200"/>
          <a:ext cx="8529480" cy="2770200"/>
        </p:xfrm>
        <a:graphic>
          <a:graphicData uri="http://schemas.openxmlformats.org/drawingml/2006/table">
            <a:tbl>
              <a:tblPr/>
              <a:tblGrid>
                <a:gridCol w="1357200"/>
                <a:gridCol w="2428920"/>
                <a:gridCol w="2028960"/>
                <a:gridCol w="2714400"/>
              </a:tblGrid>
              <a:tr h="12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hree 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er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or Present &amp; Imperfe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pl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8489990-6F16-4FBC-B1C9-BFA2CCA1E4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85880" y="1187280"/>
            <a:ext cx="5486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He was l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φιλημ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have bee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ιμ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She was hon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ᾳ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You are hono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14680" y="4143240"/>
            <a:ext cx="59292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η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wil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t is ful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is being fulf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πληρω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has been fulf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003F20BB-FA99-448E-93A8-0267596E53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42920" y="128592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Thes. 2.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ρωτ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ὑμας, ἀδελφ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, broth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6.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ιμ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πατερα σου και την μητε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nou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r father 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. 2:2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οὐκετι ἐγω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ἐν ἐμοι Χριστος∙ ὃ δε νυ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σαρκι, ἐν πιστ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ῃ του υἱου του θε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απησαν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 και παραδοντος ἑαυτον ὑπερ ἐμ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 lo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who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but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me. W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w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fles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by faith in the son of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 lo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'the one having loved') me and handed himself over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EE49DA30-0CD7-4CD1-B553-FE2ADB43DD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14200" y="1428840"/>
            <a:ext cx="87156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2.16-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μετιμησ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ις ἱνα μη φανερον αὐ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ωσιν, 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ληρω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ῥηθεν δια Ἠσαϊ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φητ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rebuk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m so that they would not make hi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, in order that what was spoken through Isaia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he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fulfil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Tim. 3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φανερωθη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σαρκι, ἐδικαιωθη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s revea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flesh, justified in spiri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57C95CD-C19D-4F94-9281-B8EFDC603A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4200" y="1214280"/>
            <a:ext cx="8929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stem is formed from the Verbal stem by a form of redu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irst consonant is repeated (or an 'h' sound for those beginning with vowels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together with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 the difference between this and proper reduplication (for the Perfect) which uses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ow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85800" y="4761000"/>
            <a:ext cx="777240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-</a:t>
            </a: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verbs the Present stem is longer than the Verbal 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7E812C1F-E95C-415B-82A6-53F09FCE31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8280" y="11764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2 Parsing -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verbs – the survival guid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2360" y="1801800"/>
          <a:ext cx="8534520" cy="4602240"/>
        </p:xfrm>
        <a:graphic>
          <a:graphicData uri="http://schemas.openxmlformats.org/drawingml/2006/table">
            <a:tbl>
              <a:tblPr/>
              <a:tblGrid>
                <a:gridCol w="4516560"/>
                <a:gridCol w="4017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Indicative (or 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Other Moo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Other M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(+augment in Indicat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plicated Verbal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6A33DEDC-CF99-4FA4-AE83-4637B55134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1360" y="1428840"/>
            <a:ext cx="8229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ιδω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oth use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Indicative, and a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. Thus, Verbal stem plu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ust be the Future Indicative (since there is no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Other Moods). F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ere there is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, the Future Indicative has to be distinguished by its endings, which are always the same as the Futur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duplication in the Perfect is proper reduplication with 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δ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εθ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σ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D9C95693-1A19-4C19-9BE5-2027ED6776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550880"/>
          <a:ext cx="8839440" cy="4822920"/>
        </p:xfrm>
        <a:graphic>
          <a:graphicData uri="http://schemas.openxmlformats.org/drawingml/2006/table">
            <a:tbl>
              <a:tblPr/>
              <a:tblGrid>
                <a:gridCol w="1368720"/>
                <a:gridCol w="2365200"/>
                <a:gridCol w="457200"/>
                <a:gridCol w="2563920"/>
                <a:gridCol w="331560"/>
                <a:gridCol w="175284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pl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θηκε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pla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ει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δοτ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redu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t has been giv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anding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aving stood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ωσ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uture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will g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εν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 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st Aorist 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st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95"/>
          <p:cNvSpPr/>
          <p:nvPr/>
        </p:nvSpPr>
        <p:spPr>
          <a:xfrm>
            <a:off x="152280" y="11336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2B2886C1-3079-4EF5-B3CA-4A784BFD2B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7600" y="1157400"/>
            <a:ext cx="8853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2.1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ῳ∙ Πας ἀνθρωπος πρωτον τον καλον οἰν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τιθη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he said to him, 'Every perso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uts (out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fine wine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irst …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tt. 1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θησ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 πνευμα μου ἐπ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ill pla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y spirit on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19.19: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ραψεν δε και τιτλον ὁ Πιλατος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πι τ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αυρ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ilate also wrote a notice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lac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t) on the cr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 Tim. 1.1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ὃ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τεθ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ω κηρυξ και ἀποστολος και διδασκα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which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as appoin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 herald, and apostle and tea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47B92125-190A-46FC-A957-3CC1D114AB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0320" y="1235160"/>
            <a:ext cx="89154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ph. 1.2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αὐτ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δωκ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εφαλην ὑπερ παντα τῃ ἐκκλησιᾳ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ga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him as head (or 'made him head') over all thing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u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11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λεγεν αὐτοις∙ Ὑμιν το μυστηρ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εδο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ης βασιλειας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υ θε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o them, 'The secret of the kingdom of God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s been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you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18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ὁ υἱος του ἀνθρωπου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παραδοθησε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οις ἀρχιερευσι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son of m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be handed ov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chief prie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Pet. 3.15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θως και ὁ ἀγαπητος ἡμων ἀδελφος Παυλος κατα την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οθεισα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ῳ σοφιαν ἐγραψεν ὑμ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our beloved brother Paul also wrote to you according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sdom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6E9B2D58-6F5D-4C21-9203-C7C4CFADF5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7640" y="110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3 The meaning of 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1758960"/>
          <a:ext cx="8758440" cy="4486320"/>
        </p:xfrm>
        <a:graphic>
          <a:graphicData uri="http://schemas.openxmlformats.org/drawingml/2006/table">
            <a:tbl>
              <a:tblPr/>
              <a:tblGrid>
                <a:gridCol w="819000"/>
                <a:gridCol w="904320"/>
                <a:gridCol w="216000"/>
                <a:gridCol w="2443680"/>
                <a:gridCol w="2738520"/>
                <a:gridCol w="1636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want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 use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iv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d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nsi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στ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α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22:23:23Z</dcterms:created>
  <dc:creator>Sarah</dc:creator>
  <dc:description/>
  <dc:language>en-US</dc:language>
  <cp:lastModifiedBy>Sarah</cp:lastModifiedBy>
  <dcterms:modified xsi:type="dcterms:W3CDTF">2009-03-23T17:15:09Z</dcterms:modified>
  <cp:revision>67</cp:revision>
  <dc:subject/>
  <dc:title>Slide 1</dc:title>
</cp:coreProperties>
</file>