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BE4-99DE-40AD-8072-7A8E9CCF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528-A1BE-494E-9F0A-B32F0D32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36D-9DC3-44E2-B7BE-551763DD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9C3-08BD-43F8-B7E3-56586A3A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4C1-5D07-4E8E-8565-21EC8E63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7C5-4535-4DB4-B106-9E469B7A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B2D-441E-415A-AB86-A0CC2EB4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6BA-6D92-4FB7-9DAB-A1F06CB5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5B5-5C7D-4F13-8A03-77A31859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481-47E9-477E-A908-9880FD68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90A-D715-456F-A296-C1C0166F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966-FAF0-44E0-B124-E1A047F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F6E3-716D-4187-A823-BA99675798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extra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1857240"/>
            <a:ext cx="3714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ξιο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ξι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υθερ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χατος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κανος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χυρ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072040" y="20098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072040" y="26384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(han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072040" y="3252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ful, capable, 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072040" y="3871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72040" y="44863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t,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07204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072040" y="57387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071720" y="1214280"/>
            <a:ext cx="3714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υκος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ιπ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σος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λιγ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ουσι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ικο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ιλ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929120" y="13669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,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929120" y="19954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929120" y="2610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929120" y="3228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,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929120" y="38433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, little (pl. f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929120" y="4452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92912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929120" y="5753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d, friendly,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00040" y="12859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57160" y="171288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ς, μαρτυρος, ὁ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θ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429160" y="1866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429160" y="2495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y,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429160" y="3110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28480" y="382428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857160" y="4324320"/>
            <a:ext cx="32860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ξαν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θαρ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ιζ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5429160" y="4486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429160" y="50958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/declare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429160" y="572436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s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143000" y="127800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αι (21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ημαι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ιμα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δα (3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ι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857840" y="143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n, I am 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857840" y="2063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it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857840" y="26733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e, r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857840" y="3287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857840" y="390204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714240" y="46735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category of its 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143000" y="5421240"/>
            <a:ext cx="357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τε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nfinitive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857840" y="54450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resul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500040" y="142884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umber of words with 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x to make them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428840" y="2506680"/>
            <a:ext cx="35002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ικ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ικ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α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αθαρ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ιστ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072040" y="2657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072040" y="3295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ong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5072040" y="3895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, 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5072040" y="4510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ure, un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72040" y="51436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believing, faith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6:42:05Z</dcterms:created>
  <dc:creator>Sarah</dc:creator>
  <dc:description/>
  <dc:language>en-US</dc:language>
  <cp:lastModifiedBy>Sarah</cp:lastModifiedBy>
  <dcterms:modified xsi:type="dcterms:W3CDTF">2009-06-24T16:55:42Z</dcterms:modified>
  <cp:revision>15</cp:revision>
  <dc:subject/>
  <dc:title>Slide 1</dc:title>
</cp:coreProperties>
</file>