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9C9-D498-40EB-ADFC-76EB5421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659-DC1C-4102-8D62-D459EA4D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74D-4B77-4EC5-BCFD-0860B583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279A-003F-4231-B220-610DE8A9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723-1E05-408A-81D9-DAE0E472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DD4-4ED7-4C31-B2A4-081FC6BF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328-F5D3-4D8F-B606-36D5BDD9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8A7-20E0-4CF1-BA22-AEBEF364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B03-DCBE-4D62-A923-A0E3DFB4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3CB-CBF5-4FF9-9D82-2C676C6C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8A8-0666-4C3A-8321-43EE29A8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08E-4D80-47F4-840F-17043AD0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2877-B268-430E-A74F-58DEDE1C25C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NI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00040" y="128592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teen pronouns or personal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143000" y="1903320"/>
            <a:ext cx="3786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ληλος (1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λος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αυτος (3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γω, ἡμεις (26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εινος (26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μαυτος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86200" y="20527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other,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86200" y="27003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786200" y="330048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mself, herself, itself (reflex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829040" y="45291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, 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829040" y="51436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(pl. tho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829040" y="57675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143000" y="1279440"/>
            <a:ext cx="3786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μος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ἀγω (8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λος (10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ὑτος αὑτη τουτο (1387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ος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σ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εαυτος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4786200" y="14302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, 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786200" y="2076480"/>
            <a:ext cx="385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 (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+ ἐγ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786200" y="26766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le, en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829040" y="39052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what k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829040" y="45194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great, how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829040" y="51451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4829040" y="57690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, yours (si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786200" y="33084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(pl. the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143000" y="1279440"/>
            <a:ext cx="37861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, ὑμεις (290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ιουτος (5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786200" y="14302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ing.), you (p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786200" y="20764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such a kind, s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557280" y="28004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neuter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1143000" y="3300480"/>
            <a:ext cx="37861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νιον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νδρον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υστηριον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τηριον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4786200" y="34513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mb, sh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4786200" y="40971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4786200" y="46958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stery, 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4800600" y="52959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828720" y="1617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 conj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1414440" y="2117880"/>
            <a:ext cx="3786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α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αρ (10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ε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 (279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ο (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οτι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5057640" y="22683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057640" y="29145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,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057640" y="35132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072040" y="41133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5072040" y="47386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5072040" y="53388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1428840" y="1542960"/>
            <a:ext cx="3786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τε (6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ει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ν (17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ποτε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ν (49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 (2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4629240" y="1722600"/>
            <a:ext cx="38574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τε ... εἰτ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... if, whether ... or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29240" y="298296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629240" y="358128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one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643280" y="41814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643280" y="48070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consequ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643280" y="5407200"/>
            <a:ext cx="385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...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21:36:01Z</dcterms:created>
  <dc:creator>Sarah</dc:creator>
  <dc:description/>
  <dc:language>en-US</dc:language>
  <cp:lastModifiedBy>Sarah</cp:lastModifiedBy>
  <dcterms:modified xsi:type="dcterms:W3CDTF">2009-06-24T15:32:22Z</dcterms:modified>
  <cp:revision>15</cp:revision>
  <dc:subject/>
  <dc:title>Slide 1</dc:title>
</cp:coreProperties>
</file>