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206-4CA0-4DF6-A800-81168B4B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79A-02E0-4DC7-8C26-90253F7F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02D-D1ED-43E7-8394-77D53B03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C98-778D-4B30-B4A7-96107792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322-671F-4CE4-A4D5-FCF2DC66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81D-89AA-497E-81F0-AC90DD5A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3FF-443D-493A-83F3-15752977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0546-7FA0-4BA9-92BC-AF2AF8F7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58E-D69A-4892-B711-161A0712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83D-24CA-47F7-ACEF-8989D3C5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9FC-7988-4BC4-BF9D-99B996BE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541-94D9-45BA-980D-AD55A3A9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9255-0C97-4939-83CD-BE806FDECE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EN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214280" y="2700360"/>
            <a:ext cx="58579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ως (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αχιστος (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 (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εισσων (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57120" y="171468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adverbs, comparatives and superl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286240" y="2852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286240" y="3486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286240" y="41004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86240" y="4710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1214280" y="1857240"/>
            <a:ext cx="58579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λιστα (1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λλον (8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κρον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κρος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ειρων (1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286240" y="2009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of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286240" y="2643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, r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286240" y="3257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ittle, a 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286240" y="3867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286240" y="45007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2700360"/>
            <a:ext cx="62863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ῳον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υσιαστηριον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μην, ποιμενος ὁ (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357120" y="171468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 few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500800" y="28526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ing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500800" y="3486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5500800" y="4100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ph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000080" y="2662200"/>
            <a:ext cx="6286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αομαι (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υχα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μνῃσκομαι (23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ιπτω (1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14240" y="178596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715000" y="281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, look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715000" y="34480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15000" y="4062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715000" y="46576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20:01:10Z</dcterms:created>
  <dc:creator>Sarah</dc:creator>
  <dc:description/>
  <dc:language>en-US</dc:language>
  <cp:lastModifiedBy>Sarah</cp:lastModifiedBy>
  <dcterms:modified xsi:type="dcterms:W3CDTF">2009-06-24T17:07:39Z</dcterms:modified>
  <cp:revision>6</cp:revision>
  <dc:subject/>
  <dc:title>Slide 1</dc:title>
</cp:coreProperties>
</file>