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ADA-708D-4789-9534-AC180AFE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8D7-A1D0-464A-A664-9F7058D7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E54-8D4E-4C41-82FD-4999FACB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91F-8677-4D61-8F74-9DF2A407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A43-B3D0-4BEF-A06B-7D068A2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0EB-8844-4FBC-AE4D-07E61E43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10D-6216-430E-8306-BF59115A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D44-8856-41E0-AA5E-41EE49F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439-FB34-41C6-9D9B-8E48090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2C8-95FA-4336-BC66-99423CA5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4F1-C175-4F60-A4AC-97A46D5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648-894B-47A2-A2C2-7A1530C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0448-6E97-4DAF-8BED-20A5EB1E82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O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455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84652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βρααμ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(1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αυιδ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αββι (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3003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63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en, 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260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875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2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857240" y="2255760"/>
            <a:ext cx="4572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ραηλ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ωσηφ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916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000760" y="2443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000760" y="3038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000760" y="36813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5000760" y="430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5:16:02Z</dcterms:created>
  <dc:creator>Sarah</dc:creator>
  <dc:description/>
  <dc:language>en-US</dc:language>
  <cp:lastModifiedBy>Sarah</cp:lastModifiedBy>
  <dcterms:modified xsi:type="dcterms:W3CDTF">2009-06-19T20:27:06Z</dcterms:modified>
  <cp:revision>12</cp:revision>
  <dc:subject/>
  <dc:title>Slide 1</dc:title>
</cp:coreProperties>
</file>