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E81-3087-41EC-902B-6E6681E5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BEE-DD62-47AB-9195-E59BA996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E17-EF16-47F9-B67C-1279274C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3B6-3B01-4857-A8BF-8B2EEF3B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1DB-D191-42AA-89CD-7F3CB3AB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C40-46BF-417A-93A5-482D838E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8BF-3D9B-40CC-98BD-29E90C6F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1D0-CB66-4931-9354-7EA004C8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2E8-E846-4C4E-B4E3-491DCEF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6DC-7CDA-4440-9F48-3A7F2AA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3B6-A564-4226-975D-352FD32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855-E2C8-47D7-B736-847491B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080-EE6A-4C5E-A1DB-E3BEE68202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85840" y="14209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500120" y="2071800"/>
            <a:ext cx="4572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αλυπτ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πτιζ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ω (1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κ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ξ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5429160" y="2228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29160" y="285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veal, un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5429160" y="34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ptise, 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429160" y="408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5429160" y="47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ersecute, pur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5429160" y="5300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ise, glo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278400"/>
            <a:ext cx="2003400" cy="3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161784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ζ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μπω (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θ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ζω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ρχω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429160" y="177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laim, p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429160" y="239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29160" y="301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429160" y="362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vince, persu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429160" y="4246560"/>
            <a:ext cx="3429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ve, rescue, heal (sometimes writt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ῳζ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429160" y="548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,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71440" y="121428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8600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τ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43440" y="2428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71440" y="17859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hich is clearly not a comp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85840" y="314316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that look like compounds but do not behave as compounds (e.g. augments are added to the beginn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500120" y="4071960"/>
            <a:ext cx="4572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λογε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χαριστε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δομ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57840" y="4214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ak well of, bless, 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857840" y="4853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4857840" y="5457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uild (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177156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χω (24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357800" y="1914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heed of, pay atten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71440" y="12715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b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akes the d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714240" y="3098880"/>
            <a:ext cx="45720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ι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ι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δη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υν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ε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57800" y="324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, jus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71440" y="2598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words all abou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357800" y="38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57800" y="4500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357800" y="5129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357800" y="57103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14240" y="135720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ετι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π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λιν (1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οτε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ε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ρον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τε (1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357800" y="15001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357800" y="2130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57800" y="27590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,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357800" y="33876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57800" y="3968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(at som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357800" y="45720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57800" y="5210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571760"/>
            <a:ext cx="36432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85880" y="3357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uple of extra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43120" y="4257720"/>
            <a:ext cx="3286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οθεο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πος (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429160" y="2295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443560" y="4410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4356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0:06:27Z</dcterms:created>
  <dc:creator>Sarah</dc:creator>
  <dc:description/>
  <dc:language>en-US</dc:language>
  <cp:lastModifiedBy>Sarah</cp:lastModifiedBy>
  <dcterms:modified xsi:type="dcterms:W3CDTF">2009-06-23T10:14:21Z</dcterms:modified>
  <cp:revision>18</cp:revision>
  <dc:subject/>
  <dc:title>Slide 1</dc:title>
</cp:coreProperties>
</file>