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2C1-FF55-4346-ADF3-ECAA4F52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16F-939E-4C6A-B8E9-2AB41E48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10C-C4E8-4C40-9CBB-2AAD52BA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AEC-61E7-44D8-ACCE-6E5A5725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143-70AA-4A02-831E-223F5280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A31-FB69-4211-83B4-077490B2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D4C-24E6-4958-8441-FA7F999E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2D6-25B4-4048-AB63-A277B181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503-B4ED-4E96-A1E1-40B19884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535-3663-4871-91C7-4B312EEA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DA0-BEF3-424E-8BAE-D329C4F9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FCD-7F8E-46B2-94E5-C6D17A78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9AD6-EDD3-4CC3-8C7F-F0329E96DAC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NINE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4460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205884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δωμι (4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διδωμι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διδωμι (1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στημι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ιστημι (1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ιστημι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θημι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429160" y="2052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429160" y="26290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 awa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429160" y="32288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and over, en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429160" y="38577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use to stand, st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429160" y="44816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is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429160" y="5095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ace behi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429160" y="5715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t,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214280" y="171468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τιθημι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φιημι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ιημ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λλυμι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κνυμ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μπλημ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ημι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29160" y="16430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t, place up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429160" y="22194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ave, forgive, dis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429160" y="28195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429160" y="34480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uin, destr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429160" y="40719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oint out, show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429160" y="46864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l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429160" y="53053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71680" y="17146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14280" y="2428920"/>
            <a:ext cx="342900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καιο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ηροω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αυροω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λειο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νεροω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5429160" y="24224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ustif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429160" y="2998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lfil, fill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5429160" y="35989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ruc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429160" y="42274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omplish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5429160" y="485136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veal, make know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71680" y="114300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214280" y="185724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παω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ενναω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ψαω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ωταω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ερωταω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αω (1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ομα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214960" y="1851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v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214960" y="2427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ar (be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214960" y="302724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irst (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214960" y="36561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214960" y="42800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k (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214960" y="4896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214960" y="551016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214280" y="1511280"/>
            <a:ext cx="342900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οπια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ικα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ινα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ανα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μαω (2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τιμα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214960" y="15048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abou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214960" y="20811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ver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214960" y="268128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214960" y="3309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eive, lead as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214960" y="3933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onour,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214960" y="455148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928800" y="529128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lu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we learnt in Chapter 11 because it has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δ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20:05:25Z</dcterms:created>
  <dc:creator>Sarah</dc:creator>
  <dc:description/>
  <dc:language>en-US</dc:language>
  <cp:lastModifiedBy>Sarah</cp:lastModifiedBy>
  <dcterms:modified xsi:type="dcterms:W3CDTF">2009-06-24T17:00:42Z</dcterms:modified>
  <cp:revision>27</cp:revision>
  <dc:subject/>
  <dc:title>Slide 1</dc:title>
</cp:coreProperties>
</file>