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7EB-B63A-4BAC-B910-375AC32E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481-DEEF-4FF2-B847-D4D0921F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171-3805-455A-B2CD-C44BC942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FC8-1C19-4CB6-B55E-34DCD0BD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14D-7841-48E0-8F78-0202FD1F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836-1751-4FD3-81F2-2D443220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DC5-75E4-40B0-96EA-60F1AF65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7DC-FE80-4375-BBB9-B520D6FA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E03-188E-4230-AFD3-D71A621B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D72-FD39-4140-A311-E3C4635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B64-289A-4AAE-94F1-E6295C66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38B-BDC1-45C7-B589-8ADFAB7A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9498-E808-43BD-A2A2-44372C1CB8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OU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5720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000080" y="1928880"/>
            <a:ext cx="464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500120" y="2428920"/>
            <a:ext cx="35006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ωλο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σκαλος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ρονος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κωβ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ιθος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εσβυτερος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500800" y="2571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500800" y="32241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500800" y="3828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500800" y="4438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500800" y="5043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500800" y="5653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d person, e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41120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14240" y="1954080"/>
            <a:ext cx="44294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πελων, ἀμπελωνος, ὁ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κων, εἰκονος, ἡ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λλην, Ἑλληνος, ὁ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ισαρ, Καισαρος, ὁ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ιμα, ατος, το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ς, ὠτος, το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929200" y="209700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ne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929200" y="2749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929200" y="33544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929200" y="3963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929200" y="45687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929200" y="5178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14240" y="1500120"/>
            <a:ext cx="4429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ις, παιδ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περμα, ατος, το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500720" y="1643040"/>
            <a:ext cx="4429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, servant (plus the related noun 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ιδ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52)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or infant, which decline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500720" y="35132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28760" y="43959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indeclin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728640" y="5214960"/>
            <a:ext cx="32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σχα, το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500720" y="52243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714240" y="155412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om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928800" y="20970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οραζω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ασφημεω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κονεω (37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λογιζομαι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πιζ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τοιμαζ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214960" y="2239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214960" y="2892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lasp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214960" y="34974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214960" y="4106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nsider, argue,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214960" y="47116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214960" y="5321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epare, mak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214960" y="27147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214960" y="3367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st, t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5214960" y="39718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214960" y="45813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ph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5214960" y="205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asp,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1071720" y="1943280"/>
            <a:ext cx="30002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ατεω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σε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ιραζ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ασσ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ευ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5214960" y="21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use to fall/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214960" y="27194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214960" y="336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5214960" y="3990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 (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214960" y="4610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ive fre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000080" y="1978200"/>
            <a:ext cx="35006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ανδαλιζ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τασσ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υλασσ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νε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ριζομαι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3:11:02Z</dcterms:created>
  <dc:creator>Sarah</dc:creator>
  <dc:description/>
  <dc:language>en-US</dc:language>
  <cp:lastModifiedBy>Sarah</cp:lastModifiedBy>
  <dcterms:modified xsi:type="dcterms:W3CDTF">2009-06-24T16:10:52Z</dcterms:modified>
  <cp:revision>16</cp:revision>
  <dc:subject/>
  <dc:title>Slide 1</dc:title>
</cp:coreProperties>
</file>