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7C2-DCE5-458C-9A26-DB8BB43F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A21-B7C5-4EC3-9281-3B271FB9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5A52-6B96-4664-BBEB-01D6DC96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BD0-8647-4DA8-84D3-17EF5C6E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41A5-F768-40FD-A6B1-BCEC44C3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CDC3-BC99-4FAE-918B-A4DEEE27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0BF-FE4D-4493-98C6-C4993D7F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AC5-BE3A-4886-9970-F368890F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DD5-9A56-472E-BABC-77607F3F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5E9-1A0A-4C7D-910A-C491B0B5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314-F288-4478-B642-C0CEB47E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C4C-1F7E-4FBA-B808-9ECF4B8A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22FE-35B2-40C7-B73C-B36A923BF10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000080" y="239760"/>
            <a:ext cx="6904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WEL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1324080"/>
            <a:ext cx="82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rd declension words, grouped into their rough patter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857160" y="1857240"/>
            <a:ext cx="3786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νηρ, ἀνδρος, ὁ (2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στηρ, ἀστερος, ὁ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ωτηρ, σωτηρος, ὁ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ἰων, αἰωνος, ὁ (1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ων, ἀρχοντος, ὁ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ιμων, Σιμωνος, ὁ (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υνη, γυναικος, ἡ (2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214960" y="2014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 (male), hus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214960" y="2643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214960" y="3257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214960" y="3871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e (long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214960" y="4481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ler,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214960" y="5114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214960" y="5729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man, w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857160" y="1285920"/>
            <a:ext cx="400068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λπις, ἐλπιδος, ἡ (5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υξ, νυκτος, ἡ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υς, ποδος, ὁ (9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αρξ, σαρκος, ἡ (1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αρις, χαριτος, ἡ (1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ειρ, χειρος, ἡ (17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υγατηρ, θυγατρος, ἡ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ητηρ, μητρος, ἡ (8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286240" y="1442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286240" y="2071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286240" y="2685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286240" y="3300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286240" y="3909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286240" y="4543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286240" y="5157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5286240" y="5767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857160" y="1285920"/>
            <a:ext cx="442908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τηρ, πατρος, ἡ (41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υρ, πυρος, το (7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δωρ, ὑδατος, το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ως, φωτος, το (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ἱμα, αἱματος, το (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λημα, θεληματος, το (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νομα, ὀνοματος (2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νευμα, πνευματος, το (37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5572080" y="1442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ther, anc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572080" y="2071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572080" y="2685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572080" y="3300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5572080" y="3909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572080" y="4543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572080" y="5157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572080" y="5767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irit,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857160" y="1434960"/>
            <a:ext cx="442908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ῥημα, ῥηματος, το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τομα, στοματος, το (7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ωμα, σωματος, το (1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5572080" y="1592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d, s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572080" y="2220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572080" y="283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572080" y="4457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r,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5572080" y="5067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500040" y="36813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857160" y="4287960"/>
            <a:ext cx="32148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ιζων (4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λειων (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4843440" y="2347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one,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4843440" y="2957400"/>
            <a:ext cx="380052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? which?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ί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also mean wh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00040" y="15717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1857240" y="2185920"/>
            <a:ext cx="321480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ς τι (5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ίς τί (5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στις (15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ὡσπερ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857840" y="4195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4857840" y="4824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0:44:09Z</dcterms:created>
  <dc:creator>Sarah</dc:creator>
  <dc:description/>
  <dc:language>en-US</dc:language>
  <cp:lastModifiedBy>Sarah</cp:lastModifiedBy>
  <dcterms:modified xsi:type="dcterms:W3CDTF">2009-06-24T15:57:31Z</dcterms:modified>
  <cp:revision>30</cp:revision>
  <dc:subject/>
  <dc:title>Slide 1</dc:title>
</cp:coreProperties>
</file>