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5963-C513-4A5C-B57B-1562C0CD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F3C7-4B5F-4C02-AEF4-F9430C8D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4AC1-B693-4D53-8054-427868216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BF1C-1668-4A36-A8F0-AC5E5BE7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008E-AC43-4191-AFEC-AB49F944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5C99-DBB7-4B15-9B9C-C019848D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6D82-F889-45FB-8EFB-8B260E88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A629-1552-453B-B132-E44D63E3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9E15-D36B-40C2-88DD-5FB3A70B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BBDC-624A-4878-B021-5EB072DC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047F-B789-4EB7-8ACA-705786BC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7173-D1E7-4B5E-8F93-78AF3685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4894-6B48-48DB-85FF-B4A93F03957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20760" y="239760"/>
            <a:ext cx="6683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THRE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:Vocabulary 1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1771560" y="2071800"/>
            <a:ext cx="400068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γαπη (11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δελφη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χη (5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η (25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ζωη (13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ωνη (1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ψυχη (10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4629240" y="222876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4629240" y="28432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4629240" y="34574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gi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4643280" y="40719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rth, soil,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4643280" y="47005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142920" y="113184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venteen feminine nouns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ven with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η</a:t>
            </a:r>
            <a:r>
              <a:rPr b="0" lang="el-GR" sz="28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ings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χη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4643280" y="53103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nd,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4643280" y="59245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l,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:Vocabulary 2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1771560" y="1533600"/>
            <a:ext cx="400068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ἁμαρτια (17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βασιλεια (16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 ἐκκλησια (11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ἡμερα (38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ρδια (1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αρια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ὀικια (9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ὡρα (10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4629240" y="169056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4629240" y="2305080"/>
            <a:ext cx="35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ign, kingship, king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629240" y="2919240"/>
            <a:ext cx="38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mbly (later ‘church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4643280" y="35337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4643280" y="41623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142920" y="113184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ight with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</a:t>
            </a:r>
            <a:r>
              <a:rPr b="0" lang="el-GR" sz="28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ings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μερα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4643280" y="47721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4643280" y="538632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se, house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4643280" y="60246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r, occa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:Vocabulary 3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1071720" y="164304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, with the mixed e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1785960" y="2500200"/>
            <a:ext cx="300024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οξα (16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αλασσα (9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4786200" y="26528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lendour, gl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786200" y="32860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a, l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:Vocabulary 4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1771560" y="2517840"/>
            <a:ext cx="400068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ιβλιον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αιμονιον (6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 ἐργον (16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ὐαγγελιον (7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ἱερον (7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4629240" y="267480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ok, scr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4629240" y="3289320"/>
            <a:ext cx="35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4629240" y="3903840"/>
            <a:ext cx="38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, d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4643280" y="451800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od news, gos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4643280" y="51465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1"/>
          <p:cNvSpPr/>
          <p:nvPr/>
        </p:nvSpPr>
        <p:spPr>
          <a:xfrm>
            <a:off x="142920" y="161604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n neuter nouns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ργον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:Vocabulary 5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1771560" y="2143080"/>
            <a:ext cx="400068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λοιον (6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οσωπον (7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αββατον (6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ημειον (7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εκνον (9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4629240" y="230040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4629240" y="2914560"/>
            <a:ext cx="35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4629240" y="3529080"/>
            <a:ext cx="38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bb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4643280" y="414324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gn, mi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4643280" y="47721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:Vocabulary 6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914400" y="1357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very important wo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1714680" y="1920960"/>
            <a:ext cx="3857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αὐτος αὐτη αὐτο (559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572080" y="19288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, she, it, 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928800" y="26431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three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1743120" y="3228840"/>
            <a:ext cx="385776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Ἰησους (9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υλος (15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ετρος (1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1785960" y="5554800"/>
            <a:ext cx="38577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ιστευω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 (2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928800" y="521496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more ver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2"/>
          <p:cNvSpPr/>
          <p:nvPr/>
        </p:nvSpPr>
        <p:spPr>
          <a:xfrm>
            <a:off x="5572080" y="34099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3"/>
          <p:cNvSpPr/>
          <p:nvPr/>
        </p:nvSpPr>
        <p:spPr>
          <a:xfrm>
            <a:off x="5600880" y="40291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4"/>
          <p:cNvSpPr/>
          <p:nvPr/>
        </p:nvSpPr>
        <p:spPr>
          <a:xfrm>
            <a:off x="5614920" y="46101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5"/>
          <p:cNvSpPr/>
          <p:nvPr/>
        </p:nvSpPr>
        <p:spPr>
          <a:xfrm>
            <a:off x="5643720" y="5715000"/>
            <a:ext cx="36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elieve (in), trust, have faith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7:51:14Z</dcterms:created>
  <dc:creator>Sarah</dc:creator>
  <dc:description/>
  <dc:language>en-US</dc:language>
  <cp:lastModifiedBy>Sarah</cp:lastModifiedBy>
  <dcterms:modified xsi:type="dcterms:W3CDTF">2009-06-19T20:46:25Z</dcterms:modified>
  <cp:revision>14</cp:revision>
  <dc:subject/>
  <dc:title>Slide 1</dc:title>
</cp:coreProperties>
</file>