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454-3F26-4405-BDBE-0134CEBF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497-8138-48C8-BE93-5FA36AD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A18-EA65-4E8E-ADE1-9674A095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44B-9E67-4914-BEA6-EAFE68B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C54-22CC-406C-83F8-B974087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89C-4CDF-444E-8C29-8F5A4136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DAB-AD47-4F72-B32E-F7676CB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F98-1D1E-497E-B74D-7E0D0DA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F3E-1C2C-4978-ACFF-3F88AB6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5AF-AF1C-4627-A5FC-3F56F05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C2F-53AD-495C-87C5-82DE94F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6E2-0B1D-47BB-B75D-5B81806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E3D-DF95-472B-BA61-916EC60ED6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θνῃσκω (1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ομαι (6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ιν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θιω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ὑρισκω (1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λειπ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,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43680" y="3243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come,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, stan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ve (beh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260360"/>
            <a:ext cx="4643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νθαν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ραω (4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χ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νω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πτω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ρω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φερ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υγ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889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all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5036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,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5146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ring to,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λ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γελ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ρω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τειν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ελλω (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ειρω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νω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ort, ann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3243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(away), lif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aise up, 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judge, 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357200" y="1260360"/>
            <a:ext cx="4643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ω (1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ειρ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ιρ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143680" y="50036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143680" y="56008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00040" y="4110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with unusu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357200" y="48164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αβαινω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βαινω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357200" y="1741320"/>
            <a:ext cx="4643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ωσκω (2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ινωσκω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γινωσκω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143680" y="1913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3680" y="2523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143680" y="3127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4782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! Beh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0040" y="4125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357200" y="4626000"/>
            <a:ext cx="2714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ου (2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3:36:26Z</dcterms:created>
  <dc:creator>Sarah</dc:creator>
  <dc:description/>
  <dc:language>en-US</dc:language>
  <cp:lastModifiedBy>Sarah</cp:lastModifiedBy>
  <dcterms:modified xsi:type="dcterms:W3CDTF">2009-06-24T15:52:44Z</dcterms:modified>
  <cp:revision>14</cp:revision>
  <dc:subject/>
  <dc:title>Slide 1</dc:title>
</cp:coreProperties>
</file>