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F441-BE64-468B-B3FA-190559321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56CC-502A-40A6-8BAD-C8013F2F1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C3D4-F601-49FA-8A31-5B295B71F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8F41-2697-4C2A-B9C5-34F4BCAB4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9A0F-9178-4990-8911-3E94B3306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5F1C-6266-4B02-95E5-2FA32B286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996F-A1B3-44F9-90BE-0E04718E8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9669-6A66-44EC-B3FC-5947F18A4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8E30-15C2-459E-B239-D32F6C720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319C-4397-4BE3-9C85-851C345C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1E5D-0696-49DA-9B66-C768B9F19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DE87-4A1E-4074-807D-713281C6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91B30-8A0E-4CE2-AC56-DB44E7CFC83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c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-12600"/>
            <a:ext cx="9144000" cy="107136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571680" y="239760"/>
            <a:ext cx="73324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OCABULARY FOR MODULE THIRTE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3:Vocabulary 1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357120" y="1285920"/>
            <a:ext cx="728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eclension neuter noun with genitives in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–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ους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declining like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θνος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1671480" y="2346480"/>
            <a:ext cx="400068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θνος (16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λεος (2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τος (4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ελος (3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μερος (4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ὀρος (6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4786200" y="250020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tion (pl. Gentile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4786200" y="31291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r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4786200" y="373860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4786200" y="435780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mber, part, lim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0"/>
          <p:cNvSpPr/>
          <p:nvPr/>
        </p:nvSpPr>
        <p:spPr>
          <a:xfrm>
            <a:off x="4786200" y="4957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t, sh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1"/>
          <p:cNvSpPr/>
          <p:nvPr/>
        </p:nvSpPr>
        <p:spPr>
          <a:xfrm>
            <a:off x="4786200" y="558648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untain, h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3:Vocabulary 2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1671480" y="1233360"/>
            <a:ext cx="4000680" cy="31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ληθος (3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σκευος (2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σκοτος (3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τελος (4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4786200" y="138744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ultitude, large am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4786200" y="201600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ct (pl. property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5"/>
          <p:cNvSpPr/>
          <p:nvPr/>
        </p:nvSpPr>
        <p:spPr>
          <a:xfrm>
            <a:off x="4786200" y="262584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rk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9"/>
          <p:cNvSpPr/>
          <p:nvPr/>
        </p:nvSpPr>
        <p:spPr>
          <a:xfrm>
            <a:off x="4786200" y="324468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d, g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0"/>
          <p:cNvSpPr/>
          <p:nvPr/>
        </p:nvSpPr>
        <p:spPr>
          <a:xfrm>
            <a:off x="500040" y="3862440"/>
            <a:ext cx="82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eclension masculine nouns with genitives in –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εως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like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βασιλευς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3"/>
          <p:cNvSpPr/>
          <p:nvPr/>
        </p:nvSpPr>
        <p:spPr>
          <a:xfrm>
            <a:off x="1671480" y="4805280"/>
            <a:ext cx="250056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ρχιερευς (12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βασιλευς (11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4"/>
          <p:cNvSpPr/>
          <p:nvPr/>
        </p:nvSpPr>
        <p:spPr>
          <a:xfrm>
            <a:off x="4786200" y="498168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gh priest, chief pri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5"/>
          <p:cNvSpPr/>
          <p:nvPr/>
        </p:nvSpPr>
        <p:spPr>
          <a:xfrm>
            <a:off x="4786200" y="558180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1"/>
          <p:cNvSpPr/>
          <p:nvPr/>
        </p:nvSpPr>
        <p:spPr>
          <a:xfrm>
            <a:off x="1214280" y="1214280"/>
            <a:ext cx="295776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γραμματευς (63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ἱερευς (3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4786200" y="13921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ribe, cler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4786200" y="199224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i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3:Vocabulary 3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642960" y="2786040"/>
            <a:ext cx="828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eclension feminine nouns with genitives in –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εως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ke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ολις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6"/>
          <p:cNvSpPr/>
          <p:nvPr/>
        </p:nvSpPr>
        <p:spPr>
          <a:xfrm>
            <a:off x="1200240" y="3714840"/>
            <a:ext cx="321444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ναστασις  (4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γνωσις (2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δυναμις (11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θλιψις (45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"/>
          <p:cNvSpPr/>
          <p:nvPr/>
        </p:nvSpPr>
        <p:spPr>
          <a:xfrm>
            <a:off x="4829040" y="3871800"/>
            <a:ext cx="32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ur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8"/>
          <p:cNvSpPr/>
          <p:nvPr/>
        </p:nvSpPr>
        <p:spPr>
          <a:xfrm>
            <a:off x="4829040" y="4500720"/>
            <a:ext cx="32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9"/>
          <p:cNvSpPr/>
          <p:nvPr/>
        </p:nvSpPr>
        <p:spPr>
          <a:xfrm>
            <a:off x="4829040" y="5100480"/>
            <a:ext cx="32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wer, mira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0"/>
          <p:cNvSpPr/>
          <p:nvPr/>
        </p:nvSpPr>
        <p:spPr>
          <a:xfrm>
            <a:off x="4829040" y="5715000"/>
            <a:ext cx="32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ffering, op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3:Vocabulary 4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1300320" y="1143000"/>
            <a:ext cx="3214440" cy="31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ρισις (4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αρακλησις (2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ιστις (24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ολις (16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συνειδησις (30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"/>
          <p:cNvSpPr/>
          <p:nvPr/>
        </p:nvSpPr>
        <p:spPr>
          <a:xfrm>
            <a:off x="4929120" y="13003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ud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4929120" y="192888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cour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4929120" y="253836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4929120" y="313848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ity, t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7"/>
          <p:cNvSpPr/>
          <p:nvPr/>
        </p:nvSpPr>
        <p:spPr>
          <a:xfrm>
            <a:off x="4929120" y="375300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8"/>
          <p:cNvSpPr/>
          <p:nvPr/>
        </p:nvSpPr>
        <p:spPr>
          <a:xfrm>
            <a:off x="442800" y="4433760"/>
            <a:ext cx="8501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eclension adjectives with genitives in –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ους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ke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ληθης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9"/>
          <p:cNvSpPr/>
          <p:nvPr/>
        </p:nvSpPr>
        <p:spPr>
          <a:xfrm>
            <a:off x="1285920" y="5043600"/>
            <a:ext cx="2500200" cy="19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ληθης (2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σθενης (2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0"/>
          <p:cNvSpPr/>
          <p:nvPr/>
        </p:nvSpPr>
        <p:spPr>
          <a:xfrm>
            <a:off x="4929120" y="519588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ue, truthful, genu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4929120" y="582444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ak, si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3:Vocabulary 5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"/>
          <p:cNvSpPr/>
          <p:nvPr/>
        </p:nvSpPr>
        <p:spPr>
          <a:xfrm>
            <a:off x="1285920" y="2071800"/>
            <a:ext cx="2500200" cy="37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ας (124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ἁπας (3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εἱς μια ἑν (34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οὐδεις (23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ηδεις (9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3"/>
          <p:cNvSpPr/>
          <p:nvPr/>
        </p:nvSpPr>
        <p:spPr>
          <a:xfrm>
            <a:off x="4929120" y="222408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, every, wh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4"/>
          <p:cNvSpPr/>
          <p:nvPr/>
        </p:nvSpPr>
        <p:spPr>
          <a:xfrm>
            <a:off x="4929120" y="285264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, e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4929120" y="345276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, a si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6"/>
          <p:cNvSpPr/>
          <p:nvPr/>
        </p:nvSpPr>
        <p:spPr>
          <a:xfrm>
            <a:off x="4929120" y="40957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 one, no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7"/>
          <p:cNvSpPr/>
          <p:nvPr/>
        </p:nvSpPr>
        <p:spPr>
          <a:xfrm>
            <a:off x="4929120" y="47005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 one, no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3:Vocabulary 6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"/>
          <p:cNvSpPr/>
          <p:nvPr/>
        </p:nvSpPr>
        <p:spPr>
          <a:xfrm>
            <a:off x="357120" y="1714680"/>
            <a:ext cx="84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wo 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eclension masculine words with irregular e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1071720" y="2752560"/>
            <a:ext cx="3500280" cy="19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Μωϋσης (8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νους (2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4143240" y="29145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ses, (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ωϋσης, Μωϋσην, Μωϋσεως, Μωϋσει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ωϋσῃ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4143240" y="4133880"/>
            <a:ext cx="4572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nd (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νους, νουν, νοος, νοι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21:13:13Z</dcterms:created>
  <dc:creator>Sarah</dc:creator>
  <dc:description/>
  <dc:language>en-US</dc:language>
  <cp:lastModifiedBy>Sarah</cp:lastModifiedBy>
  <dcterms:modified xsi:type="dcterms:W3CDTF">2009-06-24T16:03:02Z</dcterms:modified>
  <cp:revision>21</cp:revision>
  <dc:subject/>
  <dc:title>Slide 1</dc:title>
</cp:coreProperties>
</file>