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28C-3C44-45C3-AAB4-934CF442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0E3-FEC5-419A-B505-8A5F9B6D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75F-C9E1-40F1-B4D0-C29794DE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DB4-9292-482B-A9F5-E450027C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DCE-95E3-491F-ADA8-D6F71920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3F45-9477-49BF-BDEE-637E5CF5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553-0AA4-4ACE-B29E-7A48B1B3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FF18-3A0F-49FA-AD5F-48528979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805-6618-4B24-B26C-2E6A4FA4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87A-980F-4656-A2DC-61209F4F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C1B-2181-4384-91D6-937C72DB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3BF-328C-45EA-9CBC-ED930CD2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1D4C-2638-4F6F-9A21-2EEE99E34A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12248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ost of important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428840" y="1571760"/>
            <a:ext cx="46432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ηθεια (10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ληθινος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γγυ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ει (10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ειθεν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θυς (5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ως (37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ως (1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929120" y="1712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929120" y="23367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, genuine,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929120" y="29559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929120" y="357012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(in that pl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929120" y="41940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929120" y="48276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4929120" y="60580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4929120" y="54291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priately,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214280" y="1428840"/>
            <a:ext cx="464364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α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μοιος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μοιως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που (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ς ἥ ὅ (139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τι (129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714920" y="15652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, of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714920" y="21844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ilar,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714920" y="27986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4714920" y="34225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714920" y="40561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, which, 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4714920" y="467028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, because or “ (marking beginning of spee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4714920" y="5910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214280" y="1285920"/>
            <a:ext cx="464364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δε (1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τε (8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τε ... οὐτ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ὑτως (2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χι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ν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θ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δε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714920" y="14335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714920" y="2052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714920" y="26668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...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714920" y="3290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manner, t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714920" y="3924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,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714920" y="45385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4714920" y="51577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where? or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714920" y="57722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57120" y="150480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prepos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214280" y="2097000"/>
            <a:ext cx="46436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μπροσθεν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48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νεκα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26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ραν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23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ωρις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41)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72040" y="22240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072040" y="2862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the sak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072040" y="34815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other sid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5072040" y="40957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, apart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228680" y="508176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λατος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5072040" y="50958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357120" y="150480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fiv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214280" y="209700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γγιζω +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dat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42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γεομ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2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αυμαζω (4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3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ραπευ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4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3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ευδω (22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072040" y="2224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pproach, come 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072040" y="2862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072040" y="34815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ama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072040" y="40957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72040" y="47149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9:12:00Z</dcterms:created>
  <dc:creator>Sarah</dc:creator>
  <dc:description/>
  <dc:language>en-US</dc:language>
  <cp:lastModifiedBy>Sarah</cp:lastModifiedBy>
  <dcterms:modified xsi:type="dcterms:W3CDTF">2009-06-24T15:45:17Z</dcterms:modified>
  <cp:revision>19</cp:revision>
  <dc:subject/>
  <dc:title>Slide 1</dc:title>
</cp:coreProperties>
</file>