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47B-FAF4-41CA-B8D6-5A37BB53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3C9-EA35-464D-BAD3-AE87C89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D26-7E20-47A2-8BC9-3B8FBAC5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96C-356F-4A0A-9A52-C59707B2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973-F102-41A9-AC9E-3B4413B6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356-52C8-4717-9FCB-1EFC070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B27-0353-4B75-8E4B-452EA94A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CE3-0A01-40AA-A98B-C95F9EFB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472-76D5-41C0-B9EC-682EA39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EEC-5824-4912-83FB-A784978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D6D-C5FA-4459-9077-62E0D87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67A-AA45-4578-9BAB-7E240BE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7A5-D8E8-4420-9244-34DC67A389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467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00120" y="2376360"/>
            <a:ext cx="42148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βολ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π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α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ον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14920" y="23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nderer, the dev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14920" y="29671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14920" y="35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ctuary, shrine,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14920" y="42004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i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14920" y="4809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14920" y="54291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(period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57120" y="146700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verbs that are Passive deponents (at least in some ten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57160" y="2643120"/>
            <a:ext cx="485784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κρινομαι (23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ουλ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ρευομαι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πορευ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εομαι (9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57880" y="2652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357880" y="3233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57880" y="3833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357880" y="44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357880" y="5076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fraid,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57120" y="12524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any more (normal)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57160" y="19670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αζ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εω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ταζ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μ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ριζ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χ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57880" y="1976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57880" y="2557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57880" y="3157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357880" y="3790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357880" y="4400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357880" y="5005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357880" y="5610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u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857160" y="16826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δυ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στρεφω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κ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σχ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λαι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ωλυ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(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come,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857160" y="1500120"/>
            <a:ext cx="4857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π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μνυ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σσευ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στρεφ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ιν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ρον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ieve,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wear, take an o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back,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hine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7:10Z</dcterms:created>
  <dc:creator>Sarah</dc:creator>
  <dc:description/>
  <dc:language>en-US</dc:language>
  <cp:lastModifiedBy>Sarah</cp:lastModifiedBy>
  <dcterms:modified xsi:type="dcterms:W3CDTF">2009-06-24T16:15:11Z</dcterms:modified>
  <cp:revision>9</cp:revision>
  <dc:subject/>
  <dc:title>Slide 1</dc:title>
</cp:coreProperties>
</file>