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4AE6-4F9F-4010-B9A3-0BD095B6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EBEE-9FE7-4CEA-AD96-58CF770C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D9EB-37FC-41B1-8375-24E769D68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4EA7-157D-4927-BC7F-ABFE0911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B3F8-6BC2-4EC5-8787-6D3F8476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A6DB-FC00-40FD-9BC6-BBCFE65C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6D0C-6B36-438A-9D2F-0BDF20A8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DF5B-8225-40D4-834C-8091E5A0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B4CE-1DA1-44C9-9F57-842504A6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D3DB-FD8A-45E5-B70F-16D955E7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3F87-B6C6-41C3-9757-FC4D644D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6493-1955-40B9-A935-4C8E5492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52C1-DED6-4F6A-9D6A-502C78E533D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20760" y="239760"/>
            <a:ext cx="6683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SEV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:Vocabulary 1/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3"/>
          <p:cNvSpPr/>
          <p:nvPr/>
        </p:nvSpPr>
        <p:spPr>
          <a:xfrm>
            <a:off x="285840" y="12524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teen more important no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4"/>
          <p:cNvSpPr/>
          <p:nvPr/>
        </p:nvSpPr>
        <p:spPr>
          <a:xfrm>
            <a:off x="285840" y="182880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femin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1500120" y="2357280"/>
            <a:ext cx="385776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ικαιοσυνη (9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ντολη (6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ξουσια (10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ραβολη (5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ρησια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χαρ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(5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6"/>
          <p:cNvSpPr/>
          <p:nvPr/>
        </p:nvSpPr>
        <p:spPr>
          <a:xfrm>
            <a:off x="5143680" y="250020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ghteous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7"/>
          <p:cNvSpPr/>
          <p:nvPr/>
        </p:nvSpPr>
        <p:spPr>
          <a:xfrm>
            <a:off x="5143680" y="31384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a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8"/>
          <p:cNvSpPr/>
          <p:nvPr/>
        </p:nvSpPr>
        <p:spPr>
          <a:xfrm>
            <a:off x="5143680" y="37576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9"/>
          <p:cNvSpPr/>
          <p:nvPr/>
        </p:nvSpPr>
        <p:spPr>
          <a:xfrm>
            <a:off x="5143680" y="43718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0"/>
          <p:cNvSpPr/>
          <p:nvPr/>
        </p:nvSpPr>
        <p:spPr>
          <a:xfrm>
            <a:off x="5143680" y="498168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spokenness, bol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1"/>
          <p:cNvSpPr/>
          <p:nvPr/>
        </p:nvSpPr>
        <p:spPr>
          <a:xfrm>
            <a:off x="5143680" y="55864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:Vocabulary 2/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285840" y="17114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mascul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1500120" y="2239920"/>
            <a:ext cx="385776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ποστολος (8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ανατος (12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ὀφθαλμος (10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αρισαιος (9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143680" y="23828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os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143680" y="30211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143680" y="363996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5143680" y="42544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ari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:Vocabulary 3/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285840" y="17114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some neu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1500120" y="2239920"/>
            <a:ext cx="385776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ηριον (4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ἱματιον (6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νημειον (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οβατον (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5143680" y="23828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imal, be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5143680" y="30211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r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143680" y="363996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mb, mon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5143680" y="42544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285840" y="171144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 negatives, used in the ‘other moods’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1500120" y="2239920"/>
            <a:ext cx="385776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η (10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ηδε (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ηκετι (2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ητε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5143680" y="23828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5143680" y="30211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not, but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5143680" y="363996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lo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5143680" y="42544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not, 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:Vocabulary 5/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285840" y="138600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even more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1500120" y="1914480"/>
            <a:ext cx="385776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κολουθεω (9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αγω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εω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οκεω (6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λεεω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ελω (20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5143680" y="20858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fo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5143680" y="26971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ead up, res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5143680" y="331488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ind, ti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5143680" y="39290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hink, se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5143680" y="453852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ave mercy on, p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5143680" y="51577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ish,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:Vocabulary 6/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1500120" y="1954080"/>
            <a:ext cx="385776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εωρεω (5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ταργεω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αρτυρεω (7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ελλω (10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ετανοεω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5143680" y="209700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ook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5143680" y="2736720"/>
            <a:ext cx="40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make ineffective, abo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5143680" y="335448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ear witness, tes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5143680" y="3968640"/>
            <a:ext cx="35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intend, am about (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5143680" y="459252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pent, change my m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:Vocabulary 7/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714240" y="157176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 two verbs which only occur in th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ular (called ‘impersonal verbs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1500120" y="2571840"/>
            <a:ext cx="271476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ει (10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ξεστι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5072040" y="271476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5072040" y="335268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er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743040" y="4183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more prepos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1486080" y="4768920"/>
            <a:ext cx="27144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ὀπισω (35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5086440" y="492120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21:47:05Z</dcterms:created>
  <dc:creator>Sarah</dc:creator>
  <dc:description/>
  <dc:language>en-US</dc:language>
  <cp:lastModifiedBy>Sarah</cp:lastModifiedBy>
  <dcterms:modified xsi:type="dcterms:W3CDTF">2009-06-23T10:22:18Z</dcterms:modified>
  <cp:revision>14</cp:revision>
  <dc:subject/>
  <dc:title>Slide 1</dc:title>
</cp:coreProperties>
</file>