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DB8-DE69-476F-8579-317D86FD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CE0-931C-42A0-80E9-0BA37D2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6FC-A5A4-4E6A-B5CA-BB2A7D88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2AC-78B7-4385-AACE-F450D47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AEB-CD08-4C66-866A-5D4E8CA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C29-5943-41E2-9BD3-F3A7C9D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0D5-11B0-484C-B80B-14ADCA6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E21-AC94-4908-BF38-0930B682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473-5438-45C8-8133-7E52C19F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971-ED23-4F3B-AA2E-35AA4EF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8FF-E4E3-44BE-914E-817CB1D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797-2234-499A-BFEE-51E62D8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F0C-2C63-4DE3-BC00-D366568C25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21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common prepositions – remember they have different meanings with differ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97496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 (6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 (6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ς (17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 (9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 (2752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ωπιον (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357880" y="2114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way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357880" y="2757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357880" y="3357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357880" y="39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357880" y="4595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ut of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5357880" y="52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357880" y="585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, in the pres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43208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ω (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 (8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ως (1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 (47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 the tim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, on the basi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357880" y="4672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57160" y="1432080"/>
            <a:ext cx="42865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 (46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 (1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 (3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 (4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e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57880" y="46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ound,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ing,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57880" y="5915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857160" y="168912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ς (7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 (12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ερ (1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 (22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357880" y="1828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357880" y="24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gethe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57880" y="3071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3700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4309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57880" y="4929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, at the hand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680" y="12524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leven compou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857240"/>
            <a:ext cx="42861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λεπω (2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υω (6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βαλλω (81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καλεω (3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οικεω (4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καλεω (10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αμβανω (4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29040" y="1996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up, receive 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29040" y="2639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t free, divorc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29040" y="3240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ve out, cast out, throw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29040" y="3868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 upon,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929040" y="4479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well, inhabi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943440" y="507204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hort, request, comfort, en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929040" y="572940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0080" y="1071720"/>
            <a:ext cx="4286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ιπατεω (9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κυνεω (6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 (5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αγω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43280" y="12114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 abou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3280" y="18543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643280" y="2454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ather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43280" y="3083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42960" y="37861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two question words and the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000080" y="4467240"/>
            <a:ext cx="4286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(10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υ (4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, οὐκ, οὐχ (160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786200" y="46101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00600" y="52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4843440" y="5886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0:28:29Z</dcterms:created>
  <dc:creator>Sarah</dc:creator>
  <dc:description/>
  <dc:language>en-US</dc:language>
  <cp:lastModifiedBy>Sarah</cp:lastModifiedBy>
  <dcterms:modified xsi:type="dcterms:W3CDTF">2009-06-19T20:54:16Z</dcterms:modified>
  <cp:revision>26</cp:revision>
  <dc:subject/>
  <dc:title>Slide 1</dc:title>
</cp:coreProperties>
</file>