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A70-3BFB-4618-9231-45C4359D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694-183A-458D-9621-68F7D09D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B25-D113-4665-AE42-2A2C8B09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A9B-9E17-4B62-86DF-2240A81E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47C-4875-406F-987F-407A989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6AF-1CBF-41BA-B9E9-E649EDB6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A33-1F42-4A9B-8EF3-6862BB4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B50-E4D9-40F8-BBAB-992B62F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C59-2BC0-44DF-9E47-20A50CF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B47-C281-4BD0-819F-D726D0B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986-9654-418A-AA41-B5391A85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173-214B-49DC-AC6F-EF985F3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562-49C5-4561-9D5F-8281B2B5C0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8760" y="1467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(feminine)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686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ν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χη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ορτ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ολη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324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e,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95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,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5719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(act and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181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786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 (correspo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57840" y="54100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ing, sacri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4280" y="16430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ωμη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χαιρα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φελ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ουσ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τομ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νε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1798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857840" y="2432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857840" y="30463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57840" y="3656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857840" y="4260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857840" y="48848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ual im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428840" y="1214280"/>
            <a:ext cx="40719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μονη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η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ηρα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72040" y="137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072040" y="2003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072040" y="2617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e,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72040" y="322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72040" y="3832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(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552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457280" y="4991040"/>
            <a:ext cx="4286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ρεις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ρι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072040" y="5153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143000" y="1500120"/>
            <a:ext cx="4429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σσαρε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εσσαρ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ντε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ξ (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πτα (8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κτω (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νεα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1671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2909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35244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41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4757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5367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214280" y="1143000"/>
            <a:ext cx="4429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κ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ωδεκα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τον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ιλια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ωτ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υτερ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ριτος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86240" y="1343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86240" y="1928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86240" y="25430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und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286240" y="3147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286240" y="3776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86240" y="4386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86240" y="5010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7120" y="5715000"/>
            <a:ext cx="807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, learnt in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71680" y="15717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cla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214280" y="2357280"/>
            <a:ext cx="350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αι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71680" y="3214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wo common words whose stems are irregular in the Perfect 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214280" y="4349880"/>
            <a:ext cx="65008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ωρακα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ηκοα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2367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06:27Z</dcterms:created>
  <dc:creator>Sarah</dc:creator>
  <dc:description/>
  <dc:language>en-US</dc:language>
  <cp:lastModifiedBy>Sarah</cp:lastModifiedBy>
  <dcterms:modified xsi:type="dcterms:W3CDTF">2009-06-24T16:27:25Z</dcterms:modified>
  <cp:revision>21</cp:revision>
  <dc:subject/>
  <dc:title>Slide 1</dc:title>
</cp:coreProperties>
</file>