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F2B-9DF9-47BB-A667-2C23F4C4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FFB-AE56-4F7A-B613-B96D944F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60E-BE86-4C9A-A6F9-598587AA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6BA-EF57-40ED-9C82-692362BD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FB4-323E-444E-86F7-519B83E5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7C4-977D-430D-9D12-A579BE44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814-B4AF-4825-BCA0-C2777C99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F6B-2A17-4CED-AF55-60FE7B11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7A6-6561-4568-BBB0-76AAC68F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A13-7010-40E2-8099-F665D73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486-86E9-4D44-950A-CFF30421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C0F-5335-4E6B-B8C5-523F9903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EC4B-871B-44BC-9A10-CAC5D9FEA49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EVEN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214280" y="1428840"/>
            <a:ext cx="42148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 (1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ι (49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να (66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πως (53)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ταν (123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αν (351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4857840" y="1585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al parti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57840" y="22287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857840" y="2824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857840" y="34383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57840" y="4057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57840" y="4667400"/>
            <a:ext cx="292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native f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857160" y="5429160"/>
            <a:ext cx="70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so can mean ‘if’ – see Chapter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71680" y="15001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or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571760" y="2168640"/>
            <a:ext cx="31431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ρος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εμ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κον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χθρ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λι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ν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000760" y="232884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000760" y="29527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000760" y="35863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000760" y="41860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000760" y="480060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000760" y="54100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71680" y="12859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571760" y="1954080"/>
            <a:ext cx="31431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ιρεω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ηγορε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μολογ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5000760" y="211464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away, 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000760" y="27385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c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00760" y="337176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mise, conf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71680" y="415620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t more feminin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571760" y="4824360"/>
            <a:ext cx="31431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ενεα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λωσσα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5000760" y="49849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ily,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5000760" y="560880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ngue,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928800" y="1208160"/>
            <a:ext cx="4429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φη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θηκη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κονια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αγγελια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θυμια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υρα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ια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τυρια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143240" y="13651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ing, scri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143240" y="199404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nant, last will and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143240" y="26035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ice, min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143240" y="3222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143240" y="38322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143240" y="44514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143240" y="50896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143240" y="57038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imony, w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928800" y="123984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ργ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οφια (5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τηρια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η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υλακη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ρεια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143240" y="141444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r, wr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143240" y="20239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143240" y="26431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143240" y="3252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ce, value, hon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143240" y="38718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(guards),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143240" y="4481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00040" y="518148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that often functions as a no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928800" y="5786280"/>
            <a:ext cx="292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τωχ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4143240" y="58104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5:57:11Z</dcterms:created>
  <dc:creator>Sarah</dc:creator>
  <dc:description/>
  <dc:language>en-US</dc:language>
  <cp:lastModifiedBy>Sarah</cp:lastModifiedBy>
  <dcterms:modified xsi:type="dcterms:W3CDTF">2009-06-24T16:30:20Z</dcterms:modified>
  <cp:revision>18</cp:revision>
  <dc:subject/>
  <dc:title>Slide 1</dc:title>
</cp:coreProperties>
</file>