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4BC-6E61-4AFF-B10F-BFEB13E0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5CB-F60F-4D59-A413-A37B049E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DCD-E8E7-46AF-BE53-A0E86947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EF7-7C66-45B4-A7E7-A30EA9B1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BD3-45C5-4605-8650-67F47ABA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9CD-4093-4D0F-AF6D-F825CD32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56F1-3CF4-4DFF-A518-43250A93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810-1645-4875-B5CE-E36624AF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B72-CF0F-4699-8E02-DDCAAA9C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F00-8865-4116-B311-B4573FE2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A27-F7D5-4BC4-817E-0C854109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1D6-2F57-4A79-85E8-ABFD28CF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DFEA-D469-4C64-B81E-D0746B9F642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54240" y="239760"/>
            <a:ext cx="6286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42920" y="1251000"/>
            <a:ext cx="8929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numbers in brackets after the Greek word are the number of times the word occurs in the New Testame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785960" y="2720880"/>
            <a:ext cx="40003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ω (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κουω (4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λλω (1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λεπω (1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δασκω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643280" y="28782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d, b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643280" y="3492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ear, lis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643280" y="4106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657680" y="47214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,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657680" y="5321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785880" y="22129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ne verbs like 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785960" y="2000160"/>
            <a:ext cx="40003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χω (7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αμβανω (2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εγω (23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υω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643280" y="21574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, 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643280" y="27716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,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643280" y="3386160"/>
            <a:ext cx="235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ay, speak, t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657680" y="40006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1500120" y="2214720"/>
            <a:ext cx="42861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εω (1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εω (1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λεω (29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εω (5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ρεω (7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ε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4643280" y="23716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4643280" y="29862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643280" y="3600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peak,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4657680" y="4214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,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4657680" y="48150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785880" y="15001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ix that are like 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4657680" y="54435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ove,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1785960" y="2000160"/>
            <a:ext cx="40003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γελος (1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δελφος (3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τος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υλος (1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ος (13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οσμος (1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υριος (7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4643280" y="21574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enger, an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643280" y="27716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643280" y="3386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657680" y="40006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4657680" y="46004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,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785880" y="12859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teen nouns declining like 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4657680" y="5229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4643280" y="5872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rd, master, 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1785960" y="1571760"/>
            <a:ext cx="40003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ογος (3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ομος (19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κος (1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ρανος (2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χλος (1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υἱος 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377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ριστος (7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643280" y="1728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,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4643280" y="23432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643280" y="29574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hold,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4657680" y="35719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657680" y="41720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4657680" y="48006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4643280" y="54435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ist, Messi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785960" y="1785960"/>
            <a:ext cx="40003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, ἡ, το (198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4643280" y="19432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4643280" y="37274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being,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4643280" y="4356000"/>
            <a:ext cx="37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(as in ‘a people’ or ‘a nation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571680" y="128592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ost common word in Gr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614520" y="2585880"/>
            <a:ext cx="785808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two more that declin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similar but distinct mean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1886040" y="3571920"/>
            <a:ext cx="278604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θρωπος (5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αος (1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642960" y="5227560"/>
            <a:ext cx="8358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lural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s people or nations; for ‘people’ meaning ‘a number of persons’ Greek would use the plural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θρωπ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4:08Z</dcterms:created>
  <dc:creator>Sarah</dc:creator>
  <dc:description/>
  <dc:language>en-US</dc:language>
  <cp:lastModifiedBy>Sarah</cp:lastModifiedBy>
  <dcterms:modified xsi:type="dcterms:W3CDTF">2009-06-19T20:39:11Z</dcterms:modified>
  <cp:revision>15</cp:revision>
  <dc:subject/>
  <dc:title>Slide 1</dc:title>
</cp:coreProperties>
</file>